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ING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%E6%8F%90%E9%97%AE%E6%97%B6%E5%A5%8F%E5%B9%BB%E6%83%B3%E7%A9%BA%E9%97%B4.WAV" ContentType="audio/x-wav"/>
  <Override PartName="/ppt/media/%E6%84%9F%E5%8F%B9%E6%97%B6%E5%A5%8F%E5%B9%BB%E6%83%B3%E7%A9%BA%E9%97%B4.WAV" ContentType="audio/x-wav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7A8-4CE1-4A02-A3FE-E228EF98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063-0622-4330-A66B-C46D2611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F8F-177A-4207-BD26-1D307CC1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B3D-5610-4515-B0B5-02C298CE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EB3-3052-40EB-9391-ED7A5B37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9CC-C849-45BC-AE8C-24C0929A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9A3-EADF-4841-9104-EF952DFC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691-0D12-4F0E-8862-0B133D19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45E-58D1-4CC2-9F93-33C28922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654-3F28-4352-8F3E-B1F0D889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468-C963-49A5-9EBA-489CE9E4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6CD-6F68-484B-8A1F-F902073C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CC75-9A3D-43CF-8C88-A7B1C3E423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&#25552;&#38382;&#26102;&#22863;&#24187;&#24819;&#31354;&#38388;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&#25552;&#38382;&#26102;&#22863;&#24187;&#24819;&#31354;&#38388;.WAV"/><Relationship Id="rId2" Type="http://schemas.openxmlformats.org/officeDocument/2006/relationships/audio" Target="../media/&#24863;&#21497;&#26102;&#22863;&#24187;&#24819;&#31354;&#38388;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&#25552;&#38382;&#26102;&#22863;&#24187;&#24819;&#31354;&#38388;.WAV"/><Relationship Id="rId2" Type="http://schemas.openxmlformats.org/officeDocument/2006/relationships/audio" Target="../media/&#24863;&#21497;&#26102;&#22863;&#24187;&#24819;&#31354;&#38388;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&#24863;&#21497;&#26102;&#22863;&#24187;&#24819;&#31354;&#38388;.WAV"/><Relationship Id="rId4" Type="http://schemas.openxmlformats.org/officeDocument/2006/relationships/audio" Target="../media/&#24863;&#21497;&#26102;&#22863;&#24187;&#24819;&#31354;&#38388;.WAV"/><Relationship Id="rId5" Type="http://schemas.openxmlformats.org/officeDocument/2006/relationships/audio" Target="../media/&#24863;&#21497;&#26102;&#22863;&#24187;&#24819;&#31354;&#38388;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324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 rot="5607000">
            <a:off x="3725640" y="3893760"/>
            <a:ext cx="1222200" cy="291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361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676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 rot="7608600">
            <a:off x="3534480" y="3729600"/>
            <a:ext cx="1074960" cy="390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399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676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 rot="9301800">
            <a:off x="3346200" y="3585240"/>
            <a:ext cx="1015920" cy="2570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438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6676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 rot="10887600">
            <a:off x="3122280" y="3276720"/>
            <a:ext cx="1241280" cy="3016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478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76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460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2579600">
            <a:off x="3403440" y="2994480"/>
            <a:ext cx="1030320" cy="300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519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6676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39000" y="838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 rot="14489400">
            <a:off x="3602880" y="2735280"/>
            <a:ext cx="1028880" cy="3841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460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561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76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39200" y="5791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86920" y="380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 rot="16407000">
            <a:off x="3884040" y="2744640"/>
            <a:ext cx="1060200" cy="293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439000" y="838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2460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74428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5376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43920" y="5562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308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990720" y="228600"/>
            <a:ext cx="6933960" cy="6400800"/>
            <a:chOff x="990720" y="228600"/>
            <a:chExt cx="6933960" cy="6400800"/>
          </a:xfrm>
        </p:grpSpPr>
        <p:sp>
          <p:nvSpPr>
            <p:cNvPr id="606" name=""/>
            <p:cNvSpPr/>
            <p:nvPr/>
          </p:nvSpPr>
          <p:spPr>
            <a:xfrm>
              <a:off x="1951200" y="1157400"/>
              <a:ext cx="490680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90720" y="22860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9732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537240" y="352764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26200" y="451548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292560" y="5270400"/>
              <a:ext cx="121680" cy="28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83600" y="522288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11520" y="549432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2306880" y="456660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5479920" y="1503000"/>
              <a:ext cx="19836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1220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9240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5520" y="5715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86920" y="380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9000" y="838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52460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 rot="16407000">
            <a:off x="3884040" y="2744640"/>
            <a:ext cx="1060200" cy="293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0" y="0"/>
            <a:ext cx="3052800" cy="3505320"/>
            <a:chOff x="0" y="0"/>
            <a:chExt cx="3052800" cy="3505320"/>
          </a:xfrm>
        </p:grpSpPr>
        <p:pic>
          <p:nvPicPr>
            <p:cNvPr id="6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0528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1828800" y="685800"/>
              <a:ext cx="1066680" cy="83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152280" y="0"/>
              <a:ext cx="1828800" cy="1703880"/>
              <a:chOff x="152280" y="0"/>
              <a:chExt cx="1828800" cy="17038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158760" y="0"/>
                <a:ext cx="1815120" cy="1703880"/>
                <a:chOff x="158760" y="0"/>
                <a:chExt cx="1815120" cy="170388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158760" y="0"/>
                  <a:ext cx="1790640" cy="1695240"/>
                </a:xfrm>
                <a:prstGeom prst="ellipse">
                  <a:avLst/>
                </a:prstGeom>
                <a:solidFill>
                  <a:srgbClr val="f8f8f8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76520" y="9360"/>
                  <a:ext cx="555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90640" y="1305000"/>
                  <a:ext cx="327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665000" y="6490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16000" y="649080"/>
                  <a:ext cx="27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206720" y="85680"/>
                  <a:ext cx="301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92320" y="1000080"/>
                  <a:ext cx="311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22000" y="1228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511280" y="1000080"/>
                  <a:ext cx="35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511280" y="3142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283760" y="1228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45320" y="8568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16000" y="314280"/>
                  <a:ext cx="514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978120" y="782640"/>
                  <a:ext cx="150840" cy="1299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" name=""/>
              <p:cNvSpPr/>
              <p:nvPr/>
            </p:nvSpPr>
            <p:spPr>
              <a:xfrm>
                <a:off x="1752480" y="39384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905120" y="81288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750240" y="12600"/>
                <a:ext cx="697680" cy="1250640"/>
                <a:chOff x="750240" y="12600"/>
                <a:chExt cx="697680" cy="125064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914400" y="241200"/>
                  <a:ext cx="196920" cy="609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 rot="2061600">
                  <a:off x="837360" y="850680"/>
                  <a:ext cx="228600" cy="380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371600" y="88920"/>
                  <a:ext cx="76320" cy="763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990720" y="12600"/>
                  <a:ext cx="75960" cy="763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990720" y="161280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71600" y="153684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752480" y="123192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09480" y="153684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4920" y="123192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52280" y="81288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28600" y="4698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33520" y="8892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3048120" y="0"/>
            <a:ext cx="3124080" cy="3502080"/>
            <a:chOff x="3048120" y="0"/>
            <a:chExt cx="3124080" cy="3502080"/>
          </a:xfrm>
        </p:grpSpPr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3048120" y="0"/>
              <a:ext cx="3124080" cy="350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"/>
            <p:cNvGrpSpPr/>
            <p:nvPr/>
          </p:nvGrpSpPr>
          <p:grpSpPr>
            <a:xfrm>
              <a:off x="3505320" y="0"/>
              <a:ext cx="1828800" cy="1703880"/>
              <a:chOff x="3505320" y="0"/>
              <a:chExt cx="1828800" cy="1703880"/>
            </a:xfrm>
          </p:grpSpPr>
          <p:sp>
            <p:nvSpPr>
              <p:cNvPr id="666" name=""/>
              <p:cNvSpPr/>
              <p:nvPr/>
            </p:nvSpPr>
            <p:spPr>
              <a:xfrm>
                <a:off x="3511440" y="0"/>
                <a:ext cx="1790640" cy="169560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129200" y="936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243320" y="1305000"/>
                <a:ext cx="32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017680" y="649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568680" y="649440"/>
                <a:ext cx="27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559400" y="85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45000" y="1000080"/>
                <a:ext cx="31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74680" y="1228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863960" y="1000080"/>
                <a:ext cx="35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863960" y="3142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36440" y="1228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798000" y="8568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68680" y="314280"/>
                <a:ext cx="51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9578000">
                <a:off x="4267080" y="838080"/>
                <a:ext cx="22860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105520" y="393840"/>
                <a:ext cx="7596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257800" y="81288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267080" y="304920"/>
                <a:ext cx="228600" cy="59688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 flipV="1" rot="3566400">
                <a:off x="4089960" y="786240"/>
                <a:ext cx="187200" cy="442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724280" y="8892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343400" y="126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343400" y="16128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24280" y="153684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105520" y="123192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962520" y="1536840"/>
                <a:ext cx="7596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657600" y="123192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505320" y="812880"/>
                <a:ext cx="7596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81280" y="4698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886200" y="8892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4" name=""/>
          <p:cNvGrpSpPr/>
          <p:nvPr/>
        </p:nvGrpSpPr>
        <p:grpSpPr>
          <a:xfrm>
            <a:off x="6095880" y="0"/>
            <a:ext cx="3048120" cy="3352680"/>
            <a:chOff x="6095880" y="0"/>
            <a:chExt cx="3048120" cy="3352680"/>
          </a:xfrm>
        </p:grpSpPr>
        <p:pic>
          <p:nvPicPr>
            <p:cNvPr id="695" name="" descr=""/>
            <p:cNvPicPr/>
            <p:nvPr/>
          </p:nvPicPr>
          <p:blipFill>
            <a:blip r:embed="rId3"/>
            <a:stretch/>
          </p:blipFill>
          <p:spPr>
            <a:xfrm>
              <a:off x="6095880" y="0"/>
              <a:ext cx="3048120" cy="335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6" name=""/>
            <p:cNvGrpSpPr/>
            <p:nvPr/>
          </p:nvGrpSpPr>
          <p:grpSpPr>
            <a:xfrm>
              <a:off x="6629400" y="75960"/>
              <a:ext cx="1828800" cy="1703880"/>
              <a:chOff x="6629400" y="75960"/>
              <a:chExt cx="1828800" cy="1703880"/>
            </a:xfrm>
          </p:grpSpPr>
          <p:sp>
            <p:nvSpPr>
              <p:cNvPr id="697" name=""/>
              <p:cNvSpPr/>
              <p:nvPr/>
            </p:nvSpPr>
            <p:spPr>
              <a:xfrm>
                <a:off x="6635520" y="75960"/>
                <a:ext cx="1790640" cy="169560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53280" y="8568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367400" y="1380960"/>
                <a:ext cx="32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141760" y="725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92760" y="725400"/>
                <a:ext cx="27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83480" y="1616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769080" y="1076040"/>
                <a:ext cx="31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998760" y="1304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88040" y="1076040"/>
                <a:ext cx="35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88040" y="3902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760520" y="1304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922080" y="16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2760" y="390240"/>
                <a:ext cx="51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91160" y="914400"/>
                <a:ext cx="15264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229600" y="46980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381880" y="88884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21580200">
                <a:off x="7391160" y="380520"/>
                <a:ext cx="150840" cy="6332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 rot="10776600">
                <a:off x="7390440" y="532440"/>
                <a:ext cx="157320" cy="4572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48360" y="16488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67480" y="8892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67480" y="168912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848360" y="16128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229600" y="130788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6600" y="161280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81680" y="130788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629400" y="88884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05360" y="54612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10280" y="16488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2987640" y="2971800"/>
            <a:ext cx="3176640" cy="3886200"/>
            <a:chOff x="2987640" y="2971800"/>
            <a:chExt cx="3176640" cy="3886200"/>
          </a:xfrm>
        </p:grpSpPr>
        <p:pic>
          <p:nvPicPr>
            <p:cNvPr id="726" name="" descr=""/>
            <p:cNvPicPr/>
            <p:nvPr/>
          </p:nvPicPr>
          <p:blipFill>
            <a:blip r:embed="rId4"/>
            <a:stretch/>
          </p:blipFill>
          <p:spPr>
            <a:xfrm>
              <a:off x="2987640" y="3448080"/>
              <a:ext cx="3176640" cy="340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7" name=""/>
            <p:cNvGrpSpPr/>
            <p:nvPr/>
          </p:nvGrpSpPr>
          <p:grpSpPr>
            <a:xfrm>
              <a:off x="3143160" y="2971800"/>
              <a:ext cx="1874880" cy="1765440"/>
              <a:chOff x="3143160" y="2971800"/>
              <a:chExt cx="1874880" cy="1765440"/>
            </a:xfrm>
          </p:grpSpPr>
          <p:sp>
            <p:nvSpPr>
              <p:cNvPr id="728" name=""/>
              <p:cNvSpPr/>
              <p:nvPr/>
            </p:nvSpPr>
            <p:spPr>
              <a:xfrm>
                <a:off x="3143160" y="2971800"/>
                <a:ext cx="1835280" cy="176544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782880" y="2981160"/>
                <a:ext cx="57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900600" y="433080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694400" y="3648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208320" y="3648240"/>
                <a:ext cx="27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224240" y="3060720"/>
                <a:ext cx="3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286080" y="4013280"/>
                <a:ext cx="3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522240" y="4251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37080" y="4013280"/>
                <a:ext cx="361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37080" y="3298680"/>
                <a:ext cx="31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303080" y="4251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443400" y="3060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08320" y="3298680"/>
                <a:ext cx="5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24360" y="3844800"/>
                <a:ext cx="15696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783320" y="3381480"/>
                <a:ext cx="792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940280" y="3817800"/>
                <a:ext cx="7776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1191800">
                <a:off x="3954240" y="3809520"/>
                <a:ext cx="153720" cy="658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 flipV="1" rot="18400800">
                <a:off x="4075920" y="3771000"/>
                <a:ext cx="163440" cy="4683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392720" y="3063960"/>
                <a:ext cx="792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002120" y="2984400"/>
                <a:ext cx="7920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002120" y="4651200"/>
                <a:ext cx="7920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392720" y="4572000"/>
                <a:ext cx="792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783320" y="4254480"/>
                <a:ext cx="7920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611520" y="4572000"/>
                <a:ext cx="7776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298680" y="4254480"/>
                <a:ext cx="7956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143160" y="3817800"/>
                <a:ext cx="7776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220920" y="3460680"/>
                <a:ext cx="77760" cy="79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533760" y="3063960"/>
                <a:ext cx="7776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0" y="3048120"/>
            <a:ext cx="2971800" cy="3809880"/>
            <a:chOff x="0" y="3048120"/>
            <a:chExt cx="2971800" cy="3809880"/>
          </a:xfrm>
        </p:grpSpPr>
        <p:pic>
          <p:nvPicPr>
            <p:cNvPr id="757" name="" descr=""/>
            <p:cNvPicPr/>
            <p:nvPr/>
          </p:nvPicPr>
          <p:blipFill>
            <a:blip r:embed="rId5"/>
            <a:stretch/>
          </p:blipFill>
          <p:spPr>
            <a:xfrm>
              <a:off x="0" y="3505320"/>
              <a:ext cx="2971800" cy="335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8" name=""/>
            <p:cNvGrpSpPr/>
            <p:nvPr/>
          </p:nvGrpSpPr>
          <p:grpSpPr>
            <a:xfrm>
              <a:off x="990720" y="3048120"/>
              <a:ext cx="1933560" cy="1765080"/>
              <a:chOff x="990720" y="3048120"/>
              <a:chExt cx="1933560" cy="1765080"/>
            </a:xfrm>
          </p:grpSpPr>
          <p:sp>
            <p:nvSpPr>
              <p:cNvPr id="759" name=""/>
              <p:cNvSpPr/>
              <p:nvPr/>
            </p:nvSpPr>
            <p:spPr>
              <a:xfrm>
                <a:off x="990720" y="3048120"/>
                <a:ext cx="1893960" cy="176508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50960" y="3057120"/>
                <a:ext cx="58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771560" y="4406760"/>
                <a:ext cx="34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590200" y="3724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057320" y="37242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04920" y="3136680"/>
                <a:ext cx="3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138320" y="408924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381320" y="4327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427480" y="408924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427480" y="3374640"/>
                <a:ext cx="32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187000" y="4327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302480" y="313668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057320" y="3374640"/>
                <a:ext cx="54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820880" y="3885840"/>
                <a:ext cx="1602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682720" y="3457440"/>
                <a:ext cx="8100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843280" y="3893760"/>
                <a:ext cx="810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1020800">
                <a:off x="1820520" y="3885120"/>
                <a:ext cx="158760" cy="6584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 flipV="1" rot="13527600">
                <a:off x="1980720" y="3497040"/>
                <a:ext cx="163440" cy="4824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279520" y="3139920"/>
                <a:ext cx="8100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876320" y="3060360"/>
                <a:ext cx="810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876320" y="4727160"/>
                <a:ext cx="810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279520" y="4647960"/>
                <a:ext cx="8100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682720" y="4330440"/>
                <a:ext cx="810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474920" y="4647960"/>
                <a:ext cx="7920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152720" y="4330440"/>
                <a:ext cx="792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990720" y="3893760"/>
                <a:ext cx="810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071720" y="3536640"/>
                <a:ext cx="8100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393920" y="3139920"/>
                <a:ext cx="8100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7" name=""/>
          <p:cNvGrpSpPr/>
          <p:nvPr/>
        </p:nvGrpSpPr>
        <p:grpSpPr>
          <a:xfrm>
            <a:off x="6172200" y="3284640"/>
            <a:ext cx="2971800" cy="3573000"/>
            <a:chOff x="6172200" y="3284640"/>
            <a:chExt cx="2971800" cy="3573000"/>
          </a:xfrm>
        </p:grpSpPr>
        <p:pic>
          <p:nvPicPr>
            <p:cNvPr id="788" name="" descr=""/>
            <p:cNvPicPr/>
            <p:nvPr/>
          </p:nvPicPr>
          <p:blipFill>
            <a:blip r:embed="rId6"/>
            <a:stretch/>
          </p:blipFill>
          <p:spPr>
            <a:xfrm>
              <a:off x="6172200" y="3363840"/>
              <a:ext cx="2971800" cy="34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"/>
            <p:cNvGrpSpPr/>
            <p:nvPr/>
          </p:nvGrpSpPr>
          <p:grpSpPr>
            <a:xfrm>
              <a:off x="7020000" y="3284640"/>
              <a:ext cx="1828800" cy="1766520"/>
              <a:chOff x="7020000" y="3284640"/>
              <a:chExt cx="1828800" cy="1766520"/>
            </a:xfrm>
          </p:grpSpPr>
          <p:sp>
            <p:nvSpPr>
              <p:cNvPr id="790" name=""/>
              <p:cNvSpPr/>
              <p:nvPr/>
            </p:nvSpPr>
            <p:spPr>
              <a:xfrm>
                <a:off x="7020000" y="3284640"/>
                <a:ext cx="1791000" cy="176652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43880" y="3294360"/>
                <a:ext cx="55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58360" y="4644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532360" y="39610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083720" y="3961080"/>
                <a:ext cx="272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074080" y="33739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159680" y="4326840"/>
                <a:ext cx="31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389360" y="4565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379000" y="4326840"/>
                <a:ext cx="35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379000" y="36118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151480" y="4565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13040" y="3373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083720" y="3611880"/>
                <a:ext cx="51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782120" y="4158000"/>
                <a:ext cx="15228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620200" y="3694680"/>
                <a:ext cx="7632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772840" y="4131360"/>
                <a:ext cx="7596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1580200">
                <a:off x="7782120" y="3601440"/>
                <a:ext cx="150840" cy="6602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flipV="1" rot="5376600">
                <a:off x="7547040" y="3930840"/>
                <a:ext cx="163800" cy="4572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239320" y="3377160"/>
                <a:ext cx="7632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858440" y="3297600"/>
                <a:ext cx="7596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858440" y="4965480"/>
                <a:ext cx="7596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239320" y="4885920"/>
                <a:ext cx="7632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620200" y="4568400"/>
                <a:ext cx="7632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477200" y="4885920"/>
                <a:ext cx="7632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172640" y="4568400"/>
                <a:ext cx="7596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020000" y="4131360"/>
                <a:ext cx="7632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096320" y="3774240"/>
                <a:ext cx="76320" cy="7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401240" y="3377160"/>
                <a:ext cx="75960" cy="7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762120" y="1066680"/>
            <a:ext cx="739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一列客车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分从北京开车 ，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分到达到达石家庄。路上用了多少时间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1284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796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376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588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038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30280" y="4572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90720" y="228600"/>
            <a:ext cx="6933960" cy="6400800"/>
            <a:chOff x="990720" y="228600"/>
            <a:chExt cx="6933960" cy="6400800"/>
          </a:xfrm>
        </p:grpSpPr>
        <p:sp>
          <p:nvSpPr>
            <p:cNvPr id="56" name=""/>
            <p:cNvSpPr/>
            <p:nvPr/>
          </p:nvSpPr>
          <p:spPr>
            <a:xfrm>
              <a:off x="1981080" y="114300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0720" y="22860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9732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53080" y="342432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56440" y="452340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14028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85240" y="5295960"/>
              <a:ext cx="203760" cy="23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5486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246400" y="447120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5479920" y="1503000"/>
              <a:ext cx="19836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1220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9240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 rot="16407000">
            <a:off x="3882600" y="2741040"/>
            <a:ext cx="1143000" cy="3841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428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5376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743920" y="5562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56308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219320" y="533520"/>
            <a:ext cx="6400800" cy="5867280"/>
            <a:chOff x="1219320" y="533520"/>
            <a:chExt cx="6400800" cy="5867280"/>
          </a:xfrm>
        </p:grpSpPr>
        <p:sp>
          <p:nvSpPr>
            <p:cNvPr id="839" name=""/>
            <p:cNvSpPr/>
            <p:nvPr/>
          </p:nvSpPr>
          <p:spPr>
            <a:xfrm>
              <a:off x="1951200" y="1157400"/>
              <a:ext cx="490680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19320" y="533520"/>
              <a:ext cx="6400800" cy="58672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9732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537240" y="352764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226200" y="451548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292560" y="5270400"/>
              <a:ext cx="121680" cy="28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83600" y="522288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11520" y="549432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2306880" y="456660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479920" y="1503000"/>
              <a:ext cx="19836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1220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9240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 rot="2297400">
            <a:off x="4081320" y="3765960"/>
            <a:ext cx="1590840" cy="3049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115520" y="5715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886920" y="380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439000" y="838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2460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 rot="6481800">
            <a:off x="3731040" y="3736080"/>
            <a:ext cx="1060560" cy="29376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74428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5376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743920" y="5562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56308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1219320" y="533520"/>
            <a:ext cx="6400800" cy="5867280"/>
            <a:chOff x="1219320" y="533520"/>
            <a:chExt cx="6400800" cy="5867280"/>
          </a:xfrm>
        </p:grpSpPr>
        <p:sp>
          <p:nvSpPr>
            <p:cNvPr id="881" name=""/>
            <p:cNvSpPr/>
            <p:nvPr/>
          </p:nvSpPr>
          <p:spPr>
            <a:xfrm>
              <a:off x="1951200" y="1157400"/>
              <a:ext cx="490680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219320" y="533520"/>
              <a:ext cx="6400800" cy="58672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29732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537240" y="352764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26200" y="451548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292560" y="5270400"/>
              <a:ext cx="121680" cy="28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83600" y="522288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11520" y="549432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2306880" y="456660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5479920" y="1503000"/>
              <a:ext cx="19836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1220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9240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5520" y="5715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76880" y="4572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219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86920" y="380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439000" y="838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52460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 rot="13380000">
            <a:off x="3503520" y="2972880"/>
            <a:ext cx="1060560" cy="29376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 rot="9054600">
            <a:off x="3048120" y="3504600"/>
            <a:ext cx="1590480" cy="30456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5638680" y="2895480"/>
            <a:ext cx="30492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268360" y="2924280"/>
            <a:ext cx="3352680" cy="152280"/>
            <a:chOff x="2268360" y="2924280"/>
            <a:chExt cx="3352680" cy="152280"/>
          </a:xfrm>
        </p:grpSpPr>
        <p:sp>
          <p:nvSpPr>
            <p:cNvPr id="906" name=""/>
            <p:cNvSpPr/>
            <p:nvPr/>
          </p:nvSpPr>
          <p:spPr>
            <a:xfrm>
              <a:off x="4782960" y="2924280"/>
              <a:ext cx="8380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68360" y="2924280"/>
              <a:ext cx="8380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944880" y="2924280"/>
              <a:ext cx="8380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06440" y="2924280"/>
              <a:ext cx="8384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685800" y="1981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19220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7780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0128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43936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3028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86836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630480" y="1981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621560" y="1981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304920" y="2666880"/>
            <a:ext cx="8839080" cy="228600"/>
            <a:chOff x="304920" y="2666880"/>
            <a:chExt cx="8839080" cy="228600"/>
          </a:xfrm>
        </p:grpSpPr>
        <p:sp>
          <p:nvSpPr>
            <p:cNvPr id="920" name=""/>
            <p:cNvSpPr/>
            <p:nvPr/>
          </p:nvSpPr>
          <p:spPr>
            <a:xfrm>
              <a:off x="114300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8108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1952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5760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9568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3412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7220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01028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84872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4920" y="2895480"/>
              <a:ext cx="8839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686800" y="26668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8459640" y="1981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236680" y="3124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8: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开车时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46560" y="3124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2: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到达时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286000" y="274320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943600" y="274320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5420400">
            <a:off x="3652920" y="-147600"/>
            <a:ext cx="838080" cy="3571920"/>
          </a:xfrm>
          <a:custGeom>
            <a:avLst/>
            <a:gdLst>
              <a:gd name="textAreaLeft" fmla="*/ 535320 w 838080"/>
              <a:gd name="textAreaRight" fmla="*/ 838440 w 838080"/>
              <a:gd name="textAreaTop" fmla="*/ 92880 h 3571920"/>
              <a:gd name="textAreaBottom" fmla="*/ 347904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8380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017160" y="457200"/>
            <a:ext cx="23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533520" y="68580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小华每天早上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时半到校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分放学回家。他上午在校多长时间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300040" y="3581280"/>
            <a:ext cx="29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小时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838080" y="60948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一部电影电影从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放映到（     ）时结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60120" y="2666880"/>
            <a:ext cx="8577360" cy="1053720"/>
            <a:chOff x="60120" y="2666880"/>
            <a:chExt cx="8577360" cy="1053720"/>
          </a:xfrm>
        </p:grpSpPr>
        <p:sp>
          <p:nvSpPr>
            <p:cNvPr id="943" name=""/>
            <p:cNvSpPr/>
            <p:nvPr/>
          </p:nvSpPr>
          <p:spPr>
            <a:xfrm>
              <a:off x="60120" y="2895480"/>
              <a:ext cx="1612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12960" y="2819520"/>
              <a:ext cx="1917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68360" y="2743200"/>
              <a:ext cx="197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小时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54360" y="2666880"/>
              <a:ext cx="228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小时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1812960" y="2819520"/>
            <a:ext cx="191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4%9F%E5%8F%B9%E6%97%B6%E5%A5%8F%E5%B9%BB%E6%83%B3%E7%A9%BA%E9%97%B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501480" y="476280"/>
            <a:ext cx="831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下藤小区新设一个邮筒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需要在邮筒上标出取信时间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已定每天取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次信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假设你是一个邮递员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你要怎样设计取信时间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7093080" y="2924280"/>
            <a:ext cx="1535040" cy="199548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2736720" cy="314640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3708360" y="3429000"/>
            <a:ext cx="2521080" cy="311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信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四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38480" y="13716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320040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5238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3962520"/>
            <a:ext cx="43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0080" y="4522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4480" y="467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411480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6960" y="3151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4680" y="2236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8880" y="4522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1676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1280" y="2389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057040" y="3579120"/>
            <a:ext cx="30492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415560" y="238248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66680" y="228600"/>
            <a:ext cx="6934320" cy="6400800"/>
            <a:chOff x="1066680" y="228600"/>
            <a:chExt cx="6934320" cy="6400800"/>
          </a:xfrm>
        </p:grpSpPr>
        <p:sp>
          <p:nvSpPr>
            <p:cNvPr id="86" name=""/>
            <p:cNvSpPr/>
            <p:nvPr/>
          </p:nvSpPr>
          <p:spPr>
            <a:xfrm>
              <a:off x="2027160" y="115740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66680" y="228600"/>
              <a:ext cx="693432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7364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613560" y="352764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01800" y="4517640"/>
              <a:ext cx="304560" cy="95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6888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95680" y="5486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383200" y="4566600"/>
              <a:ext cx="246960" cy="204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556240" y="1503000"/>
              <a:ext cx="19800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852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6872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267080" y="3124080"/>
            <a:ext cx="45720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18235200">
            <a:off x="4215600" y="2793960"/>
            <a:ext cx="1108080" cy="2430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 rot="16399800">
            <a:off x="3659040" y="2360520"/>
            <a:ext cx="1671480" cy="303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 rot="20773200">
            <a:off x="4495320" y="3200400"/>
            <a:ext cx="1044360" cy="228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 rot="2327400">
            <a:off x="4495320" y="3657600"/>
            <a:ext cx="1046160" cy="255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 rot="7846200">
            <a:off x="3621600" y="3692520"/>
            <a:ext cx="979560" cy="2984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 rot="675600">
            <a:off x="4571640" y="3428640"/>
            <a:ext cx="1044720" cy="22716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 rot="5607000">
            <a:off x="3961440" y="3886200"/>
            <a:ext cx="992160" cy="228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 rot="3606000">
            <a:off x="4281480" y="3871080"/>
            <a:ext cx="952560" cy="2188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 rot="16407000">
            <a:off x="3891960" y="2585160"/>
            <a:ext cx="1135080" cy="2318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 rot="14489400">
            <a:off x="3721320" y="2677680"/>
            <a:ext cx="1066680" cy="2815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 rot="10629600">
            <a:off x="3276000" y="3275280"/>
            <a:ext cx="1065240" cy="2300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 rot="12579600">
            <a:off x="3333240" y="2964960"/>
            <a:ext cx="1067040" cy="2588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 rot="9146400">
            <a:off x="3352680" y="3504600"/>
            <a:ext cx="1224000" cy="2476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796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376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588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4038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0280" y="4572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90720" y="228600"/>
            <a:ext cx="6933960" cy="6400800"/>
            <a:chOff x="990720" y="228600"/>
            <a:chExt cx="6933960" cy="6400800"/>
          </a:xfrm>
        </p:grpSpPr>
        <p:sp>
          <p:nvSpPr>
            <p:cNvPr id="127" name=""/>
            <p:cNvSpPr/>
            <p:nvPr/>
          </p:nvSpPr>
          <p:spPr>
            <a:xfrm>
              <a:off x="1981080" y="114300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0720" y="22860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9732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553080" y="342432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6440" y="452340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14028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5240" y="5295960"/>
              <a:ext cx="203760" cy="23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5486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246400" y="447120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479920" y="1503000"/>
              <a:ext cx="19836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1220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9240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 rot="16407000">
            <a:off x="3882600" y="2741040"/>
            <a:ext cx="1143000" cy="3841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796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376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588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4038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30280" y="4572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90720" y="228600"/>
            <a:ext cx="6933960" cy="6400800"/>
            <a:chOff x="990720" y="228600"/>
            <a:chExt cx="6933960" cy="6400800"/>
          </a:xfrm>
        </p:grpSpPr>
        <p:sp>
          <p:nvSpPr>
            <p:cNvPr id="157" name=""/>
            <p:cNvSpPr/>
            <p:nvPr/>
          </p:nvSpPr>
          <p:spPr>
            <a:xfrm>
              <a:off x="1981080" y="114300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0720" y="22860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7320" y="1157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553080" y="342432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56440" y="452340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14028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85240" y="5295960"/>
              <a:ext cx="203760" cy="23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3400" y="548640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246400" y="447120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479920" y="1503000"/>
              <a:ext cx="19836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12200" y="1535040"/>
              <a:ext cx="12852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92400" y="2409480"/>
              <a:ext cx="263160" cy="18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 rot="18376200">
            <a:off x="4121280" y="2870640"/>
            <a:ext cx="1143000" cy="3841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2720" y="78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189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2212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 rot="19889400">
            <a:off x="4343040" y="3161880"/>
            <a:ext cx="1007640" cy="2984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221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0968800">
            <a:off x="4266720" y="3276360"/>
            <a:ext cx="1198800" cy="3031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254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2058600">
            <a:off x="4196880" y="3666240"/>
            <a:ext cx="1127160" cy="287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962520" y="1447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124080"/>
            <a:ext cx="4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1600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200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78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68160" y="4648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3962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836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6080" y="2286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66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3080" y="82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800" y="16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532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905120" y="3503160"/>
            <a:ext cx="304560" cy="4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63280" y="2306520"/>
            <a:ext cx="198360" cy="11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74880" y="198360"/>
            <a:ext cx="6933960" cy="6400800"/>
            <a:chOff x="974880" y="198360"/>
            <a:chExt cx="6933960" cy="6400800"/>
          </a:xfrm>
        </p:grpSpPr>
        <p:sp>
          <p:nvSpPr>
            <p:cNvPr id="288" name=""/>
            <p:cNvSpPr/>
            <p:nvPr/>
          </p:nvSpPr>
          <p:spPr>
            <a:xfrm>
              <a:off x="1935000" y="1127160"/>
              <a:ext cx="4907160" cy="464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74880" y="198360"/>
              <a:ext cx="6933960" cy="6400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81480" y="112716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521400" y="3497400"/>
              <a:ext cx="3207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0360" y="4485240"/>
              <a:ext cx="303120" cy="9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216600" y="5194080"/>
              <a:ext cx="121680" cy="28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37520" y="5219640"/>
              <a:ext cx="203760" cy="23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19720" y="5410080"/>
              <a:ext cx="0" cy="30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291040" y="4536360"/>
              <a:ext cx="246960" cy="2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464080" y="1472760"/>
              <a:ext cx="198720" cy="23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96360" y="1504800"/>
              <a:ext cx="128520" cy="28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76560" y="2379600"/>
              <a:ext cx="263160" cy="18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267080" y="3352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318200">
            <a:off x="3623760" y="2547720"/>
            <a:ext cx="1590480" cy="30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80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345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30120" y="4419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680" y="3124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87120" y="5486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 rot="3305400">
            <a:off x="4093560" y="3850200"/>
            <a:ext cx="1040040" cy="2588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7:43:54Z</dcterms:created>
  <dc:creator>ww</dc:creator>
  <dc:description/>
  <dc:language>en-US</dc:language>
  <cp:lastModifiedBy>liu</cp:lastModifiedBy>
  <dcterms:modified xsi:type="dcterms:W3CDTF">2002-04-17T13:13:41Z</dcterms:modified>
  <cp:revision>147</cp:revision>
  <dc:subject/>
  <dc:title>PowerPoint 演示文稿</dc:title>
</cp:coreProperties>
</file>