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BCC-8B34-4157-8E5C-3BFA59D4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4BC-E429-4D4D-97F9-438250B2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EF1-27D0-48F8-8C95-E172FB0E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A29-9CAB-4BBF-BF19-93D4B8C8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E86A-90B8-40A9-985E-6B57D721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EF5C-EF34-438D-A48C-D34F7BB6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90D4-381F-4057-BABA-CA89CFD0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D420-7ABA-4AFA-B97B-30049BA5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E5D5-DC2B-454F-BB1B-B318C8C4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18D4-D150-49FE-8846-0EE5E34D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796C-5BC0-4BEA-9918-45CBB093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444-01C9-483D-BAEF-CC89F6B8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1363-398E-4D67-A15F-7670B995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462C-FED9-4809-BE73-E61F5078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2949-6775-4C13-A647-F911EDD1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B1E8-E1CB-4E15-BC7D-CDEBAFA6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4CE8-9DDF-4360-AE56-A92441B1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EC7-B095-4CE3-9C31-E37532A0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ECF-11CF-43F4-9D37-CFA9E543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681-5517-4FEA-9AE6-0B54FA3D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A8A-421D-45C7-B61D-6D364029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A1A-FA87-4415-AEF8-79DADBC9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1E9-D58C-493D-960D-E17CEF4B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3A8-D7A3-4F38-9824-D90DD373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6DFE-2E97-49D9-80F2-8FE30CEC24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6801-A99F-4088-923C-35DF850AE5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8380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间单位进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362320"/>
            <a:ext cx="6324480" cy="1752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月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9:13:06Z</dcterms:created>
  <dc:creator>ww</dc:creator>
  <dc:description/>
  <dc:language>en-US</dc:language>
  <cp:lastModifiedBy>wang</cp:lastModifiedBy>
  <dcterms:modified xsi:type="dcterms:W3CDTF">2004-01-08T04:05:19Z</dcterms:modified>
  <cp:revision>2</cp:revision>
  <dc:subject/>
  <dc:title>PowerPoint 演示文稿</dc:title>
</cp:coreProperties>
</file>