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IN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%E6%8F%90%E9%97%AE%E6%97%B6%E5%A5%8F%E5%B9%BB%E6%83%B3%E7%A9%BA%E9%97%B4.WAV" ContentType="audio/x-wav"/>
  <Override PartName="/ppt/media/%E6%84%9F%E5%8F%B9%E6%97%B6%E5%A5%8F%E5%B9%BB%E6%83%B3%E7%A9%BA%E9%97%B4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D1C-F761-44C2-A2B4-B69265DD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88D-1A61-4795-8A40-830841F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E05-EA27-4808-903C-9A97B45D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34B-AE3E-4A2E-B0F9-A050D42B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133-C20F-4F1E-88BE-F909A17A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D5B-8383-4C74-9CE8-D52EAEC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11E-54E0-43B8-BC26-87C8F71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728-7070-4386-B2FF-541C9FC8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D1F-60EB-4ABE-9957-B8DE252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BBF-1D90-443B-8E45-50FD2AE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985-68F8-4663-8CBA-554DBFE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09B-5D78-4C10-BE5C-AAE1488C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734A-34C8-4C29-99EC-55032AAB8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25552;&#38382;&#26102;&#22863;&#24187;&#24819;&#31354;&#38388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25552;&#38382;&#26102;&#22863;&#24187;&#24819;&#31354;&#38388;.WAV"/><Relationship Id="rId2" Type="http://schemas.openxmlformats.org/officeDocument/2006/relationships/audio" Target="../media/&#24863;&#21497;&#26102;&#22863;&#24187;&#24819;&#31354;&#38388;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&#25552;&#38382;&#26102;&#22863;&#24187;&#24819;&#31354;&#38388;.WAV"/><Relationship Id="rId2" Type="http://schemas.openxmlformats.org/officeDocument/2006/relationships/audio" Target="../media/&#24863;&#21497;&#26102;&#22863;&#24187;&#24819;&#31354;&#38388;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24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 rot="5607000">
            <a:off x="3725640" y="3893760"/>
            <a:ext cx="1222200" cy="29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6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 rot="7608600">
            <a:off x="3534480" y="3729600"/>
            <a:ext cx="1074960" cy="390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9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 rot="9301800">
            <a:off x="3346200" y="3585240"/>
            <a:ext cx="1015920" cy="2570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43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 rot="10887600">
            <a:off x="3122280" y="3276720"/>
            <a:ext cx="1241280" cy="301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47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2579600">
            <a:off x="3403440" y="2994480"/>
            <a:ext cx="1030320" cy="300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51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 rot="14489400">
            <a:off x="3602880" y="2735280"/>
            <a:ext cx="102888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56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 rot="16407000">
            <a:off x="3884040" y="2744640"/>
            <a:ext cx="1060200" cy="293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606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 rot="16407000">
            <a:off x="3884040" y="2744640"/>
            <a:ext cx="1060200" cy="293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3052800" cy="3505320"/>
            <a:chOff x="0" y="0"/>
            <a:chExt cx="3052800" cy="3505320"/>
          </a:xfrm>
        </p:grpSpPr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528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828800" y="685800"/>
              <a:ext cx="10666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52280" y="0"/>
              <a:ext cx="1828800" cy="1703880"/>
              <a:chOff x="152280" y="0"/>
              <a:chExt cx="1828800" cy="17038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158760" y="0"/>
                <a:ext cx="1815120" cy="1703880"/>
                <a:chOff x="158760" y="0"/>
                <a:chExt cx="1815120" cy="17038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58760" y="0"/>
                  <a:ext cx="1790640" cy="1695240"/>
                </a:xfrm>
                <a:prstGeom prst="ellipse">
                  <a:avLst/>
                </a:prstGeom>
                <a:solidFill>
                  <a:srgbClr val="f8f8f8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76520" y="9360"/>
                  <a:ext cx="55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90640" y="1305000"/>
                  <a:ext cx="32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665000" y="649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16000" y="649080"/>
                  <a:ext cx="27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206720" y="85680"/>
                  <a:ext cx="30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92320" y="1000080"/>
                  <a:ext cx="31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22000" y="1228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511280" y="1000080"/>
                  <a:ext cx="35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511280" y="314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283760" y="1228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5320" y="8568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16000" y="314280"/>
                  <a:ext cx="514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978120" y="782640"/>
                  <a:ext cx="150840" cy="1299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1752480" y="393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05120" y="8128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50240" y="12600"/>
                <a:ext cx="697680" cy="1250640"/>
                <a:chOff x="750240" y="12600"/>
                <a:chExt cx="697680" cy="12506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914400" y="241200"/>
                  <a:ext cx="196920" cy="609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2061600">
                  <a:off x="837360" y="850680"/>
                  <a:ext cx="228600" cy="38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71600" y="88920"/>
                  <a:ext cx="7632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990720" y="12600"/>
                  <a:ext cx="7596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990720" y="1612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7160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52480" y="1231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0948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4920" y="1231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2280" y="812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8600" y="469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3520" y="88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3048120" y="0"/>
            <a:ext cx="3124080" cy="3502080"/>
            <a:chOff x="3048120" y="0"/>
            <a:chExt cx="3124080" cy="350208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3048120" y="0"/>
              <a:ext cx="3124080" cy="35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"/>
            <p:cNvGrpSpPr/>
            <p:nvPr/>
          </p:nvGrpSpPr>
          <p:grpSpPr>
            <a:xfrm>
              <a:off x="3505320" y="0"/>
              <a:ext cx="1828800" cy="1703880"/>
              <a:chOff x="3505320" y="0"/>
              <a:chExt cx="1828800" cy="1703880"/>
            </a:xfrm>
          </p:grpSpPr>
          <p:sp>
            <p:nvSpPr>
              <p:cNvPr id="666" name=""/>
              <p:cNvSpPr/>
              <p:nvPr/>
            </p:nvSpPr>
            <p:spPr>
              <a:xfrm>
                <a:off x="3511440" y="0"/>
                <a:ext cx="1790640" cy="1695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29200" y="9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43320" y="1305000"/>
                <a:ext cx="32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7680" y="649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568680" y="649440"/>
                <a:ext cx="2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59400" y="85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45000" y="100008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74680" y="1228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863960" y="1000080"/>
                <a:ext cx="35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863960" y="314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36440" y="1228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798000" y="856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68680" y="314280"/>
                <a:ext cx="51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578000">
                <a:off x="4267080" y="838080"/>
                <a:ext cx="22860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105520" y="39384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57800" y="81288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67080" y="304920"/>
                <a:ext cx="228600" cy="5968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 rot="3566400">
                <a:off x="4089960" y="786240"/>
                <a:ext cx="187200" cy="442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24280" y="88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43400" y="126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343400" y="1612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428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05520" y="1231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962520" y="153684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657600" y="1231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505320" y="81288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81280" y="469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86200" y="88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6095880" y="0"/>
            <a:ext cx="3048120" cy="3352680"/>
            <a:chOff x="6095880" y="0"/>
            <a:chExt cx="3048120" cy="3352680"/>
          </a:xfrm>
        </p:grpSpPr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6095880" y="0"/>
              <a:ext cx="3048120" cy="33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"/>
            <p:cNvGrpSpPr/>
            <p:nvPr/>
          </p:nvGrpSpPr>
          <p:grpSpPr>
            <a:xfrm>
              <a:off x="6629400" y="75960"/>
              <a:ext cx="1828800" cy="1703880"/>
              <a:chOff x="6629400" y="75960"/>
              <a:chExt cx="1828800" cy="1703880"/>
            </a:xfrm>
          </p:grpSpPr>
          <p:sp>
            <p:nvSpPr>
              <p:cNvPr id="697" name=""/>
              <p:cNvSpPr/>
              <p:nvPr/>
            </p:nvSpPr>
            <p:spPr>
              <a:xfrm>
                <a:off x="6635520" y="75960"/>
                <a:ext cx="1790640" cy="1695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3280" y="856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67400" y="1380960"/>
                <a:ext cx="32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41760" y="725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92760" y="725400"/>
                <a:ext cx="2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83480" y="1616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769080" y="107604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98760" y="130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88040" y="1076040"/>
                <a:ext cx="35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88040" y="390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60520" y="130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22080" y="16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2760" y="390240"/>
                <a:ext cx="51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1160" y="914400"/>
                <a:ext cx="15264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229600" y="469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381880" y="88884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1580200">
                <a:off x="7391160" y="380520"/>
                <a:ext cx="150840" cy="633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10776600">
                <a:off x="7390440" y="532440"/>
                <a:ext cx="1573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48360" y="164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67480" y="889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67480" y="16891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48360" y="1612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29600" y="13078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6600" y="1612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81680" y="1307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29400" y="88884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360" y="5461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10280" y="164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2987640" y="2971800"/>
            <a:ext cx="3176640" cy="3886200"/>
            <a:chOff x="2987640" y="2971800"/>
            <a:chExt cx="3176640" cy="3886200"/>
          </a:xfrm>
        </p:grpSpPr>
        <p:pic>
          <p:nvPicPr>
            <p:cNvPr id="726" name="" descr=""/>
            <p:cNvPicPr/>
            <p:nvPr/>
          </p:nvPicPr>
          <p:blipFill>
            <a:blip r:embed="rId4"/>
            <a:stretch/>
          </p:blipFill>
          <p:spPr>
            <a:xfrm>
              <a:off x="2987640" y="3448080"/>
              <a:ext cx="3176640" cy="340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7" name=""/>
            <p:cNvGrpSpPr/>
            <p:nvPr/>
          </p:nvGrpSpPr>
          <p:grpSpPr>
            <a:xfrm>
              <a:off x="3143160" y="2971800"/>
              <a:ext cx="1874880" cy="1765440"/>
              <a:chOff x="3143160" y="2971800"/>
              <a:chExt cx="1874880" cy="1765440"/>
            </a:xfrm>
          </p:grpSpPr>
          <p:sp>
            <p:nvSpPr>
              <p:cNvPr id="728" name=""/>
              <p:cNvSpPr/>
              <p:nvPr/>
            </p:nvSpPr>
            <p:spPr>
              <a:xfrm>
                <a:off x="3143160" y="2971800"/>
                <a:ext cx="1835280" cy="17654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782880" y="2981160"/>
                <a:ext cx="57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00600" y="433080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694400" y="3648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208320" y="3648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24240" y="306072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86080" y="4013280"/>
                <a:ext cx="3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52224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37080" y="4013280"/>
                <a:ext cx="36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37080" y="329868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30308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443400" y="3060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08320" y="3298680"/>
                <a:ext cx="5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24360" y="3844800"/>
                <a:ext cx="1569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783320" y="338148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940280" y="381780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1191800">
                <a:off x="3954240" y="3809520"/>
                <a:ext cx="153720" cy="658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 rot="18400800">
                <a:off x="4075920" y="3771000"/>
                <a:ext cx="163440" cy="4683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392720" y="306396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02120" y="298440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02120" y="465120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92720" y="457200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83320" y="425448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611520" y="4572000"/>
                <a:ext cx="777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298680" y="4254480"/>
                <a:ext cx="795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143160" y="381780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220920" y="346068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33760" y="3063960"/>
                <a:ext cx="777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0" y="3048120"/>
            <a:ext cx="2971800" cy="3809880"/>
            <a:chOff x="0" y="3048120"/>
            <a:chExt cx="2971800" cy="3809880"/>
          </a:xfrm>
        </p:grpSpPr>
        <p:pic>
          <p:nvPicPr>
            <p:cNvPr id="757" name="" descr=""/>
            <p:cNvPicPr/>
            <p:nvPr/>
          </p:nvPicPr>
          <p:blipFill>
            <a:blip r:embed="rId5"/>
            <a:stretch/>
          </p:blipFill>
          <p:spPr>
            <a:xfrm>
              <a:off x="0" y="3505320"/>
              <a:ext cx="2971800" cy="33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8" name=""/>
            <p:cNvGrpSpPr/>
            <p:nvPr/>
          </p:nvGrpSpPr>
          <p:grpSpPr>
            <a:xfrm>
              <a:off x="990720" y="3048120"/>
              <a:ext cx="1933560" cy="1765080"/>
              <a:chOff x="990720" y="3048120"/>
              <a:chExt cx="1933560" cy="1765080"/>
            </a:xfrm>
          </p:grpSpPr>
          <p:sp>
            <p:nvSpPr>
              <p:cNvPr id="759" name=""/>
              <p:cNvSpPr/>
              <p:nvPr/>
            </p:nvSpPr>
            <p:spPr>
              <a:xfrm>
                <a:off x="990720" y="3048120"/>
                <a:ext cx="1893960" cy="176508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50960" y="3057120"/>
                <a:ext cx="58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71560" y="4406760"/>
                <a:ext cx="34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590200" y="372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57320" y="37242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04920" y="3136680"/>
                <a:ext cx="3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38320" y="40892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81320" y="432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427480" y="408924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27480" y="3374640"/>
                <a:ext cx="32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87000" y="432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02480" y="31366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57320" y="3374640"/>
                <a:ext cx="54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820880" y="3885840"/>
                <a:ext cx="160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682720" y="345744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43280" y="38937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1020800">
                <a:off x="1820520" y="3885120"/>
                <a:ext cx="158760" cy="658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 rot="13527600">
                <a:off x="1980720" y="3497040"/>
                <a:ext cx="163440" cy="482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79520" y="313992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876320" y="30603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76320" y="47271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279520" y="464796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82720" y="433044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474920" y="4647960"/>
                <a:ext cx="792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52720" y="433044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90720" y="38937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071720" y="353664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93920" y="313992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" name=""/>
          <p:cNvGrpSpPr/>
          <p:nvPr/>
        </p:nvGrpSpPr>
        <p:grpSpPr>
          <a:xfrm>
            <a:off x="6172200" y="3284640"/>
            <a:ext cx="2971800" cy="3573000"/>
            <a:chOff x="6172200" y="3284640"/>
            <a:chExt cx="2971800" cy="3573000"/>
          </a:xfrm>
        </p:grpSpPr>
        <p:pic>
          <p:nvPicPr>
            <p:cNvPr id="788" name="" descr=""/>
            <p:cNvPicPr/>
            <p:nvPr/>
          </p:nvPicPr>
          <p:blipFill>
            <a:blip r:embed="rId6"/>
            <a:stretch/>
          </p:blipFill>
          <p:spPr>
            <a:xfrm>
              <a:off x="6172200" y="3363840"/>
              <a:ext cx="2971800" cy="34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7020000" y="3284640"/>
              <a:ext cx="1828800" cy="1766520"/>
              <a:chOff x="7020000" y="3284640"/>
              <a:chExt cx="1828800" cy="1766520"/>
            </a:xfrm>
          </p:grpSpPr>
          <p:sp>
            <p:nvSpPr>
              <p:cNvPr id="790" name=""/>
              <p:cNvSpPr/>
              <p:nvPr/>
            </p:nvSpPr>
            <p:spPr>
              <a:xfrm>
                <a:off x="7020000" y="3284640"/>
                <a:ext cx="1791000" cy="176652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43880" y="3294360"/>
                <a:ext cx="55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58360" y="4644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532360" y="3961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83720" y="3961080"/>
                <a:ext cx="27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74080" y="33739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59680" y="4326840"/>
                <a:ext cx="31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89360" y="4565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79000" y="4326840"/>
                <a:ext cx="35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79000" y="36118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151480" y="4565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13040" y="3373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83720" y="3611880"/>
                <a:ext cx="51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782120" y="4158000"/>
                <a:ext cx="15228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20200" y="369468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772840" y="413136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1580200">
                <a:off x="7782120" y="3601440"/>
                <a:ext cx="150840" cy="660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 rot="5376600">
                <a:off x="7547040" y="3930840"/>
                <a:ext cx="1638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239320" y="3377160"/>
                <a:ext cx="7632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858440" y="329760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858440" y="496548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239320" y="488592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620200" y="4568400"/>
                <a:ext cx="7632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77200" y="488592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172640" y="4568400"/>
                <a:ext cx="7596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20000" y="413136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96320" y="377424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401240" y="3377160"/>
                <a:ext cx="7596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62120" y="10666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列客车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从北京开车 ，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到达到达石家庄。路上用了多少时间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128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56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6407000">
            <a:off x="3882600" y="27410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219320" y="533520"/>
            <a:ext cx="6400800" cy="5867280"/>
            <a:chOff x="1219320" y="533520"/>
            <a:chExt cx="6400800" cy="5867280"/>
          </a:xfrm>
        </p:grpSpPr>
        <p:sp>
          <p:nvSpPr>
            <p:cNvPr id="839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19320" y="533520"/>
              <a:ext cx="6400800" cy="5867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 rot="2297400">
            <a:off x="4081320" y="3765960"/>
            <a:ext cx="1590840" cy="3049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 rot="6481800">
            <a:off x="3731040" y="3736080"/>
            <a:ext cx="1060560" cy="2937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219320" y="533520"/>
            <a:ext cx="6400800" cy="5867280"/>
            <a:chOff x="1219320" y="533520"/>
            <a:chExt cx="6400800" cy="5867280"/>
          </a:xfrm>
        </p:grpSpPr>
        <p:sp>
          <p:nvSpPr>
            <p:cNvPr id="881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19320" y="533520"/>
              <a:ext cx="6400800" cy="5867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 rot="13380000">
            <a:off x="3503520" y="2972880"/>
            <a:ext cx="1060560" cy="2937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 rot="9054600">
            <a:off x="3048120" y="3504600"/>
            <a:ext cx="1590480" cy="3045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5638680" y="2895480"/>
            <a:ext cx="30492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268360" y="2924280"/>
            <a:ext cx="3352680" cy="152280"/>
            <a:chOff x="2268360" y="2924280"/>
            <a:chExt cx="3352680" cy="152280"/>
          </a:xfrm>
        </p:grpSpPr>
        <p:sp>
          <p:nvSpPr>
            <p:cNvPr id="906" name=""/>
            <p:cNvSpPr/>
            <p:nvPr/>
          </p:nvSpPr>
          <p:spPr>
            <a:xfrm>
              <a:off x="478296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6836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4488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06440" y="2924280"/>
              <a:ext cx="8384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85800" y="1981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220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780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2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3936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302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6836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304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156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04920" y="2666880"/>
            <a:ext cx="8839080" cy="228600"/>
            <a:chOff x="304920" y="2666880"/>
            <a:chExt cx="8839080" cy="228600"/>
          </a:xfrm>
        </p:grpSpPr>
        <p:sp>
          <p:nvSpPr>
            <p:cNvPr id="920" name=""/>
            <p:cNvSpPr/>
            <p:nvPr/>
          </p:nvSpPr>
          <p:spPr>
            <a:xfrm>
              <a:off x="11430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195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576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956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41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722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102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8487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4920" y="2895480"/>
              <a:ext cx="8839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868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845964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236680" y="3124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8: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开车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46560" y="3124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2: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到达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86000" y="2743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943600" y="2743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5420400">
            <a:off x="3652920" y="-147600"/>
            <a:ext cx="838080" cy="3571920"/>
          </a:xfrm>
          <a:custGeom>
            <a:avLst/>
            <a:gdLst>
              <a:gd name="textAreaLeft" fmla="*/ 535320 w 838080"/>
              <a:gd name="textAreaRight" fmla="*/ 838440 w 838080"/>
              <a:gd name="textAreaTop" fmla="*/ 92880 h 3571920"/>
              <a:gd name="textAreaBottom" fmla="*/ 347904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838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17160" y="45720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533520" y="68580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小华每天早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半到校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放学回家。他上午在校多长时间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00040" y="358128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38080" y="60948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部电影电影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放映到（     ）时结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60120" y="2666880"/>
            <a:ext cx="8577360" cy="1053720"/>
            <a:chOff x="60120" y="2666880"/>
            <a:chExt cx="8577360" cy="1053720"/>
          </a:xfrm>
        </p:grpSpPr>
        <p:sp>
          <p:nvSpPr>
            <p:cNvPr id="943" name=""/>
            <p:cNvSpPr/>
            <p:nvPr/>
          </p:nvSpPr>
          <p:spPr>
            <a:xfrm>
              <a:off x="60120" y="2895480"/>
              <a:ext cx="161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12960" y="2819520"/>
              <a:ext cx="1917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68360" y="2743200"/>
              <a:ext cx="197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小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54360" y="2666880"/>
              <a:ext cx="228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小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1812960" y="2819520"/>
            <a:ext cx="191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501480" y="476280"/>
            <a:ext cx="831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下藤小区新设一个邮筒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需要在邮筒上标出取信时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已定每天取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次信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设你是一个邮递员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要怎样设计取信时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7093080" y="2924280"/>
            <a:ext cx="1535040" cy="199548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736720" cy="314640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708360" y="3429000"/>
            <a:ext cx="2521080" cy="311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信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38480" y="13716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20040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5238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3962520"/>
            <a:ext cx="4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0080" y="452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4480" y="467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41148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6960" y="3151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4680" y="2236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8880" y="452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676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1280" y="2389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057040" y="3579120"/>
            <a:ext cx="30492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415560" y="238248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66680" y="228600"/>
            <a:ext cx="6934320" cy="6400800"/>
            <a:chOff x="1066680" y="228600"/>
            <a:chExt cx="6934320" cy="6400800"/>
          </a:xfrm>
        </p:grpSpPr>
        <p:sp>
          <p:nvSpPr>
            <p:cNvPr id="86" name=""/>
            <p:cNvSpPr/>
            <p:nvPr/>
          </p:nvSpPr>
          <p:spPr>
            <a:xfrm>
              <a:off x="2027160" y="11574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228600"/>
              <a:ext cx="693432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7364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1356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1800" y="4517640"/>
              <a:ext cx="30456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688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383200" y="4566600"/>
              <a:ext cx="246960" cy="20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556240" y="1503000"/>
              <a:ext cx="19800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852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6872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267080" y="3124080"/>
            <a:ext cx="4572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8235200">
            <a:off x="4215600" y="2793960"/>
            <a:ext cx="1108080" cy="2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399800">
            <a:off x="3659040" y="2360520"/>
            <a:ext cx="1671480" cy="303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20773200">
            <a:off x="4495320" y="3200400"/>
            <a:ext cx="1044360" cy="228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2327400">
            <a:off x="4495320" y="3657600"/>
            <a:ext cx="1046160" cy="255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 rot="7846200">
            <a:off x="3621600" y="3692520"/>
            <a:ext cx="979560" cy="2984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675600">
            <a:off x="4571640" y="3428640"/>
            <a:ext cx="1044720" cy="2271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5607000">
            <a:off x="3961440" y="3886200"/>
            <a:ext cx="992160" cy="228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3606000">
            <a:off x="4281480" y="3871080"/>
            <a:ext cx="952560" cy="218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16407000">
            <a:off x="3891960" y="2585160"/>
            <a:ext cx="1135080" cy="231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14489400">
            <a:off x="3721320" y="2677680"/>
            <a:ext cx="1066680" cy="2815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0629600">
            <a:off x="3276000" y="3275280"/>
            <a:ext cx="1065240" cy="2300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 rot="12579600">
            <a:off x="3333240" y="2964960"/>
            <a:ext cx="1067040" cy="258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9146400">
            <a:off x="3352680" y="3504600"/>
            <a:ext cx="1224000" cy="247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127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407000">
            <a:off x="3882600" y="27410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157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18376200">
            <a:off x="4121280" y="28706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2720" y="78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18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2212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 rot="19889400">
            <a:off x="4343040" y="3161880"/>
            <a:ext cx="1007640" cy="2984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2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0968800">
            <a:off x="4266720" y="3276360"/>
            <a:ext cx="1198800" cy="303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54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2058600">
            <a:off x="4196880" y="3666240"/>
            <a:ext cx="1127160" cy="287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8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 rot="3305400">
            <a:off x="4093560" y="3850200"/>
            <a:ext cx="1040040" cy="258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7:43:54Z</dcterms:created>
  <dc:creator>ww</dc:creator>
  <dc:description/>
  <dc:language>en-US</dc:language>
  <cp:lastModifiedBy>liu</cp:lastModifiedBy>
  <dcterms:modified xsi:type="dcterms:W3CDTF">2002-04-17T13:13:41Z</dcterms:modified>
  <cp:revision>147</cp:revision>
  <dc:subject/>
  <dc:title>PowerPoint 演示文稿</dc:title>
</cp:coreProperties>
</file>