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40C-85A8-4094-B765-44F7B6C7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99B-358E-4148-A00F-4BB2C0F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7A5-0B64-48BD-A860-F390A026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AED-A90C-44EB-BEF4-E5F36157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2FA-CF42-4844-8A58-08E7CE4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E98-CED0-4B18-BD4B-77085A1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BB2-2470-434A-B4EA-143A130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F23-AC94-41FE-8C4F-933136E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4D9-A753-4129-9151-C44971F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31F-3294-4E61-B486-0468B19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805-4E21-47CF-B37F-5E014E7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482-7CD6-4EF6-A188-7523864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91D-98B8-460B-ADB3-9582D114A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492610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941640" cy="5715000"/>
          </a:xfrm>
          <a:prstGeom prst="rect">
            <a:avLst/>
          </a:prstGeom>
          <a:ln w="0">
            <a:noFill/>
          </a:ln>
        </p:spPr>
      </p:pic>
    </p:spTree>
  </p:cSld>
  <p:transition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469217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6807240" cy="43545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487429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867640" cy="566244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542498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24240" cy="60771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1542504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10240" cy="5486400"/>
          </a:xfrm>
          <a:prstGeom prst="rect">
            <a:avLst/>
          </a:prstGeom>
          <a:ln w="0">
            <a:noFill/>
          </a:ln>
        </p:spPr>
      </p:pic>
    </p:spTree>
  </p:cSld>
  <p:transition advTm="1000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165_prunkuhr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638680" cy="5411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176_sand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526716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213_boiler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791320" cy="555948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24_campanus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918040" cy="568008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285_SUB" descr=""/>
          <p:cNvPicPr/>
          <p:nvPr/>
        </p:nvPicPr>
        <p:blipFill>
          <a:blip r:embed="rId1"/>
          <a:stretch/>
        </p:blipFill>
        <p:spPr>
          <a:xfrm>
            <a:off x="1473120" y="533520"/>
            <a:ext cx="6222960" cy="597348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303_marine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131_coster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533_egypt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585144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00_harrison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441_ring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324480" cy="607212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1_skeleton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57798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742_franklin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248160" cy="59994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77_blind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172200" cy="59245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72_birdcage" descr=""/>
          <p:cNvPicPr/>
          <p:nvPr/>
        </p:nvPicPr>
        <p:blipFill>
          <a:blip r:embed="rId1"/>
          <a:stretch/>
        </p:blipFill>
        <p:spPr>
          <a:xfrm>
            <a:off x="1371600" y="331920"/>
            <a:ext cx="6400800" cy="614520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525_olympic" descr=""/>
          <p:cNvPicPr/>
          <p:nvPr/>
        </p:nvPicPr>
        <p:blipFill>
          <a:blip r:embed="rId1"/>
          <a:stretch/>
        </p:blipFill>
        <p:spPr>
          <a:xfrm>
            <a:off x="1676520" y="54288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75_dondi" descr=""/>
          <p:cNvPicPr/>
          <p:nvPr/>
        </p:nvPicPr>
        <p:blipFill>
          <a:blip r:embed="rId1"/>
          <a:stretch/>
        </p:blipFill>
        <p:spPr>
          <a:xfrm>
            <a:off x="1752480" y="536400"/>
            <a:ext cx="5791320" cy="55594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368_marine" descr=""/>
          <p:cNvPicPr/>
          <p:nvPr/>
        </p:nvPicPr>
        <p:blipFill>
          <a:blip r:embed="rId1"/>
          <a:stretch/>
        </p:blipFill>
        <p:spPr>
          <a:xfrm>
            <a:off x="1600200" y="466560"/>
            <a:ext cx="5943600" cy="57056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399709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617220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58_elephant" descr=""/>
          <p:cNvPicPr/>
          <p:nvPr/>
        </p:nvPicPr>
        <p:blipFill>
          <a:blip r:embed="rId1"/>
          <a:stretch/>
        </p:blipFill>
        <p:spPr>
          <a:xfrm>
            <a:off x="1600200" y="547560"/>
            <a:ext cx="6095880" cy="585324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399711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635360" cy="55627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400441" descr=""/>
          <p:cNvPicPr/>
          <p:nvPr/>
        </p:nvPicPr>
        <p:blipFill>
          <a:blip r:embed="rId1"/>
          <a:stretch/>
        </p:blipFill>
        <p:spPr>
          <a:xfrm>
            <a:off x="2689200" y="685800"/>
            <a:ext cx="3863880" cy="55627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1438734" descr=""/>
          <p:cNvPicPr/>
          <p:nvPr/>
        </p:nvPicPr>
        <p:blipFill>
          <a:blip r:embed="rId1"/>
          <a:stretch/>
        </p:blipFill>
        <p:spPr>
          <a:xfrm>
            <a:off x="1295280" y="1211400"/>
            <a:ext cx="7010640" cy="443520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1444173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994200" cy="579132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447947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584960" cy="5638680"/>
          </a:xfrm>
          <a:prstGeom prst="rect">
            <a:avLst/>
          </a:prstGeom>
          <a:ln w="0">
            <a:noFill/>
          </a:ln>
        </p:spPr>
      </p:pic>
    </p:spTree>
  </p:cSld>
  <p:transition advTm="1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46073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07988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3-18T02:59:50Z</dcterms:modified>
  <cp:revision>19</cp:revision>
  <dc:subject/>
  <dc:title>PowerPoint Presentation</dc:title>
</cp:coreProperties>
</file>