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78B-6DB0-4811-A9CB-6F1188A2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F6D-B9E5-44FC-9EBC-E563833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A35-4B73-4A3C-80DA-7CE3C4D6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04F-A7D9-4C4B-938B-74E9F949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BC2-2F20-4440-86AD-036B287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13C-93FB-47C7-9F9C-91425FDB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EE1-D596-4FF4-B986-05D2B58A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707-DE21-4D05-84C6-FB873D9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EF8-5943-40E2-A0F0-CD9A6C6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9E3-4C86-4D70-BB23-59DD2D2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63E-E0AA-4717-91BF-ABC4D4C4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02A-EA24-4223-A8AC-45B1BC9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355E-9854-45CE-A542-F785F6F345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362320"/>
            <a:ext cx="4286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新魏"/>
              </a:rPr>
              <a:t>找规律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3276720" y="4876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4876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4876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4864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54864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未命名" descr=""/>
          <p:cNvPicPr/>
          <p:nvPr/>
        </p:nvPicPr>
        <p:blipFill>
          <a:blip r:embed="rId1"/>
          <a:stretch/>
        </p:blipFill>
        <p:spPr>
          <a:xfrm>
            <a:off x="990720" y="5029200"/>
            <a:ext cx="1523880" cy="9144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988920" y="914400"/>
            <a:ext cx="611280" cy="611280"/>
            <a:chOff x="988920" y="914400"/>
            <a:chExt cx="611280" cy="611280"/>
          </a:xfrm>
        </p:grpSpPr>
        <p:sp>
          <p:nvSpPr>
            <p:cNvPr id="49" name=""/>
            <p:cNvSpPr/>
            <p:nvPr/>
          </p:nvSpPr>
          <p:spPr>
            <a:xfrm>
              <a:off x="988920" y="915840"/>
              <a:ext cx="0" cy="6098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0720" y="1523880"/>
              <a:ext cx="609480" cy="10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98760" y="915840"/>
              <a:ext cx="0" cy="6098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88920" y="914400"/>
              <a:ext cx="609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0" y="882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28800" y="941040"/>
            <a:ext cx="609480" cy="584280"/>
            <a:chOff x="1828800" y="941040"/>
            <a:chExt cx="609480" cy="584280"/>
          </a:xfrm>
        </p:grpSpPr>
        <p:sp>
          <p:nvSpPr>
            <p:cNvPr id="55" name=""/>
            <p:cNvSpPr/>
            <p:nvPr/>
          </p:nvSpPr>
          <p:spPr>
            <a:xfrm>
              <a:off x="1828800" y="1523880"/>
              <a:ext cx="60948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2160360" y="941040"/>
              <a:ext cx="251640" cy="5554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829520" y="954360"/>
              <a:ext cx="303480" cy="5284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665440" y="914400"/>
            <a:ext cx="611280" cy="611280"/>
            <a:chOff x="2665440" y="914400"/>
            <a:chExt cx="611280" cy="611280"/>
          </a:xfrm>
        </p:grpSpPr>
        <p:sp>
          <p:nvSpPr>
            <p:cNvPr id="59" name=""/>
            <p:cNvSpPr/>
            <p:nvPr/>
          </p:nvSpPr>
          <p:spPr>
            <a:xfrm>
              <a:off x="2665440" y="915840"/>
              <a:ext cx="0" cy="6098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7240" y="1523880"/>
              <a:ext cx="609480" cy="10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5280" y="915840"/>
              <a:ext cx="0" cy="6098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65440" y="914400"/>
              <a:ext cx="609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505320" y="941040"/>
            <a:ext cx="609480" cy="584280"/>
            <a:chOff x="3505320" y="941040"/>
            <a:chExt cx="609480" cy="584280"/>
          </a:xfrm>
        </p:grpSpPr>
        <p:sp>
          <p:nvSpPr>
            <p:cNvPr id="64" name=""/>
            <p:cNvSpPr/>
            <p:nvPr/>
          </p:nvSpPr>
          <p:spPr>
            <a:xfrm>
              <a:off x="3505320" y="1523880"/>
              <a:ext cx="60948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3836880" y="941040"/>
              <a:ext cx="251640" cy="5554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506040" y="954360"/>
              <a:ext cx="303480" cy="5284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343400" y="914400"/>
            <a:ext cx="611280" cy="611280"/>
            <a:chOff x="4343400" y="914400"/>
            <a:chExt cx="611280" cy="611280"/>
          </a:xfrm>
        </p:grpSpPr>
        <p:sp>
          <p:nvSpPr>
            <p:cNvPr id="68" name=""/>
            <p:cNvSpPr/>
            <p:nvPr/>
          </p:nvSpPr>
          <p:spPr>
            <a:xfrm>
              <a:off x="4343400" y="915840"/>
              <a:ext cx="0" cy="6098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45200" y="1523880"/>
              <a:ext cx="609480" cy="10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3240" y="915840"/>
              <a:ext cx="0" cy="6098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914400"/>
              <a:ext cx="609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83280" y="941040"/>
            <a:ext cx="609480" cy="584280"/>
            <a:chOff x="5183280" y="941040"/>
            <a:chExt cx="609480" cy="584280"/>
          </a:xfrm>
        </p:grpSpPr>
        <p:sp>
          <p:nvSpPr>
            <p:cNvPr id="73" name=""/>
            <p:cNvSpPr/>
            <p:nvPr/>
          </p:nvSpPr>
          <p:spPr>
            <a:xfrm>
              <a:off x="5183280" y="1523880"/>
              <a:ext cx="60948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5514840" y="941040"/>
              <a:ext cx="251640" cy="5554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184000" y="954360"/>
              <a:ext cx="303480" cy="5284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066680" y="18288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18288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18288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18288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8288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019920" y="2438280"/>
            <a:ext cx="1752480" cy="0"/>
            <a:chOff x="6019920" y="2438280"/>
            <a:chExt cx="1752480" cy="0"/>
          </a:xfrm>
        </p:grpSpPr>
        <p:sp>
          <p:nvSpPr>
            <p:cNvPr id="83" name=""/>
            <p:cNvSpPr/>
            <p:nvPr/>
          </p:nvSpPr>
          <p:spPr>
            <a:xfrm>
              <a:off x="6019920" y="2438280"/>
              <a:ext cx="76176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10280" y="2438280"/>
              <a:ext cx="76212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172200" y="18288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18288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440" y="2635200"/>
            <a:ext cx="7770960" cy="642600"/>
            <a:chOff x="1440" y="2635200"/>
            <a:chExt cx="7770960" cy="642600"/>
          </a:xfrm>
        </p:grpSpPr>
        <p:sp>
          <p:nvSpPr>
            <p:cNvPr id="88" name=""/>
            <p:cNvSpPr/>
            <p:nvPr/>
          </p:nvSpPr>
          <p:spPr>
            <a:xfrm>
              <a:off x="1440" y="26352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90720" y="2819160"/>
              <a:ext cx="304560" cy="3049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2819160"/>
              <a:ext cx="30456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3720" y="2819160"/>
              <a:ext cx="30456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819160"/>
              <a:ext cx="304920" cy="3049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29000" y="2819160"/>
              <a:ext cx="3049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6200" y="2819160"/>
              <a:ext cx="3049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2819160"/>
              <a:ext cx="304920" cy="3049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7800" y="2819160"/>
              <a:ext cx="3049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5000" y="2819160"/>
              <a:ext cx="3049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24480" y="2819160"/>
              <a:ext cx="304920" cy="3049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0280" y="2819160"/>
              <a:ext cx="3049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67480" y="2819160"/>
              <a:ext cx="3049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96048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1296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2736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380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5616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72200" y="4343400"/>
            <a:ext cx="1752480" cy="0"/>
            <a:chOff x="6172200" y="4343400"/>
            <a:chExt cx="1752480" cy="0"/>
          </a:xfrm>
        </p:grpSpPr>
        <p:sp>
          <p:nvSpPr>
            <p:cNvPr id="108" name=""/>
            <p:cNvSpPr/>
            <p:nvPr/>
          </p:nvSpPr>
          <p:spPr>
            <a:xfrm>
              <a:off x="6172200" y="4343400"/>
              <a:ext cx="76176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560" y="4343400"/>
              <a:ext cx="76212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32628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4068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440" y="4495680"/>
            <a:ext cx="8380440" cy="642600"/>
            <a:chOff x="1440" y="4495680"/>
            <a:chExt cx="8380440" cy="642600"/>
          </a:xfrm>
        </p:grpSpPr>
        <p:sp>
          <p:nvSpPr>
            <p:cNvPr id="113" name=""/>
            <p:cNvSpPr/>
            <p:nvPr/>
          </p:nvSpPr>
          <p:spPr>
            <a:xfrm>
              <a:off x="1440" y="449568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hua" descr=""/>
            <p:cNvPicPr/>
            <p:nvPr/>
          </p:nvPicPr>
          <p:blipFill>
            <a:blip r:embed="rId2"/>
            <a:stretch/>
          </p:blipFill>
          <p:spPr>
            <a:xfrm>
              <a:off x="819000" y="4557600"/>
              <a:ext cx="617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hua" descr=""/>
            <p:cNvPicPr/>
            <p:nvPr/>
          </p:nvPicPr>
          <p:blipFill>
            <a:blip r:embed="rId3"/>
            <a:stretch/>
          </p:blipFill>
          <p:spPr>
            <a:xfrm>
              <a:off x="1428840" y="4571640"/>
              <a:ext cx="6174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hua" descr=""/>
            <p:cNvPicPr/>
            <p:nvPr/>
          </p:nvPicPr>
          <p:blipFill>
            <a:blip r:embed="rId4"/>
            <a:stretch/>
          </p:blipFill>
          <p:spPr>
            <a:xfrm>
              <a:off x="2057400" y="4571640"/>
              <a:ext cx="6174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hua1" descr=""/>
            <p:cNvPicPr/>
            <p:nvPr/>
          </p:nvPicPr>
          <p:blipFill>
            <a:blip r:embed="rId5"/>
            <a:stretch/>
          </p:blipFill>
          <p:spPr>
            <a:xfrm>
              <a:off x="2666880" y="4571640"/>
              <a:ext cx="66672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hua" descr=""/>
            <p:cNvPicPr/>
            <p:nvPr/>
          </p:nvPicPr>
          <p:blipFill>
            <a:blip r:embed="rId6"/>
            <a:stretch/>
          </p:blipFill>
          <p:spPr>
            <a:xfrm>
              <a:off x="3352680" y="4571640"/>
              <a:ext cx="61776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hua" descr=""/>
            <p:cNvPicPr/>
            <p:nvPr/>
          </p:nvPicPr>
          <p:blipFill>
            <a:blip r:embed="rId7"/>
            <a:stretch/>
          </p:blipFill>
          <p:spPr>
            <a:xfrm>
              <a:off x="3962520" y="4586040"/>
              <a:ext cx="6174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hua" descr=""/>
            <p:cNvPicPr/>
            <p:nvPr/>
          </p:nvPicPr>
          <p:blipFill>
            <a:blip r:embed="rId8"/>
            <a:stretch/>
          </p:blipFill>
          <p:spPr>
            <a:xfrm>
              <a:off x="4591080" y="4586040"/>
              <a:ext cx="6174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hua1" descr=""/>
            <p:cNvPicPr/>
            <p:nvPr/>
          </p:nvPicPr>
          <p:blipFill>
            <a:blip r:embed="rId9"/>
            <a:stretch/>
          </p:blipFill>
          <p:spPr>
            <a:xfrm>
              <a:off x="5200560" y="4586040"/>
              <a:ext cx="66672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hua" descr=""/>
            <p:cNvPicPr/>
            <p:nvPr/>
          </p:nvPicPr>
          <p:blipFill>
            <a:blip r:embed="rId10"/>
            <a:stretch/>
          </p:blipFill>
          <p:spPr>
            <a:xfrm>
              <a:off x="5867280" y="4571640"/>
              <a:ext cx="61776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hua" descr=""/>
            <p:cNvPicPr/>
            <p:nvPr/>
          </p:nvPicPr>
          <p:blipFill>
            <a:blip r:embed="rId11"/>
            <a:stretch/>
          </p:blipFill>
          <p:spPr>
            <a:xfrm>
              <a:off x="6477120" y="4586040"/>
              <a:ext cx="6174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hua" descr=""/>
            <p:cNvPicPr/>
            <p:nvPr/>
          </p:nvPicPr>
          <p:blipFill>
            <a:blip r:embed="rId12"/>
            <a:stretch/>
          </p:blipFill>
          <p:spPr>
            <a:xfrm>
              <a:off x="7105680" y="4586040"/>
              <a:ext cx="6174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ua1" descr=""/>
            <p:cNvPicPr/>
            <p:nvPr/>
          </p:nvPicPr>
          <p:blipFill>
            <a:blip r:embed="rId13"/>
            <a:stretch/>
          </p:blipFill>
          <p:spPr>
            <a:xfrm>
              <a:off x="7715160" y="4586040"/>
              <a:ext cx="666720" cy="51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未命名" descr=""/>
          <p:cNvPicPr/>
          <p:nvPr/>
        </p:nvPicPr>
        <p:blipFill>
          <a:blip r:embed="rId14"/>
          <a:stretch/>
        </p:blipFill>
        <p:spPr>
          <a:xfrm>
            <a:off x="3505320" y="510552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94000" y="598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5000" y="598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280" y="598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91280" y="598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324480" y="6629400"/>
            <a:ext cx="2057400" cy="0"/>
            <a:chOff x="6324480" y="6629400"/>
            <a:chExt cx="2057400" cy="0"/>
          </a:xfrm>
        </p:grpSpPr>
        <p:sp>
          <p:nvSpPr>
            <p:cNvPr id="132" name=""/>
            <p:cNvSpPr/>
            <p:nvPr/>
          </p:nvSpPr>
          <p:spPr>
            <a:xfrm>
              <a:off x="6324480" y="6629400"/>
              <a:ext cx="76212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6629400"/>
              <a:ext cx="76176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599160" y="598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94800" y="598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未命名" descr=""/>
          <p:cNvPicPr/>
          <p:nvPr/>
        </p:nvPicPr>
        <p:blipFill>
          <a:blip r:embed="rId15"/>
          <a:stretch/>
        </p:blipFill>
        <p:spPr>
          <a:xfrm>
            <a:off x="1828800" y="32004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37" name="未命名" descr=""/>
          <p:cNvPicPr/>
          <p:nvPr/>
        </p:nvPicPr>
        <p:blipFill>
          <a:blip r:embed="rId16"/>
          <a:stretch/>
        </p:blipFill>
        <p:spPr>
          <a:xfrm>
            <a:off x="3581280" y="32004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未命名" descr=""/>
          <p:cNvPicPr/>
          <p:nvPr/>
        </p:nvPicPr>
        <p:blipFill>
          <a:blip r:embed="rId17"/>
          <a:stretch/>
        </p:blipFill>
        <p:spPr>
          <a:xfrm>
            <a:off x="5410080" y="32004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8600"/>
            <a:ext cx="914400" cy="609480"/>
          </a:xfrm>
          <a:custGeom>
            <a:avLst/>
            <a:gdLst>
              <a:gd name="textAreaLeft" fmla="*/ 228600 w 914400"/>
              <a:gd name="textAreaRight" fmla="*/ 685800 w 9144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09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8580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77800" y="487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029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96280" y="163044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摆一摆，填一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09480" y="2813040"/>
            <a:ext cx="898200" cy="1219320"/>
            <a:chOff x="609480" y="2813040"/>
            <a:chExt cx="898200" cy="1219320"/>
          </a:xfrm>
        </p:grpSpPr>
        <p:sp>
          <p:nvSpPr>
            <p:cNvPr id="146" name=""/>
            <p:cNvSpPr/>
            <p:nvPr/>
          </p:nvSpPr>
          <p:spPr>
            <a:xfrm>
              <a:off x="609480" y="2813040"/>
              <a:ext cx="44928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58760" y="2813040"/>
              <a:ext cx="44892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1720" y="3197880"/>
              <a:ext cx="44928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480" y="3583080"/>
              <a:ext cx="44928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8760" y="3583080"/>
              <a:ext cx="44892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1" name=""/>
          <p:cNvGraphicFramePr/>
          <p:nvPr/>
        </p:nvGraphicFramePr>
        <p:xfrm>
          <a:off x="1947960" y="2813040"/>
          <a:ext cx="414360" cy="1270080"/>
        </p:xfrm>
        <a:graphic>
          <a:graphicData uri="http://schemas.openxmlformats.org/drawingml/2006/table">
            <a:tbl>
              <a:tblPr/>
              <a:tblGrid>
                <a:gridCol w="41436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2666880" y="2813040"/>
            <a:ext cx="898200" cy="1219320"/>
            <a:chOff x="2666880" y="2813040"/>
            <a:chExt cx="898200" cy="1219320"/>
          </a:xfrm>
        </p:grpSpPr>
        <p:sp>
          <p:nvSpPr>
            <p:cNvPr id="153" name=""/>
            <p:cNvSpPr/>
            <p:nvPr/>
          </p:nvSpPr>
          <p:spPr>
            <a:xfrm>
              <a:off x="2666880" y="2813040"/>
              <a:ext cx="44928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6160" y="2813040"/>
              <a:ext cx="44892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59120" y="3197880"/>
              <a:ext cx="44928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3583080"/>
              <a:ext cx="44928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16160" y="3583080"/>
              <a:ext cx="44892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4005360" y="2813040"/>
          <a:ext cx="414360" cy="1270080"/>
        </p:xfrm>
        <a:graphic>
          <a:graphicData uri="http://schemas.openxmlformats.org/drawingml/2006/table">
            <a:tbl>
              <a:tblPr/>
              <a:tblGrid>
                <a:gridCol w="41436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4800600" y="2787480"/>
            <a:ext cx="898200" cy="1219320"/>
            <a:chOff x="4800600" y="2787480"/>
            <a:chExt cx="898200" cy="1219320"/>
          </a:xfrm>
        </p:grpSpPr>
        <p:sp>
          <p:nvSpPr>
            <p:cNvPr id="160" name=""/>
            <p:cNvSpPr/>
            <p:nvPr/>
          </p:nvSpPr>
          <p:spPr>
            <a:xfrm>
              <a:off x="4800600" y="2787480"/>
              <a:ext cx="44928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49880" y="2787480"/>
              <a:ext cx="44892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92840" y="3172320"/>
              <a:ext cx="44928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3557520"/>
              <a:ext cx="44928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49880" y="3557520"/>
              <a:ext cx="448920" cy="449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5" name=""/>
          <p:cNvGraphicFramePr/>
          <p:nvPr/>
        </p:nvGraphicFramePr>
        <p:xfrm>
          <a:off x="6138720" y="2787480"/>
          <a:ext cx="414360" cy="1270080"/>
        </p:xfrm>
        <a:graphic>
          <a:graphicData uri="http://schemas.openxmlformats.org/drawingml/2006/table">
            <a:tbl>
              <a:tblPr/>
              <a:tblGrid>
                <a:gridCol w="41436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685800" y="4844880"/>
            <a:ext cx="68580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4844880"/>
            <a:ext cx="609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844880"/>
            <a:ext cx="68580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4844880"/>
            <a:ext cx="609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4844880"/>
            <a:ext cx="68580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844880"/>
            <a:ext cx="609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844880"/>
            <a:ext cx="68580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01000" y="4844880"/>
            <a:ext cx="609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280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9880" y="4280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5600" y="4311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98960" y="4311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0400" y="4311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8600" y="4280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4000" y="4311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23400" y="4280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457200"/>
            <a:ext cx="914400" cy="609480"/>
          </a:xfrm>
          <a:custGeom>
            <a:avLst/>
            <a:gdLst>
              <a:gd name="textAreaLeft" fmla="*/ 228600 w 914400"/>
              <a:gd name="textAreaRight" fmla="*/ 685800 w 9144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67680" y="4111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摆一摆，算一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760" y="19051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286000"/>
            <a:ext cx="366840" cy="366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6880" y="2286000"/>
            <a:ext cx="366840" cy="366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6880" y="1919160"/>
            <a:ext cx="366840" cy="366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52680" y="2286000"/>
            <a:ext cx="366840" cy="366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33560" y="2286000"/>
            <a:ext cx="366840" cy="366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533760" y="1905120"/>
            <a:ext cx="732960" cy="732960"/>
            <a:chOff x="3533760" y="1905120"/>
            <a:chExt cx="732960" cy="732960"/>
          </a:xfrm>
        </p:grpSpPr>
        <p:sp>
          <p:nvSpPr>
            <p:cNvPr id="192" name=""/>
            <p:cNvSpPr/>
            <p:nvPr/>
          </p:nvSpPr>
          <p:spPr>
            <a:xfrm>
              <a:off x="3900240" y="2271600"/>
              <a:ext cx="366480" cy="366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00240" y="1905120"/>
              <a:ext cx="366480" cy="366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33760" y="2271600"/>
              <a:ext cx="366480" cy="366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33760" y="1905120"/>
              <a:ext cx="366480" cy="366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952880" y="1933560"/>
            <a:ext cx="733680" cy="732960"/>
            <a:chOff x="4952880" y="1933560"/>
            <a:chExt cx="733680" cy="732960"/>
          </a:xfrm>
        </p:grpSpPr>
        <p:sp>
          <p:nvSpPr>
            <p:cNvPr id="197" name=""/>
            <p:cNvSpPr/>
            <p:nvPr/>
          </p:nvSpPr>
          <p:spPr>
            <a:xfrm>
              <a:off x="5319720" y="2300040"/>
              <a:ext cx="366840" cy="366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19720" y="1933560"/>
              <a:ext cx="366840" cy="366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2880" y="2300040"/>
              <a:ext cx="366840" cy="366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1933560"/>
              <a:ext cx="366840" cy="366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33560" y="1919160"/>
            <a:ext cx="366840" cy="366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300400"/>
            <a:ext cx="366840" cy="366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095880" y="1905120"/>
            <a:ext cx="1066680" cy="733320"/>
            <a:chOff x="6095880" y="1905120"/>
            <a:chExt cx="1066680" cy="733320"/>
          </a:xfrm>
        </p:grpSpPr>
        <p:grpSp>
          <p:nvGrpSpPr>
            <p:cNvPr id="204" name=""/>
            <p:cNvGrpSpPr/>
            <p:nvPr/>
          </p:nvGrpSpPr>
          <p:grpSpPr>
            <a:xfrm>
              <a:off x="6462360" y="1905120"/>
              <a:ext cx="366840" cy="733320"/>
              <a:chOff x="6462360" y="1905120"/>
              <a:chExt cx="366840" cy="733320"/>
            </a:xfrm>
          </p:grpSpPr>
          <p:sp>
            <p:nvSpPr>
              <p:cNvPr id="205" name=""/>
              <p:cNvSpPr/>
              <p:nvPr/>
            </p:nvSpPr>
            <p:spPr>
              <a:xfrm>
                <a:off x="6462360" y="2271960"/>
                <a:ext cx="366840" cy="366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62360" y="1905120"/>
                <a:ext cx="36684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796080" y="1905120"/>
              <a:ext cx="366480" cy="733320"/>
              <a:chOff x="6796080" y="1905120"/>
              <a:chExt cx="366480" cy="733320"/>
            </a:xfrm>
          </p:grpSpPr>
          <p:sp>
            <p:nvSpPr>
              <p:cNvPr id="208" name=""/>
              <p:cNvSpPr/>
              <p:nvPr/>
            </p:nvSpPr>
            <p:spPr>
              <a:xfrm>
                <a:off x="6796080" y="2271960"/>
                <a:ext cx="366480" cy="366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796080" y="1905120"/>
                <a:ext cx="36648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095880" y="1905120"/>
              <a:ext cx="366480" cy="733320"/>
              <a:chOff x="6095880" y="1905120"/>
              <a:chExt cx="366480" cy="733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095880" y="2271960"/>
                <a:ext cx="366480" cy="366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95880" y="1905120"/>
                <a:ext cx="36648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108720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7300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740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5444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7340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9764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086600" y="3276720"/>
            <a:ext cx="1828800" cy="0"/>
            <a:chOff x="7086600" y="3276720"/>
            <a:chExt cx="1828800" cy="0"/>
          </a:xfrm>
        </p:grpSpPr>
        <p:sp>
          <p:nvSpPr>
            <p:cNvPr id="220" name=""/>
            <p:cNvSpPr/>
            <p:nvPr/>
          </p:nvSpPr>
          <p:spPr>
            <a:xfrm>
              <a:off x="7086600" y="3276720"/>
              <a:ext cx="53352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8720" y="3276720"/>
              <a:ext cx="45720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58200" y="3276720"/>
              <a:ext cx="45720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tyu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838440" cy="304560"/>
          </a:xfrm>
          <a:prstGeom prst="rect">
            <a:avLst/>
          </a:prstGeom>
          <a:ln w="0">
            <a:noFill/>
          </a:ln>
        </p:spPr>
      </p:pic>
      <p:pic>
        <p:nvPicPr>
          <p:cNvPr id="224" name="tyu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83808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1960" y="350532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59280" y="350532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tyu" descr=""/>
          <p:cNvPicPr/>
          <p:nvPr/>
        </p:nvPicPr>
        <p:blipFill>
          <a:blip r:embed="rId3"/>
          <a:stretch/>
        </p:blipFill>
        <p:spPr>
          <a:xfrm>
            <a:off x="2819520" y="3295800"/>
            <a:ext cx="1218960" cy="306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150000" y="350532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tyu" descr=""/>
          <p:cNvPicPr/>
          <p:nvPr/>
        </p:nvPicPr>
        <p:blipFill>
          <a:blip r:embed="rId4"/>
          <a:stretch/>
        </p:blipFill>
        <p:spPr>
          <a:xfrm>
            <a:off x="3962520" y="3313080"/>
            <a:ext cx="1371600" cy="344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293000" y="350532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yu" descr=""/>
          <p:cNvPicPr/>
          <p:nvPr/>
        </p:nvPicPr>
        <p:blipFill>
          <a:blip r:embed="rId5"/>
          <a:stretch/>
        </p:blipFill>
        <p:spPr>
          <a:xfrm>
            <a:off x="5181480" y="3352680"/>
            <a:ext cx="1524240" cy="277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664600" y="350532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8344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6924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7872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38080" y="2209680"/>
            <a:ext cx="3049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19160"/>
            <a:ext cx="3049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760" y="19051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23880" y="1905120"/>
            <a:ext cx="609840" cy="609120"/>
            <a:chOff x="1523880" y="1905120"/>
            <a:chExt cx="609840" cy="609120"/>
          </a:xfrm>
        </p:grpSpPr>
        <p:sp>
          <p:nvSpPr>
            <p:cNvPr id="240" name=""/>
            <p:cNvSpPr/>
            <p:nvPr/>
          </p:nvSpPr>
          <p:spPr>
            <a:xfrm>
              <a:off x="1828800" y="220968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8800" y="1905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3880" y="220968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23880" y="1905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600" y="1905120"/>
            <a:ext cx="885600" cy="609480"/>
            <a:chOff x="2514600" y="1905120"/>
            <a:chExt cx="885600" cy="609480"/>
          </a:xfrm>
        </p:grpSpPr>
        <p:grpSp>
          <p:nvGrpSpPr>
            <p:cNvPr id="245" name=""/>
            <p:cNvGrpSpPr/>
            <p:nvPr/>
          </p:nvGrpSpPr>
          <p:grpSpPr>
            <a:xfrm>
              <a:off x="2818800" y="1905120"/>
              <a:ext cx="304560" cy="609480"/>
              <a:chOff x="2818800" y="1905120"/>
              <a:chExt cx="304560" cy="609480"/>
            </a:xfrm>
          </p:grpSpPr>
          <p:sp>
            <p:nvSpPr>
              <p:cNvPr id="246" name=""/>
              <p:cNvSpPr/>
              <p:nvPr/>
            </p:nvSpPr>
            <p:spPr>
              <a:xfrm>
                <a:off x="2818800" y="22100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818800" y="1905120"/>
                <a:ext cx="30456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096000" y="1905120"/>
              <a:ext cx="304200" cy="609480"/>
              <a:chOff x="3096000" y="1905120"/>
              <a:chExt cx="304200" cy="60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3096000" y="2210040"/>
                <a:ext cx="30420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96000" y="1905120"/>
                <a:ext cx="30420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514600" y="1905120"/>
              <a:ext cx="304200" cy="609480"/>
              <a:chOff x="2514600" y="1905120"/>
              <a:chExt cx="30420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514600" y="2210040"/>
                <a:ext cx="30420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14600" y="1905120"/>
                <a:ext cx="30420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3809880" y="1905120"/>
            <a:ext cx="609840" cy="609120"/>
            <a:chOff x="3809880" y="1905120"/>
            <a:chExt cx="609840" cy="609120"/>
          </a:xfrm>
        </p:grpSpPr>
        <p:sp>
          <p:nvSpPr>
            <p:cNvPr id="255" name=""/>
            <p:cNvSpPr/>
            <p:nvPr/>
          </p:nvSpPr>
          <p:spPr>
            <a:xfrm>
              <a:off x="4114800" y="220968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14800" y="1905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220968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9880" y="1905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419720" y="1905120"/>
            <a:ext cx="609120" cy="609120"/>
            <a:chOff x="4419720" y="1905120"/>
            <a:chExt cx="609120" cy="609120"/>
          </a:xfrm>
        </p:grpSpPr>
        <p:sp>
          <p:nvSpPr>
            <p:cNvPr id="260" name=""/>
            <p:cNvSpPr/>
            <p:nvPr/>
          </p:nvSpPr>
          <p:spPr>
            <a:xfrm>
              <a:off x="4724280" y="220968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24280" y="1905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19720" y="220968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19720" y="1905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048360" y="1905120"/>
            <a:ext cx="885600" cy="609480"/>
            <a:chOff x="6048360" y="1905120"/>
            <a:chExt cx="885600" cy="609480"/>
          </a:xfrm>
        </p:grpSpPr>
        <p:grpSp>
          <p:nvGrpSpPr>
            <p:cNvPr id="265" name=""/>
            <p:cNvGrpSpPr/>
            <p:nvPr/>
          </p:nvGrpSpPr>
          <p:grpSpPr>
            <a:xfrm>
              <a:off x="6352560" y="1905120"/>
              <a:ext cx="304560" cy="609480"/>
              <a:chOff x="6352560" y="1905120"/>
              <a:chExt cx="304560" cy="609480"/>
            </a:xfrm>
          </p:grpSpPr>
          <p:sp>
            <p:nvSpPr>
              <p:cNvPr id="266" name=""/>
              <p:cNvSpPr/>
              <p:nvPr/>
            </p:nvSpPr>
            <p:spPr>
              <a:xfrm>
                <a:off x="6352560" y="22100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52560" y="1905120"/>
                <a:ext cx="30456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629760" y="1905120"/>
              <a:ext cx="304200" cy="609480"/>
              <a:chOff x="6629760" y="1905120"/>
              <a:chExt cx="304200" cy="609480"/>
            </a:xfrm>
          </p:grpSpPr>
          <p:sp>
            <p:nvSpPr>
              <p:cNvPr id="269" name=""/>
              <p:cNvSpPr/>
              <p:nvPr/>
            </p:nvSpPr>
            <p:spPr>
              <a:xfrm>
                <a:off x="6629760" y="2210040"/>
                <a:ext cx="30420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29760" y="1905120"/>
                <a:ext cx="30420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048360" y="1905120"/>
              <a:ext cx="304200" cy="609480"/>
              <a:chOff x="6048360" y="1905120"/>
              <a:chExt cx="304200" cy="609480"/>
            </a:xfrm>
          </p:grpSpPr>
          <p:sp>
            <p:nvSpPr>
              <p:cNvPr id="272" name=""/>
              <p:cNvSpPr/>
              <p:nvPr/>
            </p:nvSpPr>
            <p:spPr>
              <a:xfrm>
                <a:off x="6048360" y="2210040"/>
                <a:ext cx="30420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48360" y="1905120"/>
                <a:ext cx="30420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5438880" y="1905120"/>
            <a:ext cx="609120" cy="609120"/>
            <a:chOff x="5438880" y="1905120"/>
            <a:chExt cx="609120" cy="609120"/>
          </a:xfrm>
        </p:grpSpPr>
        <p:sp>
          <p:nvSpPr>
            <p:cNvPr id="275" name=""/>
            <p:cNvSpPr/>
            <p:nvPr/>
          </p:nvSpPr>
          <p:spPr>
            <a:xfrm>
              <a:off x="5743440" y="220968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43440" y="1905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8880" y="220968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38880" y="1905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8395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796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637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8520" y="26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44680" y="2666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tyu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838440" cy="304920"/>
          </a:xfrm>
          <a:prstGeom prst="rect">
            <a:avLst/>
          </a:prstGeom>
          <a:ln w="0">
            <a:noFill/>
          </a:ln>
        </p:spPr>
      </p:pic>
      <p:pic>
        <p:nvPicPr>
          <p:cNvPr id="285" name="tyu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83808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tyu" descr=""/>
          <p:cNvPicPr/>
          <p:nvPr/>
        </p:nvPicPr>
        <p:blipFill>
          <a:blip r:embed="rId3"/>
          <a:stretch/>
        </p:blipFill>
        <p:spPr>
          <a:xfrm>
            <a:off x="2971800" y="3124080"/>
            <a:ext cx="152388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tyu" descr=""/>
          <p:cNvPicPr/>
          <p:nvPr/>
        </p:nvPicPr>
        <p:blipFill>
          <a:blip r:embed="rId4"/>
          <a:stretch/>
        </p:blipFill>
        <p:spPr>
          <a:xfrm>
            <a:off x="4343400" y="3124080"/>
            <a:ext cx="2057400" cy="327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143360" y="34290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59280" y="34290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54920" y="34290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55120" y="34290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086600" y="3276720"/>
            <a:ext cx="1219320" cy="0"/>
            <a:chOff x="7086600" y="3276720"/>
            <a:chExt cx="1219320" cy="0"/>
          </a:xfrm>
        </p:grpSpPr>
        <p:sp>
          <p:nvSpPr>
            <p:cNvPr id="293" name=""/>
            <p:cNvSpPr/>
            <p:nvPr/>
          </p:nvSpPr>
          <p:spPr>
            <a:xfrm>
              <a:off x="7086600" y="3276720"/>
              <a:ext cx="53352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48720" y="3276720"/>
              <a:ext cx="45720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7087680" y="2666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73480" y="2666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457200"/>
            <a:ext cx="914400" cy="609480"/>
          </a:xfrm>
          <a:custGeom>
            <a:avLst/>
            <a:gdLst>
              <a:gd name="textAreaLeft" fmla="*/ 228600 w 914400"/>
              <a:gd name="textAreaRight" fmla="*/ 685800 w 9144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67680" y="4111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摆一摆，算一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38188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457200"/>
            <a:ext cx="914400" cy="609480"/>
          </a:xfrm>
          <a:custGeom>
            <a:avLst/>
            <a:gdLst>
              <a:gd name="textAreaLeft" fmla="*/ 228600 w 914400"/>
              <a:gd name="textAreaRight" fmla="*/ 685800 w 9144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7680" y="4111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摆一摆，算一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760" y="19051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14400" y="1905120"/>
            <a:ext cx="1799640" cy="609480"/>
            <a:chOff x="914400" y="1905120"/>
            <a:chExt cx="1799640" cy="609480"/>
          </a:xfrm>
        </p:grpSpPr>
        <p:grpSp>
          <p:nvGrpSpPr>
            <p:cNvPr id="304" name=""/>
            <p:cNvGrpSpPr/>
            <p:nvPr/>
          </p:nvGrpSpPr>
          <p:grpSpPr>
            <a:xfrm>
              <a:off x="1828800" y="1905120"/>
              <a:ext cx="885240" cy="609480"/>
              <a:chOff x="1828800" y="1905120"/>
              <a:chExt cx="885240" cy="60948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2133000" y="1905120"/>
                <a:ext cx="304560" cy="609480"/>
                <a:chOff x="2133000" y="1905120"/>
                <a:chExt cx="30456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133000" y="2210040"/>
                  <a:ext cx="304560" cy="3045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133000" y="1905120"/>
                  <a:ext cx="304560" cy="3049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409840" y="1905120"/>
                <a:ext cx="304200" cy="609480"/>
                <a:chOff x="2409840" y="1905120"/>
                <a:chExt cx="3042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409840" y="2210040"/>
                  <a:ext cx="304200" cy="3045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409840" y="1905120"/>
                  <a:ext cx="304200" cy="3049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828800" y="1905120"/>
                <a:ext cx="304200" cy="609480"/>
                <a:chOff x="1828800" y="1905120"/>
                <a:chExt cx="30420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828800" y="2210040"/>
                  <a:ext cx="304200" cy="3045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828800" y="1905120"/>
                  <a:ext cx="304200" cy="3049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1218960" y="1905120"/>
              <a:ext cx="609840" cy="609120"/>
              <a:chOff x="1218960" y="1905120"/>
              <a:chExt cx="609840" cy="609120"/>
            </a:xfrm>
          </p:grpSpPr>
          <p:sp>
            <p:nvSpPr>
              <p:cNvPr id="315" name=""/>
              <p:cNvSpPr/>
              <p:nvPr/>
            </p:nvSpPr>
            <p:spPr>
              <a:xfrm>
                <a:off x="1523880" y="2209680"/>
                <a:ext cx="30492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3880" y="1905120"/>
                <a:ext cx="30492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18960" y="2209680"/>
                <a:ext cx="30492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218960" y="1905120"/>
                <a:ext cx="30492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4400" y="22096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8120" y="1905120"/>
            <a:ext cx="1523520" cy="609480"/>
            <a:chOff x="3048120" y="1905120"/>
            <a:chExt cx="1523520" cy="609480"/>
          </a:xfrm>
        </p:grpSpPr>
        <p:grpSp>
          <p:nvGrpSpPr>
            <p:cNvPr id="321" name=""/>
            <p:cNvGrpSpPr/>
            <p:nvPr/>
          </p:nvGrpSpPr>
          <p:grpSpPr>
            <a:xfrm>
              <a:off x="3352680" y="1905120"/>
              <a:ext cx="609840" cy="609120"/>
              <a:chOff x="3352680" y="1905120"/>
              <a:chExt cx="609840" cy="609120"/>
            </a:xfrm>
          </p:grpSpPr>
          <p:sp>
            <p:nvSpPr>
              <p:cNvPr id="322" name=""/>
              <p:cNvSpPr/>
              <p:nvPr/>
            </p:nvSpPr>
            <p:spPr>
              <a:xfrm>
                <a:off x="3657600" y="2209680"/>
                <a:ext cx="30492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57600" y="1905120"/>
                <a:ext cx="30492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352680" y="2209680"/>
                <a:ext cx="30492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52680" y="1905120"/>
                <a:ext cx="30492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3962520" y="1905120"/>
              <a:ext cx="609120" cy="609120"/>
              <a:chOff x="3962520" y="1905120"/>
              <a:chExt cx="609120" cy="609120"/>
            </a:xfrm>
          </p:grpSpPr>
          <p:sp>
            <p:nvSpPr>
              <p:cNvPr id="327" name=""/>
              <p:cNvSpPr/>
              <p:nvPr/>
            </p:nvSpPr>
            <p:spPr>
              <a:xfrm>
                <a:off x="4267080" y="2209680"/>
                <a:ext cx="30456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267080" y="1905120"/>
                <a:ext cx="30456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62520" y="2209680"/>
                <a:ext cx="30456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62520" y="1905120"/>
                <a:ext cx="30456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3048120" y="22096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257800" y="1905120"/>
            <a:ext cx="885600" cy="609480"/>
            <a:chOff x="5257800" y="1905120"/>
            <a:chExt cx="885600" cy="609480"/>
          </a:xfrm>
        </p:grpSpPr>
        <p:grpSp>
          <p:nvGrpSpPr>
            <p:cNvPr id="333" name=""/>
            <p:cNvGrpSpPr/>
            <p:nvPr/>
          </p:nvGrpSpPr>
          <p:grpSpPr>
            <a:xfrm>
              <a:off x="5562000" y="1905120"/>
              <a:ext cx="304560" cy="609480"/>
              <a:chOff x="5562000" y="1905120"/>
              <a:chExt cx="304560" cy="609480"/>
            </a:xfrm>
          </p:grpSpPr>
          <p:sp>
            <p:nvSpPr>
              <p:cNvPr id="334" name=""/>
              <p:cNvSpPr/>
              <p:nvPr/>
            </p:nvSpPr>
            <p:spPr>
              <a:xfrm>
                <a:off x="5562000" y="2210040"/>
                <a:ext cx="30456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62000" y="1905120"/>
                <a:ext cx="304560" cy="304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5839200" y="1905120"/>
              <a:ext cx="304200" cy="609480"/>
              <a:chOff x="5839200" y="1905120"/>
              <a:chExt cx="304200" cy="609480"/>
            </a:xfrm>
          </p:grpSpPr>
          <p:sp>
            <p:nvSpPr>
              <p:cNvPr id="337" name=""/>
              <p:cNvSpPr/>
              <p:nvPr/>
            </p:nvSpPr>
            <p:spPr>
              <a:xfrm>
                <a:off x="5839200" y="2210040"/>
                <a:ext cx="30420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39200" y="1905120"/>
                <a:ext cx="304200" cy="304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257800" y="1905120"/>
              <a:ext cx="304200" cy="609480"/>
              <a:chOff x="5257800" y="1905120"/>
              <a:chExt cx="304200" cy="609480"/>
            </a:xfrm>
          </p:grpSpPr>
          <p:sp>
            <p:nvSpPr>
              <p:cNvPr id="340" name=""/>
              <p:cNvSpPr/>
              <p:nvPr/>
            </p:nvSpPr>
            <p:spPr>
              <a:xfrm>
                <a:off x="5257800" y="2210040"/>
                <a:ext cx="304200" cy="304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57800" y="1905120"/>
                <a:ext cx="304200" cy="304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4952880" y="2209680"/>
            <a:ext cx="3049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781680" y="1905120"/>
            <a:ext cx="609840" cy="609120"/>
            <a:chOff x="6781680" y="1905120"/>
            <a:chExt cx="609840" cy="609120"/>
          </a:xfrm>
        </p:grpSpPr>
        <p:sp>
          <p:nvSpPr>
            <p:cNvPr id="344" name=""/>
            <p:cNvSpPr/>
            <p:nvPr/>
          </p:nvSpPr>
          <p:spPr>
            <a:xfrm>
              <a:off x="7086600" y="220968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86600" y="1905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81680" y="220968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81680" y="1905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477120" y="2209680"/>
            <a:ext cx="3045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7600" y="2666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781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069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31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tyu" descr=""/>
          <p:cNvPicPr/>
          <p:nvPr/>
        </p:nvPicPr>
        <p:blipFill>
          <a:blip r:embed="rId1"/>
          <a:stretch/>
        </p:blipFill>
        <p:spPr>
          <a:xfrm>
            <a:off x="1981080" y="3114720"/>
            <a:ext cx="1981440" cy="314280"/>
          </a:xfrm>
          <a:prstGeom prst="rect">
            <a:avLst/>
          </a:prstGeom>
          <a:ln w="0">
            <a:noFill/>
          </a:ln>
        </p:spPr>
      </p:pic>
      <p:pic>
        <p:nvPicPr>
          <p:cNvPr id="354" name="tyu" descr=""/>
          <p:cNvPicPr/>
          <p:nvPr/>
        </p:nvPicPr>
        <p:blipFill>
          <a:blip r:embed="rId2"/>
          <a:stretch/>
        </p:blipFill>
        <p:spPr>
          <a:xfrm>
            <a:off x="3809880" y="3108240"/>
            <a:ext cx="1981440" cy="320760"/>
          </a:xfrm>
          <a:prstGeom prst="rect">
            <a:avLst/>
          </a:prstGeom>
          <a:ln w="0">
            <a:noFill/>
          </a:ln>
        </p:spPr>
      </p:pic>
      <p:pic>
        <p:nvPicPr>
          <p:cNvPr id="355" name="tyu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1523880" cy="243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687400" y="3276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16200" y="3276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16400" y="3276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96080" y="3276720"/>
            <a:ext cx="1219320" cy="0"/>
            <a:chOff x="7696080" y="3276720"/>
            <a:chExt cx="1219320" cy="0"/>
          </a:xfrm>
        </p:grpSpPr>
        <p:sp>
          <p:nvSpPr>
            <p:cNvPr id="360" name=""/>
            <p:cNvSpPr/>
            <p:nvPr/>
          </p:nvSpPr>
          <p:spPr>
            <a:xfrm>
              <a:off x="7696080" y="3276720"/>
              <a:ext cx="53352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58200" y="3276720"/>
              <a:ext cx="45720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7929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4787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28600" y="228600"/>
            <a:ext cx="914400" cy="609480"/>
          </a:xfrm>
          <a:custGeom>
            <a:avLst/>
            <a:gdLst>
              <a:gd name="textAreaLeft" fmla="*/ 228600 w 914400"/>
              <a:gd name="textAreaRight" fmla="*/ 685800 w 9144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66240" y="182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找规律，填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3160" y="16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80880" y="16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66640" y="16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44760" y="16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59160" y="16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tyu" descr=""/>
          <p:cNvPicPr/>
          <p:nvPr/>
        </p:nvPicPr>
        <p:blipFill>
          <a:blip r:embed="rId1"/>
          <a:stretch/>
        </p:blipFill>
        <p:spPr>
          <a:xfrm>
            <a:off x="3384720" y="2133720"/>
            <a:ext cx="838080" cy="304560"/>
          </a:xfrm>
          <a:prstGeom prst="rect">
            <a:avLst/>
          </a:prstGeom>
          <a:ln w="0">
            <a:noFill/>
          </a:ln>
        </p:spPr>
      </p:pic>
      <p:pic>
        <p:nvPicPr>
          <p:cNvPr id="372" name="tyu" descr=""/>
          <p:cNvPicPr/>
          <p:nvPr/>
        </p:nvPicPr>
        <p:blipFill>
          <a:blip r:embed="rId2"/>
          <a:stretch/>
        </p:blipFill>
        <p:spPr>
          <a:xfrm>
            <a:off x="2317680" y="2133720"/>
            <a:ext cx="838440" cy="3045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546640" y="243828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62920" y="243828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59760" y="243828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88840" y="24382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819840" y="2286000"/>
            <a:ext cx="1219320" cy="0"/>
            <a:chOff x="6819840" y="2286000"/>
            <a:chExt cx="1219320" cy="0"/>
          </a:xfrm>
        </p:grpSpPr>
        <p:sp>
          <p:nvSpPr>
            <p:cNvPr id="378" name=""/>
            <p:cNvSpPr/>
            <p:nvPr/>
          </p:nvSpPr>
          <p:spPr>
            <a:xfrm>
              <a:off x="6819840" y="2286000"/>
              <a:ext cx="53352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81960" y="2286000"/>
              <a:ext cx="45720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820920" y="16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06720" y="167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tyu" descr=""/>
          <p:cNvPicPr/>
          <p:nvPr/>
        </p:nvPicPr>
        <p:blipFill>
          <a:blip r:embed="rId3"/>
          <a:stretch/>
        </p:blipFill>
        <p:spPr>
          <a:xfrm>
            <a:off x="4381560" y="2133720"/>
            <a:ext cx="838080" cy="304560"/>
          </a:xfrm>
          <a:prstGeom prst="rect">
            <a:avLst/>
          </a:prstGeom>
          <a:ln w="0">
            <a:noFill/>
          </a:ln>
        </p:spPr>
      </p:pic>
      <p:pic>
        <p:nvPicPr>
          <p:cNvPr id="383" name="tyu" descr=""/>
          <p:cNvPicPr/>
          <p:nvPr/>
        </p:nvPicPr>
        <p:blipFill>
          <a:blip r:embed="rId4"/>
          <a:stretch/>
        </p:blipFill>
        <p:spPr>
          <a:xfrm>
            <a:off x="5295960" y="2133720"/>
            <a:ext cx="838080" cy="304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233360" y="16002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6108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748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1292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868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76440" y="373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0840" y="373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yu" descr=""/>
          <p:cNvPicPr/>
          <p:nvPr/>
        </p:nvPicPr>
        <p:blipFill>
          <a:blip r:embed="rId5"/>
          <a:stretch/>
        </p:blipFill>
        <p:spPr>
          <a:xfrm>
            <a:off x="3416400" y="4191120"/>
            <a:ext cx="838080" cy="304560"/>
          </a:xfrm>
          <a:prstGeom prst="rect">
            <a:avLst/>
          </a:prstGeom>
          <a:ln w="0">
            <a:noFill/>
          </a:ln>
        </p:spPr>
      </p:pic>
      <p:pic>
        <p:nvPicPr>
          <p:cNvPr id="392" name="tyu" descr=""/>
          <p:cNvPicPr/>
          <p:nvPr/>
        </p:nvPicPr>
        <p:blipFill>
          <a:blip r:embed="rId6"/>
          <a:stretch/>
        </p:blipFill>
        <p:spPr>
          <a:xfrm>
            <a:off x="2349360" y="4191120"/>
            <a:ext cx="838440" cy="304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578680" y="449568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94600" y="449568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74440" y="4495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20880" y="4495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851520" y="4343400"/>
            <a:ext cx="1219320" cy="0"/>
            <a:chOff x="6851520" y="4343400"/>
            <a:chExt cx="1219320" cy="0"/>
          </a:xfrm>
        </p:grpSpPr>
        <p:sp>
          <p:nvSpPr>
            <p:cNvPr id="398" name=""/>
            <p:cNvSpPr/>
            <p:nvPr/>
          </p:nvSpPr>
          <p:spPr>
            <a:xfrm>
              <a:off x="6851520" y="4343400"/>
              <a:ext cx="53352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13640" y="4343400"/>
              <a:ext cx="45720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852600" y="373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38400" y="373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tyu" descr=""/>
          <p:cNvPicPr/>
          <p:nvPr/>
        </p:nvPicPr>
        <p:blipFill>
          <a:blip r:embed="rId7"/>
          <a:stretch/>
        </p:blipFill>
        <p:spPr>
          <a:xfrm>
            <a:off x="4413240" y="4191120"/>
            <a:ext cx="838080" cy="304560"/>
          </a:xfrm>
          <a:prstGeom prst="rect">
            <a:avLst/>
          </a:prstGeom>
          <a:ln w="0">
            <a:noFill/>
          </a:ln>
        </p:spPr>
      </p:pic>
      <p:pic>
        <p:nvPicPr>
          <p:cNvPr id="403" name="tyu" descr=""/>
          <p:cNvPicPr/>
          <p:nvPr/>
        </p:nvPicPr>
        <p:blipFill>
          <a:blip r:embed="rId8"/>
          <a:stretch/>
        </p:blipFill>
        <p:spPr>
          <a:xfrm>
            <a:off x="5327640" y="4191120"/>
            <a:ext cx="83808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265040" y="36576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312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4668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8188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00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377800" y="487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029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590920" y="1066680"/>
            <a:ext cx="4419360" cy="1219320"/>
          </a:xfrm>
          <a:prstGeom prst="cloudCallout">
            <a:avLst>
              <a:gd name="adj1" fmla="val -42671"/>
              <a:gd name="adj2" fmla="val 70050"/>
            </a:avLst>
          </a:prstGeom>
          <a:solidFill>
            <a:srgbClr val="ffff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一想：下一个数是多少？你是怎样想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40080" y="2787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78160" y="2787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7200" y="2787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98960" y="2787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84360" y="3854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22800" y="3854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81480" y="3854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95880" y="3854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40520" y="3352680"/>
            <a:ext cx="53316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40520" y="4419720"/>
            <a:ext cx="53316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66000" y="2787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66000" y="3809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0:51:07Z</dcterms:created>
  <dc:creator>ww</dc:creator>
  <dc:description/>
  <dc:language>en-US</dc:language>
  <cp:lastModifiedBy>qin</cp:lastModifiedBy>
  <dcterms:modified xsi:type="dcterms:W3CDTF">2003-05-22T13:38:05Z</dcterms:modified>
  <cp:revision>26</cp:revision>
  <dc:subject/>
  <dc:title>PowerPoint 演示文稿</dc:title>
</cp:coreProperties>
</file>