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5F0D-DDC4-4586-B176-7A9F44B3A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ACEE-1ECB-4866-9E95-B8909245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607F-A59D-444E-A1BA-3E17BB9A6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B434-131C-4BB8-ABEC-0EC180C6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49F1-DCCF-42A9-8473-D3146B42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974B-38F7-4B7D-A6D2-EBBDD9B8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8B0F-B555-4837-841C-B43C7AA0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B099-989F-43AE-A9FD-E71B86AD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83FE-9ADC-4319-8B93-5344EE48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9C53-6FE5-4390-B374-28C07A5A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ED3D-A79D-4CB4-8B87-7A2E07E8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F79E-6F67-48F7-85E9-1B425A58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979C-5C8A-4E38-836F-C7AB57377C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295280"/>
            <a:ext cx="81532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Times New Roman"/>
              </a:rPr>
              <a:t>智力游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Times New Roman"/>
              </a:rPr>
              <a:t>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086" descr=""/>
          <p:cNvPicPr/>
          <p:nvPr/>
        </p:nvPicPr>
        <p:blipFill>
          <a:blip r:embed="rId2">
            <a:lum contrast="24000"/>
          </a:blip>
          <a:srcRect l="9978" t="23084" r="75721" b="67714"/>
          <a:stretch/>
        </p:blipFill>
        <p:spPr>
          <a:xfrm>
            <a:off x="228600" y="43434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43" name="086" descr=""/>
          <p:cNvPicPr/>
          <p:nvPr/>
        </p:nvPicPr>
        <p:blipFill>
          <a:blip r:embed="rId3">
            <a:lum contrast="36000"/>
          </a:blip>
          <a:srcRect l="27389" t="960" r="28458" b="87940"/>
          <a:stretch/>
        </p:blipFill>
        <p:spPr>
          <a:xfrm>
            <a:off x="2133720" y="304920"/>
            <a:ext cx="4495680" cy="1755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2286000"/>
            <a:ext cx="8534160" cy="916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从右边选出一个图形，和左边的拼成正方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086" descr=""/>
          <p:cNvPicPr/>
          <p:nvPr/>
        </p:nvPicPr>
        <p:blipFill>
          <a:blip r:embed="rId4">
            <a:lum contrast="24000"/>
          </a:blip>
          <a:srcRect l="28809" t="23084" r="8683" b="67129"/>
          <a:stretch/>
        </p:blipFill>
        <p:spPr>
          <a:xfrm>
            <a:off x="2362320" y="4343400"/>
            <a:ext cx="6324480" cy="1539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0020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5638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086" descr=""/>
          <p:cNvPicPr/>
          <p:nvPr/>
        </p:nvPicPr>
        <p:blipFill>
          <a:blip r:embed="rId2">
            <a:lum contrast="36000"/>
          </a:blip>
          <a:srcRect l="27389" t="960" r="28458" b="87940"/>
          <a:stretch/>
        </p:blipFill>
        <p:spPr>
          <a:xfrm>
            <a:off x="2133720" y="304920"/>
            <a:ext cx="4495680" cy="1755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2286000"/>
            <a:ext cx="8534160" cy="916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从右边选出一个图形，和左边的拼成正方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086" descr=""/>
          <p:cNvPicPr/>
          <p:nvPr/>
        </p:nvPicPr>
        <p:blipFill>
          <a:blip r:embed="rId3"/>
          <a:srcRect l="28665" t="34623" r="10526" b="56111"/>
          <a:stretch/>
        </p:blipFill>
        <p:spPr>
          <a:xfrm>
            <a:off x="2514600" y="4495680"/>
            <a:ext cx="5791320" cy="1371600"/>
          </a:xfrm>
          <a:prstGeom prst="rect">
            <a:avLst/>
          </a:prstGeom>
          <a:ln w="0">
            <a:noFill/>
          </a:ln>
        </p:spPr>
      </p:pic>
      <p:pic>
        <p:nvPicPr>
          <p:cNvPr id="51" name="086" descr=""/>
          <p:cNvPicPr/>
          <p:nvPr/>
        </p:nvPicPr>
        <p:blipFill>
          <a:blip r:embed="rId4"/>
          <a:srcRect l="10265" t="34623" r="75344" b="56111"/>
          <a:stretch/>
        </p:blipFill>
        <p:spPr>
          <a:xfrm>
            <a:off x="533520" y="44956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10080" y="53341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086" descr=""/>
          <p:cNvPicPr/>
          <p:nvPr/>
        </p:nvPicPr>
        <p:blipFill>
          <a:blip r:embed="rId2">
            <a:lum contrast="36000"/>
          </a:blip>
          <a:srcRect l="27389" t="960" r="28458" b="87940"/>
          <a:stretch/>
        </p:blipFill>
        <p:spPr>
          <a:xfrm>
            <a:off x="2133720" y="304920"/>
            <a:ext cx="4495680" cy="1755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2286000"/>
            <a:ext cx="8534160" cy="916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从右边选出一个图形，和左边的拼成正方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56689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086" descr=""/>
          <p:cNvPicPr/>
          <p:nvPr/>
        </p:nvPicPr>
        <p:blipFill>
          <a:blip r:embed="rId3"/>
          <a:srcRect l="30526" t="45115" r="9564" b="43866"/>
          <a:stretch/>
        </p:blipFill>
        <p:spPr>
          <a:xfrm>
            <a:off x="2057400" y="4267080"/>
            <a:ext cx="5791320" cy="1654200"/>
          </a:xfrm>
          <a:prstGeom prst="rect">
            <a:avLst/>
          </a:prstGeom>
          <a:ln w="0">
            <a:noFill/>
          </a:ln>
        </p:spPr>
      </p:pic>
      <p:pic>
        <p:nvPicPr>
          <p:cNvPr id="57" name="086" descr=""/>
          <p:cNvPicPr/>
          <p:nvPr/>
        </p:nvPicPr>
        <p:blipFill>
          <a:blip r:embed="rId4"/>
          <a:srcRect l="10148" t="45115" r="80521" b="43866"/>
          <a:stretch/>
        </p:blipFill>
        <p:spPr>
          <a:xfrm>
            <a:off x="457200" y="4267080"/>
            <a:ext cx="996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086" descr=""/>
          <p:cNvPicPr/>
          <p:nvPr/>
        </p:nvPicPr>
        <p:blipFill>
          <a:blip r:embed="rId2">
            <a:lum contrast="36000"/>
          </a:blip>
          <a:srcRect l="9151" t="66638" r="7551" b="4228"/>
          <a:stretch/>
        </p:blipFill>
        <p:spPr>
          <a:xfrm>
            <a:off x="228600" y="2666880"/>
            <a:ext cx="8763120" cy="4191120"/>
          </a:xfrm>
          <a:prstGeom prst="rect">
            <a:avLst/>
          </a:prstGeom>
          <a:ln w="0">
            <a:noFill/>
          </a:ln>
        </p:spPr>
      </p:pic>
      <p:pic>
        <p:nvPicPr>
          <p:cNvPr id="59" name="086" descr=""/>
          <p:cNvPicPr/>
          <p:nvPr/>
        </p:nvPicPr>
        <p:blipFill>
          <a:blip r:embed="rId3">
            <a:lum contrast="36000"/>
          </a:blip>
          <a:srcRect l="27389" t="960" r="28458" b="87940"/>
          <a:stretch/>
        </p:blipFill>
        <p:spPr>
          <a:xfrm>
            <a:off x="0" y="0"/>
            <a:ext cx="2895480" cy="2286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95480" y="0"/>
            <a:ext cx="5867640" cy="916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从右边的图形里各选出两个，把它们拼成左边的图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42900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772400" y="34290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8006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924680" y="472428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59436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5943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600200" y="228600"/>
            <a:ext cx="5410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动动脑，想一想。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8" name="99" descr=""/>
          <p:cNvPicPr/>
          <p:nvPr/>
        </p:nvPicPr>
        <p:blipFill>
          <a:blip r:embed="rId2"/>
          <a:srcRect l="50908" t="6918" r="867" b="4901"/>
          <a:stretch/>
        </p:blipFill>
        <p:spPr>
          <a:xfrm>
            <a:off x="0" y="1828800"/>
            <a:ext cx="2743200" cy="3886200"/>
          </a:xfrm>
          <a:prstGeom prst="rect">
            <a:avLst/>
          </a:prstGeom>
          <a:ln w="0">
            <a:noFill/>
          </a:ln>
        </p:spPr>
      </p:pic>
      <p:pic>
        <p:nvPicPr>
          <p:cNvPr id="69" name="99" descr=""/>
          <p:cNvPicPr/>
          <p:nvPr/>
        </p:nvPicPr>
        <p:blipFill>
          <a:blip r:embed="rId3"/>
          <a:srcRect l="0" t="41501" r="62491" b="6632"/>
          <a:stretch/>
        </p:blipFill>
        <p:spPr>
          <a:xfrm>
            <a:off x="6781680" y="1295280"/>
            <a:ext cx="2133720" cy="2286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48120" y="1676520"/>
            <a:ext cx="3200400" cy="1739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用玻璃瓶能做什么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71800" y="4038480"/>
            <a:ext cx="58672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然是用它装酒；也可以用它装油、装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还可以用它养花；还可以用它玩保龄球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还可以把某些需要长时间保存的食物封在玻璃瓶里高温灭菌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3T00:21:40Z</dcterms:created>
  <dc:creator>ww</dc:creator>
  <dc:description/>
  <dc:language>en-US</dc:language>
  <cp:lastModifiedBy>wang</cp:lastModifiedBy>
  <dcterms:modified xsi:type="dcterms:W3CDTF">2004-01-13T01:35:19Z</dcterms:modified>
  <cp:revision>15</cp:revision>
  <dc:subject/>
  <dc:title>PowerPoint 演示文稿</dc:title>
</cp:coreProperties>
</file>