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DBB-FE6E-401B-B065-0A8E6F0C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47B-0A0E-4783-9B14-8A2568E8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00C-8D7B-4D26-BCE0-A4CCF11E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577-4937-43E5-9A2E-1ACF9B21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2987-9336-42DB-9B27-E9E1BDF8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2617-48CA-44CB-8892-652E88D5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BF7C-F28C-40CF-8457-C7B16B89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35B1-7322-4813-B958-3D51FB73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FE4E-2B01-4996-A565-0E126691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B768-0F0D-4A07-951B-A607BF6B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8B56-9677-4006-8282-69069BD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3EC-4D33-4774-9AAE-0AA72813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8605-D1F8-40DF-82DC-69D03EDC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3EAD-C405-4DDD-8E21-767122B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222A-2B75-42DC-8ADF-04C75C2C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6196-5B9A-47FC-8834-BC08925F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01DF-1DB2-4E14-8396-522DE7C5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79B-B068-4391-97C3-3A148F86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89B-A1BA-46DA-A59B-13BB6638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24B-0288-4E51-BC11-FAB06C1A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CA1-F7ED-4023-85DE-9C13A46B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41E-A737-42D6-A17E-1D3FC9C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AC9-EA55-4146-9098-E1BFFDF5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343-B40A-4020-8497-86801E2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7C02-91C6-42BE-A8FE-0A29A3DFF91E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8C2A-D82E-486D-8AC9-FB75928A15E7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81800" cy="688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40000" y="2781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ahoma"/>
                <a:ea typeface="华文新魏"/>
              </a:rPr>
              <a:t>巩固与练习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59040" y="765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下一个是什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请你圈出来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943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40328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1916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262728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3850920" y="2060640"/>
            <a:ext cx="43164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507672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227640" y="2048040"/>
            <a:ext cx="432000" cy="3729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5080" y="1916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1916280"/>
            <a:ext cx="50328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49228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0360" y="1916280"/>
            <a:ext cx="1224000" cy="57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7525800" y="2133360"/>
            <a:ext cx="358920" cy="2156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02520" y="2014560"/>
            <a:ext cx="357120" cy="33480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28000" y="1989000"/>
            <a:ext cx="504720" cy="43200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213000"/>
            <a:ext cx="360360" cy="3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3213000"/>
            <a:ext cx="360360" cy="36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321300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3213000"/>
            <a:ext cx="360360" cy="3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3213000"/>
            <a:ext cx="360360" cy="36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321300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3213000"/>
            <a:ext cx="360360" cy="3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3213000"/>
            <a:ext cx="432000" cy="360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3716280"/>
            <a:ext cx="64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3139920"/>
            <a:ext cx="18003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3286080"/>
            <a:ext cx="288720" cy="287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28000" y="328608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1989000"/>
            <a:ext cx="504720" cy="4320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1916280"/>
            <a:ext cx="502920" cy="477720"/>
          </a:xfrm>
          <a:prstGeom prst="star5">
            <a:avLst/>
          </a:prstGeom>
          <a:solidFill>
            <a:srgbClr val="ff993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7800" y="3284640"/>
            <a:ext cx="287280" cy="28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3213000"/>
            <a:ext cx="576360" cy="432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213000"/>
            <a:ext cx="576360" cy="4320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213000"/>
            <a:ext cx="360360" cy="36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6560" y="4292640"/>
            <a:ext cx="505080" cy="647280"/>
            <a:chOff x="466560" y="4292640"/>
            <a:chExt cx="505080" cy="647280"/>
          </a:xfrm>
        </p:grpSpPr>
        <p:sp>
          <p:nvSpPr>
            <p:cNvPr id="144" name=""/>
            <p:cNvSpPr/>
            <p:nvPr/>
          </p:nvSpPr>
          <p:spPr>
            <a:xfrm>
              <a:off x="466560" y="4492080"/>
              <a:ext cx="505080" cy="4478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520" y="4591080"/>
              <a:ext cx="173880" cy="7560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600" y="4362840"/>
              <a:ext cx="104040" cy="26676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8400" y="4292640"/>
              <a:ext cx="91080" cy="199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69840" y="4437000"/>
            <a:ext cx="878400" cy="614160"/>
            <a:chOff x="969840" y="4437000"/>
            <a:chExt cx="878400" cy="614160"/>
          </a:xfrm>
        </p:grpSpPr>
        <p:grpSp>
          <p:nvGrpSpPr>
            <p:cNvPr id="149" name=""/>
            <p:cNvGrpSpPr/>
            <p:nvPr/>
          </p:nvGrpSpPr>
          <p:grpSpPr>
            <a:xfrm>
              <a:off x="969840" y="4796640"/>
              <a:ext cx="477000" cy="200520"/>
              <a:chOff x="969840" y="4796640"/>
              <a:chExt cx="477000" cy="200520"/>
            </a:xfrm>
          </p:grpSpPr>
          <p:sp>
            <p:nvSpPr>
              <p:cNvPr id="150" name=""/>
              <p:cNvSpPr/>
              <p:nvPr/>
            </p:nvSpPr>
            <p:spPr>
              <a:xfrm>
                <a:off x="969840" y="479664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7920" y="483084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40480" y="482184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54600" y="494748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097280" y="4437000"/>
              <a:ext cx="499320" cy="48492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340280" y="4619160"/>
              <a:ext cx="507960" cy="432000"/>
              <a:chOff x="1340280" y="4619160"/>
              <a:chExt cx="507960" cy="432000"/>
            </a:xfrm>
          </p:grpSpPr>
          <p:sp>
            <p:nvSpPr>
              <p:cNvPr id="156" name=""/>
              <p:cNvSpPr/>
              <p:nvPr/>
            </p:nvSpPr>
            <p:spPr>
              <a:xfrm rot="8767800">
                <a:off x="1355760" y="473472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8767800">
                <a:off x="1382400" y="478476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8767800">
                <a:off x="1568880" y="478080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8767800">
                <a:off x="1448280" y="481536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762200" y="4338360"/>
            <a:ext cx="728280" cy="697320"/>
            <a:chOff x="1762200" y="4338360"/>
            <a:chExt cx="728280" cy="697320"/>
          </a:xfrm>
        </p:grpSpPr>
        <p:sp>
          <p:nvSpPr>
            <p:cNvPr id="161" name=""/>
            <p:cNvSpPr/>
            <p:nvPr/>
          </p:nvSpPr>
          <p:spPr>
            <a:xfrm>
              <a:off x="1762200" y="4365720"/>
              <a:ext cx="187920" cy="19512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766520" y="4338360"/>
              <a:ext cx="723960" cy="697320"/>
              <a:chOff x="1766520" y="4338360"/>
              <a:chExt cx="723960" cy="697320"/>
            </a:xfrm>
          </p:grpSpPr>
          <p:sp>
            <p:nvSpPr>
              <p:cNvPr id="163" name=""/>
              <p:cNvSpPr/>
              <p:nvPr/>
            </p:nvSpPr>
            <p:spPr>
              <a:xfrm rot="1513800">
                <a:off x="1847160" y="4433760"/>
                <a:ext cx="561960" cy="506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95760" y="4447440"/>
                <a:ext cx="447120" cy="428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47520" y="4623120"/>
                <a:ext cx="357840" cy="3164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52360" y="4433760"/>
                <a:ext cx="306360" cy="37908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282400" y="4754520"/>
              <a:ext cx="12708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53880" y="4813200"/>
              <a:ext cx="12744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473000">
              <a:off x="2241720" y="4823280"/>
              <a:ext cx="127800" cy="101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82920" y="4292640"/>
            <a:ext cx="542880" cy="701640"/>
            <a:chOff x="2482920" y="4292640"/>
            <a:chExt cx="542880" cy="701640"/>
          </a:xfrm>
        </p:grpSpPr>
        <p:sp>
          <p:nvSpPr>
            <p:cNvPr id="171" name=""/>
            <p:cNvSpPr/>
            <p:nvPr/>
          </p:nvSpPr>
          <p:spPr>
            <a:xfrm>
              <a:off x="2482920" y="4410720"/>
              <a:ext cx="542880" cy="58356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80280" y="4292640"/>
              <a:ext cx="68760" cy="12816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67240" y="452736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89280" y="4492800"/>
              <a:ext cx="40680" cy="3456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9600" y="459720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0640" y="452736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70640" y="44582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7560" y="44582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01840" y="4365720"/>
            <a:ext cx="505080" cy="647280"/>
            <a:chOff x="3201840" y="4365720"/>
            <a:chExt cx="505080" cy="647280"/>
          </a:xfrm>
        </p:grpSpPr>
        <p:sp>
          <p:nvSpPr>
            <p:cNvPr id="180" name=""/>
            <p:cNvSpPr/>
            <p:nvPr/>
          </p:nvSpPr>
          <p:spPr>
            <a:xfrm>
              <a:off x="3201840" y="4565160"/>
              <a:ext cx="505080" cy="4478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5800" y="4664160"/>
              <a:ext cx="173880" cy="7560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67880" y="4435920"/>
              <a:ext cx="104040" cy="26676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3680" y="4365720"/>
              <a:ext cx="91080" cy="199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706920" y="4510080"/>
            <a:ext cx="878400" cy="614160"/>
            <a:chOff x="3706920" y="4510080"/>
            <a:chExt cx="878400" cy="614160"/>
          </a:xfrm>
        </p:grpSpPr>
        <p:grpSp>
          <p:nvGrpSpPr>
            <p:cNvPr id="185" name=""/>
            <p:cNvGrpSpPr/>
            <p:nvPr/>
          </p:nvGrpSpPr>
          <p:grpSpPr>
            <a:xfrm>
              <a:off x="3706920" y="4869720"/>
              <a:ext cx="477000" cy="200520"/>
              <a:chOff x="3706920" y="4869720"/>
              <a:chExt cx="477000" cy="200520"/>
            </a:xfrm>
          </p:grpSpPr>
          <p:sp>
            <p:nvSpPr>
              <p:cNvPr id="186" name=""/>
              <p:cNvSpPr/>
              <p:nvPr/>
            </p:nvSpPr>
            <p:spPr>
              <a:xfrm>
                <a:off x="3706920" y="486972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35000" y="490392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77560" y="489492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91680" y="502056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834360" y="4510080"/>
              <a:ext cx="499320" cy="48492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077360" y="4692240"/>
              <a:ext cx="507960" cy="432000"/>
              <a:chOff x="4077360" y="4692240"/>
              <a:chExt cx="507960" cy="432000"/>
            </a:xfrm>
          </p:grpSpPr>
          <p:sp>
            <p:nvSpPr>
              <p:cNvPr id="192" name=""/>
              <p:cNvSpPr/>
              <p:nvPr/>
            </p:nvSpPr>
            <p:spPr>
              <a:xfrm rot="8767800">
                <a:off x="4092840" y="480780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8767800">
                <a:off x="4119480" y="485784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8767800">
                <a:off x="4305960" y="485388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8767800">
                <a:off x="4185360" y="488844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4498920" y="4411440"/>
            <a:ext cx="728280" cy="697320"/>
            <a:chOff x="4498920" y="4411440"/>
            <a:chExt cx="728280" cy="697320"/>
          </a:xfrm>
        </p:grpSpPr>
        <p:sp>
          <p:nvSpPr>
            <p:cNvPr id="197" name=""/>
            <p:cNvSpPr/>
            <p:nvPr/>
          </p:nvSpPr>
          <p:spPr>
            <a:xfrm>
              <a:off x="4498920" y="4438800"/>
              <a:ext cx="187920" cy="19512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503240" y="4411440"/>
              <a:ext cx="723960" cy="697320"/>
              <a:chOff x="4503240" y="4411440"/>
              <a:chExt cx="723960" cy="697320"/>
            </a:xfrm>
          </p:grpSpPr>
          <p:sp>
            <p:nvSpPr>
              <p:cNvPr id="199" name=""/>
              <p:cNvSpPr/>
              <p:nvPr/>
            </p:nvSpPr>
            <p:spPr>
              <a:xfrm rot="1513800">
                <a:off x="4583880" y="4506840"/>
                <a:ext cx="561960" cy="506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32480" y="4520520"/>
                <a:ext cx="447120" cy="428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84240" y="4696200"/>
                <a:ext cx="357840" cy="3164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89080" y="4506840"/>
                <a:ext cx="306360" cy="37908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019120" y="4827600"/>
              <a:ext cx="12708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90600" y="4886280"/>
              <a:ext cx="12744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473000">
              <a:off x="4978440" y="4896360"/>
              <a:ext cx="127800" cy="101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80040" y="4365720"/>
            <a:ext cx="542880" cy="701640"/>
            <a:chOff x="5180040" y="4365720"/>
            <a:chExt cx="542880" cy="701640"/>
          </a:xfrm>
        </p:grpSpPr>
        <p:sp>
          <p:nvSpPr>
            <p:cNvPr id="207" name=""/>
            <p:cNvSpPr/>
            <p:nvPr/>
          </p:nvSpPr>
          <p:spPr>
            <a:xfrm>
              <a:off x="5180040" y="4483800"/>
              <a:ext cx="542880" cy="58356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7400" y="4365720"/>
              <a:ext cx="68760" cy="12816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6436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86400" y="4565880"/>
              <a:ext cx="40680" cy="3456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26720" y="467028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776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6776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0468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867280" y="4365720"/>
            <a:ext cx="505080" cy="647280"/>
            <a:chOff x="5867280" y="4365720"/>
            <a:chExt cx="505080" cy="647280"/>
          </a:xfrm>
        </p:grpSpPr>
        <p:sp>
          <p:nvSpPr>
            <p:cNvPr id="216" name=""/>
            <p:cNvSpPr/>
            <p:nvPr/>
          </p:nvSpPr>
          <p:spPr>
            <a:xfrm>
              <a:off x="5867280" y="4565160"/>
              <a:ext cx="505080" cy="4478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1240" y="4664160"/>
              <a:ext cx="173880" cy="7560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33320" y="4435920"/>
              <a:ext cx="104040" cy="26676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89120" y="4365720"/>
              <a:ext cx="91080" cy="199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372360" y="4510080"/>
            <a:ext cx="878400" cy="614160"/>
            <a:chOff x="6372360" y="4510080"/>
            <a:chExt cx="878400" cy="614160"/>
          </a:xfrm>
        </p:grpSpPr>
        <p:grpSp>
          <p:nvGrpSpPr>
            <p:cNvPr id="221" name=""/>
            <p:cNvGrpSpPr/>
            <p:nvPr/>
          </p:nvGrpSpPr>
          <p:grpSpPr>
            <a:xfrm>
              <a:off x="6372360" y="4869720"/>
              <a:ext cx="477000" cy="200520"/>
              <a:chOff x="6372360" y="4869720"/>
              <a:chExt cx="477000" cy="200520"/>
            </a:xfrm>
          </p:grpSpPr>
          <p:sp>
            <p:nvSpPr>
              <p:cNvPr id="222" name=""/>
              <p:cNvSpPr/>
              <p:nvPr/>
            </p:nvSpPr>
            <p:spPr>
              <a:xfrm>
                <a:off x="6372360" y="486972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00440" y="490392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43000" y="489492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57120" y="502056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499800" y="4510080"/>
              <a:ext cx="499320" cy="48492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6742800" y="4692240"/>
              <a:ext cx="507960" cy="432000"/>
              <a:chOff x="6742800" y="4692240"/>
              <a:chExt cx="507960" cy="432000"/>
            </a:xfrm>
          </p:grpSpPr>
          <p:sp>
            <p:nvSpPr>
              <p:cNvPr id="228" name=""/>
              <p:cNvSpPr/>
              <p:nvPr/>
            </p:nvSpPr>
            <p:spPr>
              <a:xfrm rot="8767800">
                <a:off x="6758280" y="4807800"/>
                <a:ext cx="477000" cy="2005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8767800">
                <a:off x="6784920" y="4857840"/>
                <a:ext cx="426960" cy="11628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8767800">
                <a:off x="6971400" y="4853880"/>
                <a:ext cx="99360" cy="11628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8767800">
                <a:off x="6850800" y="4888440"/>
                <a:ext cx="78120" cy="2736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7845480" y="4365720"/>
            <a:ext cx="542880" cy="701640"/>
            <a:chOff x="7845480" y="4365720"/>
            <a:chExt cx="542880" cy="701640"/>
          </a:xfrm>
        </p:grpSpPr>
        <p:sp>
          <p:nvSpPr>
            <p:cNvPr id="233" name=""/>
            <p:cNvSpPr/>
            <p:nvPr/>
          </p:nvSpPr>
          <p:spPr>
            <a:xfrm>
              <a:off x="7845480" y="4483800"/>
              <a:ext cx="542880" cy="58356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42840" y="4365720"/>
              <a:ext cx="68760" cy="12816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2980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51840" y="4565880"/>
              <a:ext cx="40680" cy="3456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92160" y="467028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33200" y="460044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3320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70120" y="4531320"/>
              <a:ext cx="41040" cy="3420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236000" y="5157720"/>
            <a:ext cx="64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64000" y="5445000"/>
            <a:ext cx="345780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24520" y="5505480"/>
            <a:ext cx="412920" cy="434880"/>
            <a:chOff x="5924520" y="5505480"/>
            <a:chExt cx="412920" cy="434880"/>
          </a:xfrm>
        </p:grpSpPr>
        <p:sp>
          <p:nvSpPr>
            <p:cNvPr id="244" name=""/>
            <p:cNvSpPr/>
            <p:nvPr/>
          </p:nvSpPr>
          <p:spPr>
            <a:xfrm>
              <a:off x="5924520" y="5639400"/>
              <a:ext cx="412920" cy="300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75000" y="5705640"/>
              <a:ext cx="142200" cy="50760"/>
            </a:xfrm>
            <a:custGeom>
              <a:avLst/>
              <a:gdLst/>
              <a:ahLst/>
              <a:rect l="l" t="t" r="r" b="b"/>
              <a:pathLst>
                <a:path w="218" h="72">
                  <a:moveTo>
                    <a:pt x="0" y="0"/>
                  </a:moveTo>
                  <a:cubicBezTo>
                    <a:pt x="13" y="4"/>
                    <a:pt x="27" y="6"/>
                    <a:pt x="39" y="13"/>
                  </a:cubicBezTo>
                  <a:cubicBezTo>
                    <a:pt x="66" y="28"/>
                    <a:pt x="116" y="64"/>
                    <a:pt x="116" y="64"/>
                  </a:cubicBezTo>
                  <a:cubicBezTo>
                    <a:pt x="211" y="50"/>
                    <a:pt x="184" y="72"/>
                    <a:pt x="218" y="3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41960" y="5552280"/>
              <a:ext cx="84960" cy="178920"/>
            </a:xfrm>
            <a:custGeom>
              <a:avLst/>
              <a:gdLst/>
              <a:ahLst/>
              <a:rect l="l" t="t" r="r" b="b"/>
              <a:pathLst>
                <a:path w="103" h="243">
                  <a:moveTo>
                    <a:pt x="0" y="243"/>
                  </a:moveTo>
                  <a:cubicBezTo>
                    <a:pt x="12" y="182"/>
                    <a:pt x="32" y="123"/>
                    <a:pt x="51" y="64"/>
                  </a:cubicBezTo>
                  <a:cubicBezTo>
                    <a:pt x="55" y="51"/>
                    <a:pt x="56" y="36"/>
                    <a:pt x="64" y="26"/>
                  </a:cubicBezTo>
                  <a:cubicBezTo>
                    <a:pt x="74" y="14"/>
                    <a:pt x="103" y="0"/>
                    <a:pt x="103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7680" y="5505480"/>
              <a:ext cx="74160" cy="133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467400" y="5632560"/>
            <a:ext cx="710640" cy="430200"/>
            <a:chOff x="6467400" y="5632560"/>
            <a:chExt cx="710640" cy="430200"/>
          </a:xfrm>
        </p:grpSpPr>
        <p:grpSp>
          <p:nvGrpSpPr>
            <p:cNvPr id="249" name=""/>
            <p:cNvGrpSpPr/>
            <p:nvPr/>
          </p:nvGrpSpPr>
          <p:grpSpPr>
            <a:xfrm>
              <a:off x="6467400" y="5872680"/>
              <a:ext cx="390240" cy="133920"/>
              <a:chOff x="6467400" y="5872680"/>
              <a:chExt cx="390240" cy="133920"/>
            </a:xfrm>
          </p:grpSpPr>
          <p:sp>
            <p:nvSpPr>
              <p:cNvPr id="250" name=""/>
              <p:cNvSpPr/>
              <p:nvPr/>
            </p:nvSpPr>
            <p:spPr>
              <a:xfrm>
                <a:off x="6467400" y="5872680"/>
                <a:ext cx="390240" cy="1339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90440" y="5895360"/>
                <a:ext cx="349200" cy="7776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07080" y="5889240"/>
                <a:ext cx="81360" cy="7776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00320" y="5973480"/>
                <a:ext cx="64080" cy="1800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571800" y="5632560"/>
              <a:ext cx="408600" cy="324000"/>
            </a:xfrm>
            <a:custGeom>
              <a:avLst/>
              <a:gdLst/>
              <a:ahLst/>
              <a:rect l="l" t="t" r="r" b="b"/>
              <a:pathLst>
                <a:path w="641" h="678">
                  <a:moveTo>
                    <a:pt x="232" y="51"/>
                  </a:moveTo>
                  <a:cubicBezTo>
                    <a:pt x="301" y="56"/>
                    <a:pt x="377" y="43"/>
                    <a:pt x="437" y="76"/>
                  </a:cubicBezTo>
                  <a:cubicBezTo>
                    <a:pt x="464" y="91"/>
                    <a:pt x="487" y="111"/>
                    <a:pt x="513" y="128"/>
                  </a:cubicBezTo>
                  <a:cubicBezTo>
                    <a:pt x="526" y="137"/>
                    <a:pt x="552" y="153"/>
                    <a:pt x="552" y="153"/>
                  </a:cubicBezTo>
                  <a:cubicBezTo>
                    <a:pt x="616" y="250"/>
                    <a:pt x="595" y="203"/>
                    <a:pt x="629" y="307"/>
                  </a:cubicBezTo>
                  <a:cubicBezTo>
                    <a:pt x="633" y="320"/>
                    <a:pt x="641" y="345"/>
                    <a:pt x="641" y="345"/>
                  </a:cubicBezTo>
                  <a:cubicBezTo>
                    <a:pt x="639" y="359"/>
                    <a:pt x="631" y="469"/>
                    <a:pt x="616" y="499"/>
                  </a:cubicBezTo>
                  <a:cubicBezTo>
                    <a:pt x="560" y="612"/>
                    <a:pt x="476" y="649"/>
                    <a:pt x="360" y="678"/>
                  </a:cubicBezTo>
                  <a:cubicBezTo>
                    <a:pt x="256" y="665"/>
                    <a:pt x="142" y="662"/>
                    <a:pt x="53" y="601"/>
                  </a:cubicBezTo>
                  <a:cubicBezTo>
                    <a:pt x="0" y="443"/>
                    <a:pt x="29" y="333"/>
                    <a:pt x="142" y="217"/>
                  </a:cubicBezTo>
                  <a:cubicBezTo>
                    <a:pt x="171" y="130"/>
                    <a:pt x="176" y="162"/>
                    <a:pt x="155" y="89"/>
                  </a:cubicBezTo>
                  <a:cubicBezTo>
                    <a:pt x="151" y="76"/>
                    <a:pt x="148" y="63"/>
                    <a:pt x="142" y="51"/>
                  </a:cubicBezTo>
                  <a:cubicBezTo>
                    <a:pt x="135" y="37"/>
                    <a:pt x="106" y="23"/>
                    <a:pt x="117" y="12"/>
                  </a:cubicBezTo>
                  <a:cubicBezTo>
                    <a:pt x="129" y="0"/>
                    <a:pt x="151" y="21"/>
                    <a:pt x="168" y="25"/>
                  </a:cubicBezTo>
                  <a:cubicBezTo>
                    <a:pt x="194" y="42"/>
                    <a:pt x="236" y="47"/>
                    <a:pt x="245" y="76"/>
                  </a:cubicBezTo>
                  <a:cubicBezTo>
                    <a:pt x="262" y="130"/>
                    <a:pt x="249" y="104"/>
                    <a:pt x="283" y="153"/>
                  </a:cubicBezTo>
                  <a:cubicBezTo>
                    <a:pt x="312" y="239"/>
                    <a:pt x="298" y="205"/>
                    <a:pt x="321" y="256"/>
                  </a:cubicBez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779520" y="5734080"/>
              <a:ext cx="398520" cy="328680"/>
              <a:chOff x="6779520" y="5734080"/>
              <a:chExt cx="398520" cy="328680"/>
            </a:xfrm>
          </p:grpSpPr>
          <p:sp>
            <p:nvSpPr>
              <p:cNvPr id="256" name=""/>
              <p:cNvSpPr/>
              <p:nvPr/>
            </p:nvSpPr>
            <p:spPr>
              <a:xfrm rot="8767800">
                <a:off x="6783480" y="5831280"/>
                <a:ext cx="390240" cy="133920"/>
              </a:xfrm>
              <a:custGeom>
                <a:avLst/>
                <a:gdLst/>
                <a:ahLst/>
                <a:rect l="l" t="t" r="r" b="b"/>
                <a:pathLst>
                  <a:path w="858" h="286">
                    <a:moveTo>
                      <a:pt x="858" y="215"/>
                    </a:moveTo>
                    <a:cubicBezTo>
                      <a:pt x="845" y="207"/>
                      <a:pt x="833" y="196"/>
                      <a:pt x="819" y="190"/>
                    </a:cubicBezTo>
                    <a:cubicBezTo>
                      <a:pt x="794" y="179"/>
                      <a:pt x="742" y="164"/>
                      <a:pt x="742" y="164"/>
                    </a:cubicBezTo>
                    <a:cubicBezTo>
                      <a:pt x="729" y="155"/>
                      <a:pt x="718" y="144"/>
                      <a:pt x="704" y="138"/>
                    </a:cubicBezTo>
                    <a:cubicBezTo>
                      <a:pt x="679" y="127"/>
                      <a:pt x="627" y="113"/>
                      <a:pt x="627" y="113"/>
                    </a:cubicBezTo>
                    <a:cubicBezTo>
                      <a:pt x="614" y="104"/>
                      <a:pt x="603" y="94"/>
                      <a:pt x="589" y="87"/>
                    </a:cubicBezTo>
                    <a:cubicBezTo>
                      <a:pt x="577" y="81"/>
                      <a:pt x="562" y="81"/>
                      <a:pt x="550" y="74"/>
                    </a:cubicBezTo>
                    <a:cubicBezTo>
                      <a:pt x="418" y="0"/>
                      <a:pt x="523" y="39"/>
                      <a:pt x="435" y="10"/>
                    </a:cubicBezTo>
                    <a:cubicBezTo>
                      <a:pt x="285" y="20"/>
                      <a:pt x="148" y="45"/>
                      <a:pt x="0" y="62"/>
                    </a:cubicBezTo>
                    <a:cubicBezTo>
                      <a:pt x="51" y="96"/>
                      <a:pt x="103" y="130"/>
                      <a:pt x="154" y="164"/>
                    </a:cubicBezTo>
                    <a:cubicBezTo>
                      <a:pt x="157" y="166"/>
                      <a:pt x="226" y="214"/>
                      <a:pt x="230" y="215"/>
                    </a:cubicBezTo>
                    <a:cubicBezTo>
                      <a:pt x="235" y="217"/>
                      <a:pt x="324" y="247"/>
                      <a:pt x="346" y="254"/>
                    </a:cubicBezTo>
                    <a:cubicBezTo>
                      <a:pt x="359" y="258"/>
                      <a:pt x="371" y="262"/>
                      <a:pt x="384" y="266"/>
                    </a:cubicBezTo>
                    <a:cubicBezTo>
                      <a:pt x="397" y="270"/>
                      <a:pt x="422" y="279"/>
                      <a:pt x="422" y="279"/>
                    </a:cubicBezTo>
                    <a:cubicBezTo>
                      <a:pt x="588" y="272"/>
                      <a:pt x="717" y="286"/>
                      <a:pt x="858" y="215"/>
                    </a:cubicBez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8767800">
                <a:off x="6804720" y="5865480"/>
                <a:ext cx="349200" cy="77760"/>
              </a:xfrm>
              <a:custGeom>
                <a:avLst/>
                <a:gdLst/>
                <a:ahLst/>
                <a:rect l="l" t="t" r="r" b="b"/>
                <a:pathLst>
                  <a:path w="768" h="166">
                    <a:moveTo>
                      <a:pt x="0" y="0"/>
                    </a:moveTo>
                    <a:cubicBezTo>
                      <a:pt x="134" y="43"/>
                      <a:pt x="30" y="9"/>
                      <a:pt x="115" y="38"/>
                    </a:cubicBezTo>
                    <a:cubicBezTo>
                      <a:pt x="128" y="42"/>
                      <a:pt x="154" y="51"/>
                      <a:pt x="154" y="51"/>
                    </a:cubicBezTo>
                    <a:cubicBezTo>
                      <a:pt x="242" y="111"/>
                      <a:pt x="360" y="131"/>
                      <a:pt x="461" y="166"/>
                    </a:cubicBezTo>
                    <a:cubicBezTo>
                      <a:pt x="542" y="161"/>
                      <a:pt x="673" y="141"/>
                      <a:pt x="768" y="14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8767800">
                <a:off x="6956280" y="5860800"/>
                <a:ext cx="81360" cy="7776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0" y="0"/>
                    </a:moveTo>
                    <a:cubicBezTo>
                      <a:pt x="9" y="13"/>
                      <a:pt x="19" y="24"/>
                      <a:pt x="26" y="38"/>
                    </a:cubicBezTo>
                    <a:cubicBezTo>
                      <a:pt x="32" y="50"/>
                      <a:pt x="29" y="67"/>
                      <a:pt x="39" y="77"/>
                    </a:cubicBezTo>
                    <a:cubicBezTo>
                      <a:pt x="48" y="87"/>
                      <a:pt x="65" y="84"/>
                      <a:pt x="77" y="90"/>
                    </a:cubicBezTo>
                    <a:cubicBezTo>
                      <a:pt x="173" y="138"/>
                      <a:pt x="58" y="96"/>
                      <a:pt x="154" y="128"/>
                    </a:cubicBezTo>
                    <a:cubicBezTo>
                      <a:pt x="162" y="141"/>
                      <a:pt x="179" y="166"/>
                      <a:pt x="179" y="16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8767800">
                <a:off x="6864480" y="5892480"/>
                <a:ext cx="64080" cy="1800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0" y="39"/>
                    </a:moveTo>
                    <a:cubicBezTo>
                      <a:pt x="42" y="25"/>
                      <a:pt x="97" y="0"/>
                      <a:pt x="141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7236000" y="5528160"/>
            <a:ext cx="578880" cy="502200"/>
            <a:chOff x="7236000" y="5528160"/>
            <a:chExt cx="578880" cy="502200"/>
          </a:xfrm>
        </p:grpSpPr>
        <p:sp>
          <p:nvSpPr>
            <p:cNvPr id="261" name=""/>
            <p:cNvSpPr/>
            <p:nvPr/>
          </p:nvSpPr>
          <p:spPr>
            <a:xfrm>
              <a:off x="7236000" y="5564160"/>
              <a:ext cx="153360" cy="13068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255440" y="5528160"/>
              <a:ext cx="559440" cy="502200"/>
              <a:chOff x="7255440" y="5528160"/>
              <a:chExt cx="559440" cy="502200"/>
            </a:xfrm>
          </p:grpSpPr>
          <p:sp>
            <p:nvSpPr>
              <p:cNvPr id="263" name=""/>
              <p:cNvSpPr/>
              <p:nvPr/>
            </p:nvSpPr>
            <p:spPr>
              <a:xfrm rot="1513800">
                <a:off x="7305840" y="5609520"/>
                <a:ext cx="458640" cy="339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45080" y="5618880"/>
                <a:ext cx="365040" cy="28692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05840" y="5736960"/>
                <a:ext cx="292320" cy="212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72880" y="5609880"/>
                <a:ext cx="250200" cy="25380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660440" y="5824800"/>
              <a:ext cx="103680" cy="8604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5680" y="5864040"/>
              <a:ext cx="104040" cy="8604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473000">
              <a:off x="7636680" y="5863680"/>
              <a:ext cx="85680" cy="8244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945560" y="5516640"/>
            <a:ext cx="442800" cy="471240"/>
            <a:chOff x="7945560" y="5516640"/>
            <a:chExt cx="442800" cy="471240"/>
          </a:xfrm>
        </p:grpSpPr>
        <p:sp>
          <p:nvSpPr>
            <p:cNvPr id="271" name=""/>
            <p:cNvSpPr/>
            <p:nvPr/>
          </p:nvSpPr>
          <p:spPr>
            <a:xfrm>
              <a:off x="7945560" y="5595840"/>
              <a:ext cx="442800" cy="392040"/>
            </a:xfrm>
            <a:custGeom>
              <a:avLst/>
              <a:gdLst/>
              <a:ahLst/>
              <a:rect l="l" t="t" r="r" b="b"/>
              <a:pathLst>
                <a:path w="606" h="760">
                  <a:moveTo>
                    <a:pt x="166" y="102"/>
                  </a:moveTo>
                  <a:cubicBezTo>
                    <a:pt x="208" y="40"/>
                    <a:pt x="245" y="46"/>
                    <a:pt x="307" y="26"/>
                  </a:cubicBezTo>
                  <a:cubicBezTo>
                    <a:pt x="333" y="18"/>
                    <a:pt x="384" y="0"/>
                    <a:pt x="384" y="0"/>
                  </a:cubicBezTo>
                  <a:cubicBezTo>
                    <a:pt x="466" y="21"/>
                    <a:pt x="483" y="17"/>
                    <a:pt x="512" y="102"/>
                  </a:cubicBezTo>
                  <a:cubicBezTo>
                    <a:pt x="516" y="158"/>
                    <a:pt x="518" y="214"/>
                    <a:pt x="524" y="269"/>
                  </a:cubicBezTo>
                  <a:cubicBezTo>
                    <a:pt x="533" y="347"/>
                    <a:pt x="578" y="404"/>
                    <a:pt x="601" y="474"/>
                  </a:cubicBezTo>
                  <a:cubicBezTo>
                    <a:pt x="592" y="560"/>
                    <a:pt x="606" y="624"/>
                    <a:pt x="537" y="678"/>
                  </a:cubicBezTo>
                  <a:cubicBezTo>
                    <a:pt x="513" y="697"/>
                    <a:pt x="489" y="720"/>
                    <a:pt x="460" y="730"/>
                  </a:cubicBezTo>
                  <a:cubicBezTo>
                    <a:pt x="435" y="738"/>
                    <a:pt x="384" y="755"/>
                    <a:pt x="384" y="755"/>
                  </a:cubicBezTo>
                  <a:cubicBezTo>
                    <a:pt x="256" y="747"/>
                    <a:pt x="165" y="760"/>
                    <a:pt x="64" y="691"/>
                  </a:cubicBezTo>
                  <a:cubicBezTo>
                    <a:pt x="5" y="603"/>
                    <a:pt x="21" y="644"/>
                    <a:pt x="0" y="576"/>
                  </a:cubicBezTo>
                  <a:cubicBezTo>
                    <a:pt x="2" y="552"/>
                    <a:pt x="4" y="460"/>
                    <a:pt x="25" y="422"/>
                  </a:cubicBezTo>
                  <a:cubicBezTo>
                    <a:pt x="68" y="345"/>
                    <a:pt x="215" y="200"/>
                    <a:pt x="166" y="10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87840" y="5516640"/>
              <a:ext cx="56160" cy="86040"/>
            </a:xfrm>
            <a:custGeom>
              <a:avLst/>
              <a:gdLst/>
              <a:ahLst/>
              <a:rect l="l" t="t" r="r" b="b"/>
              <a:pathLst>
                <a:path w="77" h="167">
                  <a:moveTo>
                    <a:pt x="0" y="167"/>
                  </a:moveTo>
                  <a:cubicBezTo>
                    <a:pt x="4" y="133"/>
                    <a:pt x="4" y="97"/>
                    <a:pt x="13" y="64"/>
                  </a:cubicBezTo>
                  <a:cubicBezTo>
                    <a:pt x="17" y="49"/>
                    <a:pt x="28" y="37"/>
                    <a:pt x="39" y="26"/>
                  </a:cubicBezTo>
                  <a:cubicBezTo>
                    <a:pt x="50" y="15"/>
                    <a:pt x="77" y="0"/>
                    <a:pt x="77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96040" y="567432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95400" y="5650920"/>
              <a:ext cx="3312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28160" y="572112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62000" y="567432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62000" y="562788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28800" y="5627880"/>
              <a:ext cx="33480" cy="23040"/>
            </a:xfrm>
            <a:prstGeom prst="ellipse">
              <a:avLst/>
            </a:prstGeom>
            <a:solidFill>
              <a:srgbClr val="faf400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164360" y="5516640"/>
            <a:ext cx="647640" cy="576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5516640"/>
            <a:ext cx="647640" cy="57636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164360" y="4481280"/>
            <a:ext cx="728280" cy="697320"/>
            <a:chOff x="7164360" y="4481280"/>
            <a:chExt cx="728280" cy="697320"/>
          </a:xfrm>
        </p:grpSpPr>
        <p:sp>
          <p:nvSpPr>
            <p:cNvPr id="282" name=""/>
            <p:cNvSpPr/>
            <p:nvPr/>
          </p:nvSpPr>
          <p:spPr>
            <a:xfrm>
              <a:off x="7164360" y="4508640"/>
              <a:ext cx="187920" cy="195120"/>
            </a:xfrm>
            <a:custGeom>
              <a:avLst/>
              <a:gdLst/>
              <a:ahLst/>
              <a:rect l="l" t="t" r="r" b="b"/>
              <a:pathLst>
                <a:path w="167" h="140">
                  <a:moveTo>
                    <a:pt x="167" y="140"/>
                  </a:moveTo>
                  <a:cubicBezTo>
                    <a:pt x="152" y="95"/>
                    <a:pt x="148" y="50"/>
                    <a:pt x="103" y="25"/>
                  </a:cubicBezTo>
                  <a:cubicBezTo>
                    <a:pt x="79" y="12"/>
                    <a:pt x="26" y="0"/>
                    <a:pt x="26" y="0"/>
                  </a:cubicBezTo>
                  <a:cubicBezTo>
                    <a:pt x="22" y="13"/>
                    <a:pt x="0" y="34"/>
                    <a:pt x="13" y="38"/>
                  </a:cubicBezTo>
                  <a:cubicBezTo>
                    <a:pt x="92" y="64"/>
                    <a:pt x="95" y="40"/>
                    <a:pt x="11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168680" y="4481280"/>
              <a:ext cx="723960" cy="697320"/>
              <a:chOff x="7168680" y="4481280"/>
              <a:chExt cx="723960" cy="697320"/>
            </a:xfrm>
          </p:grpSpPr>
          <p:sp>
            <p:nvSpPr>
              <p:cNvPr id="284" name=""/>
              <p:cNvSpPr/>
              <p:nvPr/>
            </p:nvSpPr>
            <p:spPr>
              <a:xfrm rot="1513800">
                <a:off x="7249320" y="4576680"/>
                <a:ext cx="561960" cy="506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97920" y="4590360"/>
                <a:ext cx="447120" cy="4280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49680" y="4766040"/>
                <a:ext cx="357840" cy="31644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4520" y="4576680"/>
                <a:ext cx="306360" cy="379080"/>
              </a:xfrm>
              <a:custGeom>
                <a:avLst/>
                <a:gdLst/>
                <a:ahLst/>
                <a:rect l="l" t="t" r="r" b="b"/>
                <a:pathLst>
                  <a:path w="397" h="307">
                    <a:moveTo>
                      <a:pt x="77" y="0"/>
                    </a:moveTo>
                    <a:cubicBezTo>
                      <a:pt x="80" y="0"/>
                      <a:pt x="175" y="11"/>
                      <a:pt x="192" y="25"/>
                    </a:cubicBezTo>
                    <a:cubicBezTo>
                      <a:pt x="204" y="35"/>
                      <a:pt x="210" y="50"/>
                      <a:pt x="217" y="64"/>
                    </a:cubicBezTo>
                    <a:cubicBezTo>
                      <a:pt x="223" y="76"/>
                      <a:pt x="220" y="93"/>
                      <a:pt x="230" y="102"/>
                    </a:cubicBezTo>
                    <a:cubicBezTo>
                      <a:pt x="255" y="127"/>
                      <a:pt x="298" y="121"/>
                      <a:pt x="333" y="128"/>
                    </a:cubicBezTo>
                    <a:cubicBezTo>
                      <a:pt x="316" y="226"/>
                      <a:pt x="308" y="213"/>
                      <a:pt x="397" y="243"/>
                    </a:cubicBezTo>
                    <a:cubicBezTo>
                      <a:pt x="389" y="267"/>
                      <a:pt x="384" y="307"/>
                      <a:pt x="345" y="307"/>
                    </a:cubicBezTo>
                    <a:cubicBezTo>
                      <a:pt x="330" y="307"/>
                      <a:pt x="320" y="290"/>
                      <a:pt x="307" y="281"/>
                    </a:cubicBezTo>
                    <a:cubicBezTo>
                      <a:pt x="273" y="232"/>
                      <a:pt x="235" y="172"/>
                      <a:pt x="179" y="153"/>
                    </a:cubicBezTo>
                    <a:cubicBezTo>
                      <a:pt x="111" y="50"/>
                      <a:pt x="162" y="89"/>
                      <a:pt x="77" y="64"/>
                    </a:cubicBezTo>
                    <a:cubicBezTo>
                      <a:pt x="51" y="56"/>
                      <a:pt x="0" y="38"/>
                      <a:pt x="0" y="38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684560" y="4897440"/>
              <a:ext cx="12708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56040" y="4956120"/>
              <a:ext cx="127440" cy="128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473000">
              <a:off x="7643880" y="4966200"/>
              <a:ext cx="127800" cy="1011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3" y="30"/>
                  </a:moveTo>
                  <a:cubicBezTo>
                    <a:pt x="49" y="21"/>
                    <a:pt x="74" y="13"/>
                    <a:pt x="100" y="4"/>
                  </a:cubicBezTo>
                  <a:cubicBezTo>
                    <a:pt x="113" y="0"/>
                    <a:pt x="95" y="32"/>
                    <a:pt x="87" y="42"/>
                  </a:cubicBezTo>
                  <a:cubicBezTo>
                    <a:pt x="77" y="54"/>
                    <a:pt x="62" y="61"/>
                    <a:pt x="48" y="68"/>
                  </a:cubicBezTo>
                  <a:cubicBezTo>
                    <a:pt x="36" y="74"/>
                    <a:pt x="17" y="92"/>
                    <a:pt x="10" y="81"/>
                  </a:cubicBezTo>
                  <a:cubicBezTo>
                    <a:pt x="0" y="66"/>
                    <a:pt x="19" y="47"/>
                    <a:pt x="23" y="3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11280" y="5589720"/>
            <a:ext cx="7848000" cy="647640"/>
            <a:chOff x="611280" y="5589720"/>
            <a:chExt cx="7848000" cy="647640"/>
          </a:xfrm>
        </p:grpSpPr>
        <p:sp>
          <p:nvSpPr>
            <p:cNvPr id="292" name=""/>
            <p:cNvSpPr/>
            <p:nvPr/>
          </p:nvSpPr>
          <p:spPr>
            <a:xfrm>
              <a:off x="61128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7456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820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328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6692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056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558972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0364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67280" y="558972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11280" y="4581360"/>
            <a:ext cx="7848000" cy="647640"/>
            <a:chOff x="611280" y="4581360"/>
            <a:chExt cx="7848000" cy="647640"/>
          </a:xfrm>
        </p:grpSpPr>
        <p:sp>
          <p:nvSpPr>
            <p:cNvPr id="302" name=""/>
            <p:cNvSpPr/>
            <p:nvPr/>
          </p:nvSpPr>
          <p:spPr>
            <a:xfrm>
              <a:off x="61128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7456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3820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28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6692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3056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458136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0364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67280" y="458136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84360" y="3500280"/>
            <a:ext cx="7848000" cy="647640"/>
            <a:chOff x="684360" y="3500280"/>
            <a:chExt cx="7848000" cy="647640"/>
          </a:xfrm>
        </p:grpSpPr>
        <p:sp>
          <p:nvSpPr>
            <p:cNvPr id="312" name=""/>
            <p:cNvSpPr/>
            <p:nvPr/>
          </p:nvSpPr>
          <p:spPr>
            <a:xfrm>
              <a:off x="68436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4764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1128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636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000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0364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0360" y="3500280"/>
              <a:ext cx="79164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7672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0360" y="350028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11280" y="2421000"/>
            <a:ext cx="7848360" cy="647640"/>
            <a:chOff x="611280" y="2421000"/>
            <a:chExt cx="7848360" cy="647640"/>
          </a:xfrm>
        </p:grpSpPr>
        <p:sp>
          <p:nvSpPr>
            <p:cNvPr id="322" name=""/>
            <p:cNvSpPr/>
            <p:nvPr/>
          </p:nvSpPr>
          <p:spPr>
            <a:xfrm>
              <a:off x="61128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7492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3856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364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6728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3092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67280" y="2421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04000" y="2421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67640" y="2421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480480" y="549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自己涂出有规律的颜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12720" y="1413000"/>
            <a:ext cx="7848720" cy="647640"/>
            <a:chOff x="612720" y="1413000"/>
            <a:chExt cx="7848720" cy="647640"/>
          </a:xfrm>
        </p:grpSpPr>
        <p:sp>
          <p:nvSpPr>
            <p:cNvPr id="333" name=""/>
            <p:cNvSpPr/>
            <p:nvPr/>
          </p:nvSpPr>
          <p:spPr>
            <a:xfrm>
              <a:off x="61272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7636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4000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508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6872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3236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69080" y="1413000"/>
              <a:ext cx="79200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0544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69080" y="1413000"/>
              <a:ext cx="792360" cy="647640"/>
            </a:xfrm>
            <a:custGeom>
              <a:avLst/>
              <a:gdLst/>
              <a:ahLst/>
              <a:rect l="l" t="t" r="r" b="b"/>
              <a:pathLst>
                <a:path w="1005" h="875">
                  <a:moveTo>
                    <a:pt x="417" y="350"/>
                  </a:moveTo>
                  <a:cubicBezTo>
                    <a:pt x="398" y="294"/>
                    <a:pt x="371" y="234"/>
                    <a:pt x="314" y="209"/>
                  </a:cubicBezTo>
                  <a:cubicBezTo>
                    <a:pt x="289" y="198"/>
                    <a:pt x="263" y="192"/>
                    <a:pt x="237" y="184"/>
                  </a:cubicBezTo>
                  <a:cubicBezTo>
                    <a:pt x="224" y="180"/>
                    <a:pt x="199" y="171"/>
                    <a:pt x="199" y="171"/>
                  </a:cubicBezTo>
                  <a:cubicBezTo>
                    <a:pt x="128" y="185"/>
                    <a:pt x="111" y="176"/>
                    <a:pt x="71" y="235"/>
                  </a:cubicBezTo>
                  <a:cubicBezTo>
                    <a:pt x="91" y="293"/>
                    <a:pt x="93" y="304"/>
                    <a:pt x="33" y="325"/>
                  </a:cubicBezTo>
                  <a:cubicBezTo>
                    <a:pt x="24" y="338"/>
                    <a:pt x="10" y="348"/>
                    <a:pt x="7" y="363"/>
                  </a:cubicBezTo>
                  <a:cubicBezTo>
                    <a:pt x="0" y="405"/>
                    <a:pt x="69" y="421"/>
                    <a:pt x="97" y="440"/>
                  </a:cubicBezTo>
                  <a:cubicBezTo>
                    <a:pt x="84" y="444"/>
                    <a:pt x="66" y="442"/>
                    <a:pt x="58" y="453"/>
                  </a:cubicBezTo>
                  <a:cubicBezTo>
                    <a:pt x="42" y="475"/>
                    <a:pt x="33" y="529"/>
                    <a:pt x="33" y="529"/>
                  </a:cubicBezTo>
                  <a:cubicBezTo>
                    <a:pt x="60" y="615"/>
                    <a:pt x="79" y="611"/>
                    <a:pt x="161" y="632"/>
                  </a:cubicBezTo>
                  <a:cubicBezTo>
                    <a:pt x="172" y="631"/>
                    <a:pt x="285" y="620"/>
                    <a:pt x="314" y="606"/>
                  </a:cubicBezTo>
                  <a:cubicBezTo>
                    <a:pt x="342" y="592"/>
                    <a:pt x="391" y="555"/>
                    <a:pt x="391" y="555"/>
                  </a:cubicBezTo>
                  <a:cubicBezTo>
                    <a:pt x="379" y="602"/>
                    <a:pt x="364" y="648"/>
                    <a:pt x="353" y="696"/>
                  </a:cubicBezTo>
                  <a:cubicBezTo>
                    <a:pt x="362" y="751"/>
                    <a:pt x="360" y="817"/>
                    <a:pt x="417" y="849"/>
                  </a:cubicBezTo>
                  <a:cubicBezTo>
                    <a:pt x="440" y="862"/>
                    <a:pt x="493" y="875"/>
                    <a:pt x="493" y="875"/>
                  </a:cubicBezTo>
                  <a:cubicBezTo>
                    <a:pt x="506" y="871"/>
                    <a:pt x="524" y="873"/>
                    <a:pt x="532" y="862"/>
                  </a:cubicBezTo>
                  <a:cubicBezTo>
                    <a:pt x="544" y="844"/>
                    <a:pt x="525" y="807"/>
                    <a:pt x="545" y="798"/>
                  </a:cubicBezTo>
                  <a:cubicBezTo>
                    <a:pt x="570" y="787"/>
                    <a:pt x="596" y="815"/>
                    <a:pt x="621" y="824"/>
                  </a:cubicBezTo>
                  <a:cubicBezTo>
                    <a:pt x="634" y="828"/>
                    <a:pt x="660" y="837"/>
                    <a:pt x="660" y="837"/>
                  </a:cubicBezTo>
                  <a:cubicBezTo>
                    <a:pt x="651" y="824"/>
                    <a:pt x="631" y="813"/>
                    <a:pt x="634" y="798"/>
                  </a:cubicBezTo>
                  <a:cubicBezTo>
                    <a:pt x="637" y="783"/>
                    <a:pt x="658" y="776"/>
                    <a:pt x="673" y="773"/>
                  </a:cubicBezTo>
                  <a:cubicBezTo>
                    <a:pt x="715" y="763"/>
                    <a:pt x="758" y="764"/>
                    <a:pt x="801" y="760"/>
                  </a:cubicBezTo>
                  <a:cubicBezTo>
                    <a:pt x="794" y="725"/>
                    <a:pt x="787" y="643"/>
                    <a:pt x="749" y="619"/>
                  </a:cubicBezTo>
                  <a:cubicBezTo>
                    <a:pt x="726" y="605"/>
                    <a:pt x="673" y="593"/>
                    <a:pt x="673" y="593"/>
                  </a:cubicBezTo>
                  <a:cubicBezTo>
                    <a:pt x="664" y="580"/>
                    <a:pt x="643" y="570"/>
                    <a:pt x="647" y="555"/>
                  </a:cubicBezTo>
                  <a:cubicBezTo>
                    <a:pt x="650" y="542"/>
                    <a:pt x="672" y="544"/>
                    <a:pt x="685" y="542"/>
                  </a:cubicBezTo>
                  <a:cubicBezTo>
                    <a:pt x="745" y="535"/>
                    <a:pt x="805" y="533"/>
                    <a:pt x="865" y="529"/>
                  </a:cubicBezTo>
                  <a:cubicBezTo>
                    <a:pt x="956" y="499"/>
                    <a:pt x="919" y="519"/>
                    <a:pt x="980" y="478"/>
                  </a:cubicBezTo>
                  <a:cubicBezTo>
                    <a:pt x="988" y="465"/>
                    <a:pt x="1003" y="455"/>
                    <a:pt x="1005" y="440"/>
                  </a:cubicBezTo>
                  <a:cubicBezTo>
                    <a:pt x="1005" y="437"/>
                    <a:pt x="990" y="350"/>
                    <a:pt x="980" y="337"/>
                  </a:cubicBezTo>
                  <a:cubicBezTo>
                    <a:pt x="959" y="312"/>
                    <a:pt x="885" y="293"/>
                    <a:pt x="865" y="286"/>
                  </a:cubicBezTo>
                  <a:cubicBezTo>
                    <a:pt x="852" y="282"/>
                    <a:pt x="826" y="273"/>
                    <a:pt x="826" y="273"/>
                  </a:cubicBezTo>
                  <a:cubicBezTo>
                    <a:pt x="830" y="260"/>
                    <a:pt x="844" y="247"/>
                    <a:pt x="839" y="235"/>
                  </a:cubicBezTo>
                  <a:cubicBezTo>
                    <a:pt x="831" y="214"/>
                    <a:pt x="779" y="202"/>
                    <a:pt x="762" y="197"/>
                  </a:cubicBezTo>
                  <a:cubicBezTo>
                    <a:pt x="753" y="224"/>
                    <a:pt x="735" y="280"/>
                    <a:pt x="724" y="312"/>
                  </a:cubicBezTo>
                  <a:cubicBezTo>
                    <a:pt x="720" y="325"/>
                    <a:pt x="711" y="350"/>
                    <a:pt x="711" y="350"/>
                  </a:cubicBezTo>
                  <a:cubicBezTo>
                    <a:pt x="611" y="316"/>
                    <a:pt x="672" y="222"/>
                    <a:pt x="698" y="145"/>
                  </a:cubicBezTo>
                  <a:cubicBezTo>
                    <a:pt x="694" y="115"/>
                    <a:pt x="701" y="81"/>
                    <a:pt x="685" y="56"/>
                  </a:cubicBezTo>
                  <a:cubicBezTo>
                    <a:pt x="669" y="30"/>
                    <a:pt x="609" y="5"/>
                    <a:pt x="609" y="5"/>
                  </a:cubicBezTo>
                  <a:cubicBezTo>
                    <a:pt x="588" y="9"/>
                    <a:pt x="563" y="5"/>
                    <a:pt x="545" y="17"/>
                  </a:cubicBezTo>
                  <a:cubicBezTo>
                    <a:pt x="534" y="25"/>
                    <a:pt x="545" y="51"/>
                    <a:pt x="532" y="56"/>
                  </a:cubicBezTo>
                  <a:cubicBezTo>
                    <a:pt x="525" y="59"/>
                    <a:pt x="453" y="34"/>
                    <a:pt x="442" y="30"/>
                  </a:cubicBezTo>
                  <a:cubicBezTo>
                    <a:pt x="369" y="144"/>
                    <a:pt x="447" y="0"/>
                    <a:pt x="429" y="107"/>
                  </a:cubicBezTo>
                  <a:cubicBezTo>
                    <a:pt x="426" y="122"/>
                    <a:pt x="411" y="131"/>
                    <a:pt x="404" y="145"/>
                  </a:cubicBezTo>
                  <a:cubicBezTo>
                    <a:pt x="395" y="163"/>
                    <a:pt x="382" y="219"/>
                    <a:pt x="378" y="235"/>
                  </a:cubicBezTo>
                  <a:cubicBezTo>
                    <a:pt x="411" y="465"/>
                    <a:pt x="373" y="225"/>
                    <a:pt x="404" y="376"/>
                  </a:cubicBezTo>
                  <a:cubicBezTo>
                    <a:pt x="412" y="414"/>
                    <a:pt x="405" y="460"/>
                    <a:pt x="429" y="491"/>
                  </a:cubicBezTo>
                  <a:cubicBezTo>
                    <a:pt x="455" y="524"/>
                    <a:pt x="545" y="542"/>
                    <a:pt x="545" y="542"/>
                  </a:cubicBezTo>
                  <a:cubicBezTo>
                    <a:pt x="575" y="538"/>
                    <a:pt x="607" y="542"/>
                    <a:pt x="634" y="529"/>
                  </a:cubicBezTo>
                  <a:cubicBezTo>
                    <a:pt x="646" y="523"/>
                    <a:pt x="647" y="504"/>
                    <a:pt x="647" y="491"/>
                  </a:cubicBezTo>
                  <a:cubicBezTo>
                    <a:pt x="647" y="387"/>
                    <a:pt x="605" y="372"/>
                    <a:pt x="519" y="350"/>
                  </a:cubicBezTo>
                  <a:cubicBezTo>
                    <a:pt x="413" y="364"/>
                    <a:pt x="417" y="397"/>
                    <a:pt x="417" y="35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1272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7636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4000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0508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872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236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242100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0544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69080" y="242100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0364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0360" y="350028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7708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740720" y="350028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272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7636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0508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6872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9080" y="4581360"/>
            <a:ext cx="79200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0544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080" y="4581360"/>
            <a:ext cx="792360" cy="64800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272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508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872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3236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66ff3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6908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05440" y="5589720"/>
            <a:ext cx="79236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67640" y="5589720"/>
            <a:ext cx="792000" cy="647640"/>
          </a:xfrm>
          <a:custGeom>
            <a:avLst/>
            <a:gdLst/>
            <a:ahLst/>
            <a:rect l="l" t="t" r="r" b="b"/>
            <a:pathLst>
              <a:path w="1005" h="875">
                <a:moveTo>
                  <a:pt x="417" y="350"/>
                </a:moveTo>
                <a:cubicBezTo>
                  <a:pt x="398" y="294"/>
                  <a:pt x="371" y="234"/>
                  <a:pt x="314" y="209"/>
                </a:cubicBezTo>
                <a:cubicBezTo>
                  <a:pt x="289" y="198"/>
                  <a:pt x="263" y="192"/>
                  <a:pt x="237" y="184"/>
                </a:cubicBezTo>
                <a:cubicBezTo>
                  <a:pt x="224" y="180"/>
                  <a:pt x="199" y="171"/>
                  <a:pt x="199" y="171"/>
                </a:cubicBezTo>
                <a:cubicBezTo>
                  <a:pt x="128" y="185"/>
                  <a:pt x="111" y="176"/>
                  <a:pt x="71" y="235"/>
                </a:cubicBezTo>
                <a:cubicBezTo>
                  <a:pt x="91" y="293"/>
                  <a:pt x="93" y="304"/>
                  <a:pt x="33" y="325"/>
                </a:cubicBezTo>
                <a:cubicBezTo>
                  <a:pt x="24" y="338"/>
                  <a:pt x="10" y="348"/>
                  <a:pt x="7" y="363"/>
                </a:cubicBezTo>
                <a:cubicBezTo>
                  <a:pt x="0" y="405"/>
                  <a:pt x="69" y="421"/>
                  <a:pt x="97" y="440"/>
                </a:cubicBezTo>
                <a:cubicBezTo>
                  <a:pt x="84" y="444"/>
                  <a:pt x="66" y="442"/>
                  <a:pt x="58" y="453"/>
                </a:cubicBezTo>
                <a:cubicBezTo>
                  <a:pt x="42" y="475"/>
                  <a:pt x="33" y="529"/>
                  <a:pt x="33" y="529"/>
                </a:cubicBezTo>
                <a:cubicBezTo>
                  <a:pt x="60" y="615"/>
                  <a:pt x="79" y="611"/>
                  <a:pt x="161" y="632"/>
                </a:cubicBezTo>
                <a:cubicBezTo>
                  <a:pt x="172" y="631"/>
                  <a:pt x="285" y="620"/>
                  <a:pt x="314" y="606"/>
                </a:cubicBezTo>
                <a:cubicBezTo>
                  <a:pt x="342" y="592"/>
                  <a:pt x="391" y="555"/>
                  <a:pt x="391" y="555"/>
                </a:cubicBezTo>
                <a:cubicBezTo>
                  <a:pt x="379" y="602"/>
                  <a:pt x="364" y="648"/>
                  <a:pt x="353" y="696"/>
                </a:cubicBezTo>
                <a:cubicBezTo>
                  <a:pt x="362" y="751"/>
                  <a:pt x="360" y="817"/>
                  <a:pt x="417" y="849"/>
                </a:cubicBezTo>
                <a:cubicBezTo>
                  <a:pt x="440" y="862"/>
                  <a:pt x="493" y="875"/>
                  <a:pt x="493" y="875"/>
                </a:cubicBezTo>
                <a:cubicBezTo>
                  <a:pt x="506" y="871"/>
                  <a:pt x="524" y="873"/>
                  <a:pt x="532" y="862"/>
                </a:cubicBezTo>
                <a:cubicBezTo>
                  <a:pt x="544" y="844"/>
                  <a:pt x="525" y="807"/>
                  <a:pt x="545" y="798"/>
                </a:cubicBezTo>
                <a:cubicBezTo>
                  <a:pt x="570" y="787"/>
                  <a:pt x="596" y="815"/>
                  <a:pt x="621" y="824"/>
                </a:cubicBezTo>
                <a:cubicBezTo>
                  <a:pt x="634" y="828"/>
                  <a:pt x="660" y="837"/>
                  <a:pt x="660" y="837"/>
                </a:cubicBezTo>
                <a:cubicBezTo>
                  <a:pt x="651" y="824"/>
                  <a:pt x="631" y="813"/>
                  <a:pt x="634" y="798"/>
                </a:cubicBezTo>
                <a:cubicBezTo>
                  <a:pt x="637" y="783"/>
                  <a:pt x="658" y="776"/>
                  <a:pt x="673" y="773"/>
                </a:cubicBezTo>
                <a:cubicBezTo>
                  <a:pt x="715" y="763"/>
                  <a:pt x="758" y="764"/>
                  <a:pt x="801" y="760"/>
                </a:cubicBezTo>
                <a:cubicBezTo>
                  <a:pt x="794" y="725"/>
                  <a:pt x="787" y="643"/>
                  <a:pt x="749" y="619"/>
                </a:cubicBezTo>
                <a:cubicBezTo>
                  <a:pt x="726" y="605"/>
                  <a:pt x="673" y="593"/>
                  <a:pt x="673" y="593"/>
                </a:cubicBezTo>
                <a:cubicBezTo>
                  <a:pt x="664" y="580"/>
                  <a:pt x="643" y="570"/>
                  <a:pt x="647" y="555"/>
                </a:cubicBezTo>
                <a:cubicBezTo>
                  <a:pt x="650" y="542"/>
                  <a:pt x="672" y="544"/>
                  <a:pt x="685" y="542"/>
                </a:cubicBezTo>
                <a:cubicBezTo>
                  <a:pt x="745" y="535"/>
                  <a:pt x="805" y="533"/>
                  <a:pt x="865" y="529"/>
                </a:cubicBezTo>
                <a:cubicBezTo>
                  <a:pt x="956" y="499"/>
                  <a:pt x="919" y="519"/>
                  <a:pt x="980" y="478"/>
                </a:cubicBezTo>
                <a:cubicBezTo>
                  <a:pt x="988" y="465"/>
                  <a:pt x="1003" y="455"/>
                  <a:pt x="1005" y="440"/>
                </a:cubicBezTo>
                <a:cubicBezTo>
                  <a:pt x="1005" y="437"/>
                  <a:pt x="990" y="350"/>
                  <a:pt x="980" y="337"/>
                </a:cubicBezTo>
                <a:cubicBezTo>
                  <a:pt x="959" y="312"/>
                  <a:pt x="885" y="293"/>
                  <a:pt x="865" y="286"/>
                </a:cubicBezTo>
                <a:cubicBezTo>
                  <a:pt x="852" y="282"/>
                  <a:pt x="826" y="273"/>
                  <a:pt x="826" y="273"/>
                </a:cubicBezTo>
                <a:cubicBezTo>
                  <a:pt x="830" y="260"/>
                  <a:pt x="844" y="247"/>
                  <a:pt x="839" y="235"/>
                </a:cubicBezTo>
                <a:cubicBezTo>
                  <a:pt x="831" y="214"/>
                  <a:pt x="779" y="202"/>
                  <a:pt x="762" y="197"/>
                </a:cubicBezTo>
                <a:cubicBezTo>
                  <a:pt x="753" y="224"/>
                  <a:pt x="735" y="280"/>
                  <a:pt x="724" y="312"/>
                </a:cubicBezTo>
                <a:cubicBezTo>
                  <a:pt x="720" y="325"/>
                  <a:pt x="711" y="350"/>
                  <a:pt x="711" y="350"/>
                </a:cubicBezTo>
                <a:cubicBezTo>
                  <a:pt x="611" y="316"/>
                  <a:pt x="672" y="222"/>
                  <a:pt x="698" y="145"/>
                </a:cubicBezTo>
                <a:cubicBezTo>
                  <a:pt x="694" y="115"/>
                  <a:pt x="701" y="81"/>
                  <a:pt x="685" y="56"/>
                </a:cubicBezTo>
                <a:cubicBezTo>
                  <a:pt x="669" y="30"/>
                  <a:pt x="609" y="5"/>
                  <a:pt x="609" y="5"/>
                </a:cubicBezTo>
                <a:cubicBezTo>
                  <a:pt x="588" y="9"/>
                  <a:pt x="563" y="5"/>
                  <a:pt x="545" y="17"/>
                </a:cubicBezTo>
                <a:cubicBezTo>
                  <a:pt x="534" y="25"/>
                  <a:pt x="545" y="51"/>
                  <a:pt x="532" y="56"/>
                </a:cubicBezTo>
                <a:cubicBezTo>
                  <a:pt x="525" y="59"/>
                  <a:pt x="453" y="34"/>
                  <a:pt x="442" y="30"/>
                </a:cubicBezTo>
                <a:cubicBezTo>
                  <a:pt x="369" y="144"/>
                  <a:pt x="447" y="0"/>
                  <a:pt x="429" y="107"/>
                </a:cubicBezTo>
                <a:cubicBezTo>
                  <a:pt x="426" y="122"/>
                  <a:pt x="411" y="131"/>
                  <a:pt x="404" y="145"/>
                </a:cubicBezTo>
                <a:cubicBezTo>
                  <a:pt x="395" y="163"/>
                  <a:pt x="382" y="219"/>
                  <a:pt x="378" y="235"/>
                </a:cubicBezTo>
                <a:cubicBezTo>
                  <a:pt x="411" y="465"/>
                  <a:pt x="373" y="225"/>
                  <a:pt x="404" y="376"/>
                </a:cubicBezTo>
                <a:cubicBezTo>
                  <a:pt x="412" y="414"/>
                  <a:pt x="405" y="460"/>
                  <a:pt x="429" y="491"/>
                </a:cubicBezTo>
                <a:cubicBezTo>
                  <a:pt x="455" y="524"/>
                  <a:pt x="545" y="542"/>
                  <a:pt x="545" y="542"/>
                </a:cubicBezTo>
                <a:cubicBezTo>
                  <a:pt x="575" y="538"/>
                  <a:pt x="607" y="542"/>
                  <a:pt x="634" y="529"/>
                </a:cubicBezTo>
                <a:cubicBezTo>
                  <a:pt x="646" y="523"/>
                  <a:pt x="647" y="504"/>
                  <a:pt x="647" y="491"/>
                </a:cubicBezTo>
                <a:cubicBezTo>
                  <a:pt x="647" y="387"/>
                  <a:pt x="605" y="372"/>
                  <a:pt x="519" y="350"/>
                </a:cubicBezTo>
                <a:cubicBezTo>
                  <a:pt x="413" y="364"/>
                  <a:pt x="417" y="397"/>
                  <a:pt x="417" y="35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4920" y="260280"/>
            <a:ext cx="914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37200" y="98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该画什么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00000" y="191628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03280" y="191628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1916280"/>
            <a:ext cx="43164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80000" y="1916280"/>
            <a:ext cx="43164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191628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191628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57440" y="1916280"/>
            <a:ext cx="57456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84720" y="1916280"/>
            <a:ext cx="57456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3800" y="191628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05440" y="191628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636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2472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800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6072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2924280"/>
            <a:ext cx="35856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872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21440" y="2924280"/>
            <a:ext cx="35856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2924280"/>
            <a:ext cx="358920" cy="35856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11280" y="2851200"/>
            <a:ext cx="505080" cy="504720"/>
          </a:xfrm>
          <a:prstGeom prst="star5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2852640"/>
            <a:ext cx="504720" cy="5050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53080" y="335772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48360" y="335592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00000" y="3355560"/>
            <a:ext cx="1366920" cy="531720"/>
            <a:chOff x="900000" y="3355560"/>
            <a:chExt cx="1366920" cy="531720"/>
          </a:xfrm>
        </p:grpSpPr>
        <p:sp>
          <p:nvSpPr>
            <p:cNvPr id="405" name=""/>
            <p:cNvSpPr/>
            <p:nvPr/>
          </p:nvSpPr>
          <p:spPr>
            <a:xfrm>
              <a:off x="1397520" y="3427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1512000" y="2743560"/>
              <a:ext cx="142920" cy="136692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5640 h 1366920"/>
                <a:gd name="textAreaBottom" fmla="*/ 13312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476800" y="3355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971640" y="4149720"/>
            <a:ext cx="504720" cy="1150920"/>
            <a:chOff x="971640" y="4149720"/>
            <a:chExt cx="504720" cy="1150920"/>
          </a:xfrm>
        </p:grpSpPr>
        <p:sp>
          <p:nvSpPr>
            <p:cNvPr id="409" name=""/>
            <p:cNvSpPr/>
            <p:nvPr/>
          </p:nvSpPr>
          <p:spPr>
            <a:xfrm>
              <a:off x="971640" y="4149720"/>
              <a:ext cx="504720" cy="785880"/>
            </a:xfrm>
            <a:prstGeom prst="ellipse">
              <a:avLst/>
            </a:prstGeom>
            <a:solidFill>
              <a:srgbClr val="13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0800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848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690560" y="4149720"/>
            <a:ext cx="504720" cy="1150920"/>
            <a:chOff x="1690560" y="4149720"/>
            <a:chExt cx="504720" cy="1150920"/>
          </a:xfrm>
        </p:grpSpPr>
        <p:sp>
          <p:nvSpPr>
            <p:cNvPr id="413" name=""/>
            <p:cNvSpPr/>
            <p:nvPr/>
          </p:nvSpPr>
          <p:spPr>
            <a:xfrm>
              <a:off x="169056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692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8740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411280" y="4149720"/>
            <a:ext cx="504720" cy="1150920"/>
            <a:chOff x="2411280" y="4149720"/>
            <a:chExt cx="504720" cy="1150920"/>
          </a:xfrm>
        </p:grpSpPr>
        <p:sp>
          <p:nvSpPr>
            <p:cNvPr id="417" name=""/>
            <p:cNvSpPr/>
            <p:nvPr/>
          </p:nvSpPr>
          <p:spPr>
            <a:xfrm>
              <a:off x="241128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4764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0812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132000" y="4149720"/>
            <a:ext cx="504720" cy="1150920"/>
            <a:chOff x="3132000" y="4149720"/>
            <a:chExt cx="504720" cy="1150920"/>
          </a:xfrm>
        </p:grpSpPr>
        <p:sp>
          <p:nvSpPr>
            <p:cNvPr id="421" name=""/>
            <p:cNvSpPr/>
            <p:nvPr/>
          </p:nvSpPr>
          <p:spPr>
            <a:xfrm>
              <a:off x="3132000" y="4149720"/>
              <a:ext cx="504720" cy="785880"/>
            </a:xfrm>
            <a:prstGeom prst="ellipse">
              <a:avLst/>
            </a:prstGeom>
            <a:solidFill>
              <a:srgbClr val="13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6836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2884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924360" y="4149720"/>
            <a:ext cx="504720" cy="1150920"/>
            <a:chOff x="3924360" y="4149720"/>
            <a:chExt cx="504720" cy="1150920"/>
          </a:xfrm>
        </p:grpSpPr>
        <p:sp>
          <p:nvSpPr>
            <p:cNvPr id="425" name=""/>
            <p:cNvSpPr/>
            <p:nvPr/>
          </p:nvSpPr>
          <p:spPr>
            <a:xfrm>
              <a:off x="392436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072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2120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714920" y="4149720"/>
            <a:ext cx="504720" cy="1150920"/>
            <a:chOff x="4714920" y="4149720"/>
            <a:chExt cx="504720" cy="1150920"/>
          </a:xfrm>
        </p:grpSpPr>
        <p:sp>
          <p:nvSpPr>
            <p:cNvPr id="429" name=""/>
            <p:cNvSpPr/>
            <p:nvPr/>
          </p:nvSpPr>
          <p:spPr>
            <a:xfrm>
              <a:off x="471492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5128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1176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506920" y="4149720"/>
            <a:ext cx="504720" cy="1150920"/>
            <a:chOff x="5506920" y="4149720"/>
            <a:chExt cx="504720" cy="1150920"/>
          </a:xfrm>
        </p:grpSpPr>
        <p:sp>
          <p:nvSpPr>
            <p:cNvPr id="433" name=""/>
            <p:cNvSpPr/>
            <p:nvPr/>
          </p:nvSpPr>
          <p:spPr>
            <a:xfrm>
              <a:off x="5506920" y="4149720"/>
              <a:ext cx="504720" cy="785880"/>
            </a:xfrm>
            <a:prstGeom prst="ellipse">
              <a:avLst/>
            </a:prstGeom>
            <a:solidFill>
              <a:srgbClr val="13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4328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0376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13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299280" y="4149720"/>
            <a:ext cx="504720" cy="1150920"/>
            <a:chOff x="6299280" y="4149720"/>
            <a:chExt cx="504720" cy="1150920"/>
          </a:xfrm>
        </p:grpSpPr>
        <p:sp>
          <p:nvSpPr>
            <p:cNvPr id="437" name=""/>
            <p:cNvSpPr/>
            <p:nvPr/>
          </p:nvSpPr>
          <p:spPr>
            <a:xfrm>
              <a:off x="629928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3564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9612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091280" y="4149720"/>
            <a:ext cx="504720" cy="1150920"/>
            <a:chOff x="7091280" y="4149720"/>
            <a:chExt cx="504720" cy="1150920"/>
          </a:xfrm>
        </p:grpSpPr>
        <p:sp>
          <p:nvSpPr>
            <p:cNvPr id="441" name=""/>
            <p:cNvSpPr/>
            <p:nvPr/>
          </p:nvSpPr>
          <p:spPr>
            <a:xfrm>
              <a:off x="7091280" y="4149720"/>
              <a:ext cx="504720" cy="785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7640" y="4932360"/>
              <a:ext cx="397080" cy="1522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103" y="13"/>
                  </a:moveTo>
                  <a:cubicBezTo>
                    <a:pt x="81" y="76"/>
                    <a:pt x="54" y="118"/>
                    <a:pt x="0" y="154"/>
                  </a:cubicBezTo>
                  <a:cubicBezTo>
                    <a:pt x="81" y="206"/>
                    <a:pt x="183" y="170"/>
                    <a:pt x="269" y="141"/>
                  </a:cubicBezTo>
                  <a:cubicBezTo>
                    <a:pt x="278" y="113"/>
                    <a:pt x="297" y="79"/>
                    <a:pt x="269" y="51"/>
                  </a:cubicBezTo>
                  <a:cubicBezTo>
                    <a:pt x="232" y="14"/>
                    <a:pt x="179" y="72"/>
                    <a:pt x="179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88120" y="5002200"/>
              <a:ext cx="191880" cy="29844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28" y="19"/>
                  </a:moveTo>
                  <a:cubicBezTo>
                    <a:pt x="96" y="115"/>
                    <a:pt x="138" y="0"/>
                    <a:pt x="90" y="96"/>
                  </a:cubicBezTo>
                  <a:cubicBezTo>
                    <a:pt x="65" y="146"/>
                    <a:pt x="53" y="198"/>
                    <a:pt x="0" y="224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364000" y="53737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27640" y="53737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62280" y="549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763640" y="5446800"/>
            <a:ext cx="936720" cy="529560"/>
            <a:chOff x="1763640" y="5446800"/>
            <a:chExt cx="936720" cy="529560"/>
          </a:xfrm>
        </p:grpSpPr>
        <p:sp>
          <p:nvSpPr>
            <p:cNvPr id="448" name=""/>
            <p:cNvSpPr/>
            <p:nvPr/>
          </p:nvSpPr>
          <p:spPr>
            <a:xfrm rot="16200000">
              <a:off x="2197080" y="5013360"/>
              <a:ext cx="69840" cy="93672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1160" y="551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227640" y="1917720"/>
            <a:ext cx="43200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26160" y="1917720"/>
            <a:ext cx="574920" cy="431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97440" y="2925720"/>
            <a:ext cx="358920" cy="35892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46920" y="2779560"/>
            <a:ext cx="504720" cy="5050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059280" y="3429000"/>
            <a:ext cx="1366560" cy="531000"/>
            <a:chOff x="3059280" y="3429000"/>
            <a:chExt cx="1366560" cy="531000"/>
          </a:xfrm>
        </p:grpSpPr>
        <p:sp>
          <p:nvSpPr>
            <p:cNvPr id="455" name=""/>
            <p:cNvSpPr/>
            <p:nvPr/>
          </p:nvSpPr>
          <p:spPr>
            <a:xfrm>
              <a:off x="3556080" y="350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3671280" y="2817000"/>
              <a:ext cx="142560" cy="1366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35640 h 1366560"/>
                <a:gd name="textAreaBottom" fmla="*/ 1330920 h 13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6360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292720" y="3499920"/>
            <a:ext cx="1366920" cy="531720"/>
            <a:chOff x="5292720" y="3499920"/>
            <a:chExt cx="1366920" cy="531720"/>
          </a:xfrm>
        </p:grpSpPr>
        <p:sp>
          <p:nvSpPr>
            <p:cNvPr id="459" name=""/>
            <p:cNvSpPr/>
            <p:nvPr/>
          </p:nvSpPr>
          <p:spPr>
            <a:xfrm>
              <a:off x="5790240" y="3571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200000">
              <a:off x="5904720" y="2887920"/>
              <a:ext cx="142920" cy="136692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5640 h 1366920"/>
                <a:gd name="textAreaBottom" fmla="*/ 13312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7013880" y="3548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94280" y="549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995640" y="5445000"/>
            <a:ext cx="936720" cy="529560"/>
            <a:chOff x="3995640" y="5445000"/>
            <a:chExt cx="936720" cy="529560"/>
          </a:xfrm>
        </p:grpSpPr>
        <p:sp>
          <p:nvSpPr>
            <p:cNvPr id="464" name=""/>
            <p:cNvSpPr/>
            <p:nvPr/>
          </p:nvSpPr>
          <p:spPr>
            <a:xfrm rot="16200000">
              <a:off x="4429080" y="5011560"/>
              <a:ext cx="69840" cy="93672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3160" y="5514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71000" y="549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372360" y="5445000"/>
            <a:ext cx="936360" cy="529560"/>
            <a:chOff x="6372360" y="5445000"/>
            <a:chExt cx="936360" cy="529560"/>
          </a:xfrm>
        </p:grpSpPr>
        <p:sp>
          <p:nvSpPr>
            <p:cNvPr id="468" name=""/>
            <p:cNvSpPr/>
            <p:nvPr/>
          </p:nvSpPr>
          <p:spPr>
            <a:xfrm rot="16200000">
              <a:off x="6805440" y="5011560"/>
              <a:ext cx="69840" cy="93636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9160" y="5514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0920" y="406440"/>
            <a:ext cx="936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69720" y="76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找规律填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42920" y="2060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1      13       15       17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32360" y="2492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2764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42920" y="29005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0      18       16       14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932360" y="33321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227640" y="33321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42920" y="3716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       7       9                              15      17      19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4148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3280" y="4148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0652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9864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25240" y="29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27000" y="285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9028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379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619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286360" y="8366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你能很快看出下面每列数的规律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58920" y="2349360"/>
            <a:ext cx="6842160" cy="459720"/>
            <a:chOff x="1258920" y="2349360"/>
            <a:chExt cx="6842160" cy="459720"/>
          </a:xfrm>
        </p:grpSpPr>
        <p:sp>
          <p:nvSpPr>
            <p:cNvPr id="490" name=""/>
            <p:cNvSpPr/>
            <p:nvPr/>
          </p:nvSpPr>
          <p:spPr>
            <a:xfrm>
              <a:off x="1258920" y="234936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14    15     16     1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00720" y="2781360"/>
              <a:ext cx="86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51640" y="27813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258920" y="3116160"/>
            <a:ext cx="6842160" cy="459720"/>
            <a:chOff x="1258920" y="3116160"/>
            <a:chExt cx="6842160" cy="459720"/>
          </a:xfrm>
        </p:grpSpPr>
        <p:sp>
          <p:nvSpPr>
            <p:cNvPr id="494" name=""/>
            <p:cNvSpPr/>
            <p:nvPr/>
          </p:nvSpPr>
          <p:spPr>
            <a:xfrm>
              <a:off x="1258920" y="311616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3    21     19     1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00720" y="3548160"/>
              <a:ext cx="86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51640" y="35481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258920" y="3860640"/>
            <a:ext cx="6842160" cy="459720"/>
            <a:chOff x="1258920" y="3860640"/>
            <a:chExt cx="6842160" cy="459720"/>
          </a:xfrm>
        </p:grpSpPr>
        <p:sp>
          <p:nvSpPr>
            <p:cNvPr id="498" name=""/>
            <p:cNvSpPr/>
            <p:nvPr/>
          </p:nvSpPr>
          <p:spPr>
            <a:xfrm>
              <a:off x="1258920" y="386064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1     7      13     19                              37    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00720" y="4292640"/>
              <a:ext cx="86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51640" y="429264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1258920" y="46274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    14     10 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505944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46160" y="2324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51000" y="2349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64880" y="3116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51000" y="31161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6488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51000" y="38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710600" y="4627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143800" y="1265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摆一摆，算一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3430440"/>
            <a:ext cx="288720" cy="28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908000" y="3214800"/>
            <a:ext cx="576360" cy="575640"/>
            <a:chOff x="1908000" y="3214800"/>
            <a:chExt cx="576360" cy="575640"/>
          </a:xfrm>
        </p:grpSpPr>
        <p:sp>
          <p:nvSpPr>
            <p:cNvPr id="513" name=""/>
            <p:cNvSpPr/>
            <p:nvPr/>
          </p:nvSpPr>
          <p:spPr>
            <a:xfrm>
              <a:off x="2050920" y="321480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95640" y="35035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08000" y="35017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43280" y="2927520"/>
            <a:ext cx="865080" cy="862920"/>
            <a:chOff x="2843280" y="2927520"/>
            <a:chExt cx="865080" cy="862920"/>
          </a:xfrm>
        </p:grpSpPr>
        <p:sp>
          <p:nvSpPr>
            <p:cNvPr id="517" name=""/>
            <p:cNvSpPr/>
            <p:nvPr/>
          </p:nvSpPr>
          <p:spPr>
            <a:xfrm>
              <a:off x="3130560" y="35035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43280" y="3501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30560" y="29275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19640" y="3501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74920" y="321624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87640" y="321444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140360" y="2638440"/>
            <a:ext cx="1152360" cy="1152000"/>
            <a:chOff x="4140360" y="2638440"/>
            <a:chExt cx="1152360" cy="1152000"/>
          </a:xfrm>
        </p:grpSpPr>
        <p:sp>
          <p:nvSpPr>
            <p:cNvPr id="524" name=""/>
            <p:cNvSpPr/>
            <p:nvPr/>
          </p:nvSpPr>
          <p:spPr>
            <a:xfrm>
              <a:off x="4427640" y="35035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40360" y="3501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03640" y="35035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350172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0560" y="321444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2920" y="321300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0560" y="2638440"/>
              <a:ext cx="28872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59280" y="3213000"/>
              <a:ext cx="28908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14920" y="292716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27640" y="2925720"/>
              <a:ext cx="288720" cy="286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724360" y="2349360"/>
            <a:ext cx="1441440" cy="1441440"/>
            <a:chOff x="5724360" y="2349360"/>
            <a:chExt cx="1441440" cy="1441440"/>
          </a:xfrm>
        </p:grpSpPr>
        <p:sp>
          <p:nvSpPr>
            <p:cNvPr id="535" name=""/>
            <p:cNvSpPr/>
            <p:nvPr/>
          </p:nvSpPr>
          <p:spPr>
            <a:xfrm>
              <a:off x="6154560" y="321444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7280" y="321300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30920" y="321444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43640" y="321300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7480" y="29257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0200" y="29239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7480" y="234936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86560" y="29239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42200" y="2638080"/>
              <a:ext cx="288720" cy="287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54560" y="263664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12000" y="3503520"/>
              <a:ext cx="28872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24360" y="35017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88000" y="35035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00720" y="3501720"/>
              <a:ext cx="28908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77080" y="3501720"/>
              <a:ext cx="288720" cy="28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651640" y="3862440"/>
            <a:ext cx="158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51240" y="398160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1       3         6            10 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233000" y="3792240"/>
            <a:ext cx="1028880" cy="1393560"/>
            <a:chOff x="1233000" y="3792240"/>
            <a:chExt cx="1028880" cy="1393560"/>
          </a:xfrm>
        </p:grpSpPr>
        <p:sp>
          <p:nvSpPr>
            <p:cNvPr id="553" name=""/>
            <p:cNvSpPr/>
            <p:nvPr/>
          </p:nvSpPr>
          <p:spPr>
            <a:xfrm flipV="1" rot="2538600">
              <a:off x="1401120" y="3924720"/>
              <a:ext cx="692280" cy="76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08" y="1072"/>
                  </a:moveTo>
                  <a:arcTo wR="10800" hR="10800" stAng="-6945029" swAng="8043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6108" y="1072"/>
                  </a:moveTo>
                  <a:arcTo wR="10800" hR="10800" stAng="-6945029" swAng="8043065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59160" y="4726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094480" y="3792960"/>
            <a:ext cx="1097280" cy="1440360"/>
            <a:chOff x="2094480" y="3792960"/>
            <a:chExt cx="1097280" cy="1440360"/>
          </a:xfrm>
        </p:grpSpPr>
        <p:sp>
          <p:nvSpPr>
            <p:cNvPr id="556" name=""/>
            <p:cNvSpPr/>
            <p:nvPr/>
          </p:nvSpPr>
          <p:spPr>
            <a:xfrm flipV="1" rot="2538600">
              <a:off x="2277720" y="3930840"/>
              <a:ext cx="730080" cy="8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89" y="2260"/>
                  </a:moveTo>
                  <a:arcTo wR="10800" hR="10800" stAng="-7664518" swAng="9821572"/>
                  <a:lnTo>
                    <a:pt x="10800" y="10800"/>
                  </a:lnTo>
                  <a:close/>
                </a:path>
                <a:path fill="none" w="21600" h="21600">
                  <a:moveTo>
                    <a:pt x="4189" y="2260"/>
                  </a:moveTo>
                  <a:arcTo wR="10800" hR="10800" stAng="-7664518" swAng="9821572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2800" y="4773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662920" y="2682000"/>
            <a:ext cx="2338920" cy="2502000"/>
            <a:chOff x="2662920" y="2682000"/>
            <a:chExt cx="2338920" cy="2502000"/>
          </a:xfrm>
        </p:grpSpPr>
        <p:sp>
          <p:nvSpPr>
            <p:cNvPr id="559" name=""/>
            <p:cNvSpPr/>
            <p:nvPr/>
          </p:nvSpPr>
          <p:spPr>
            <a:xfrm>
              <a:off x="357552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8050800">
              <a:off x="2968920" y="3061080"/>
              <a:ext cx="1726560" cy="158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664080" y="1848600"/>
            <a:ext cx="3470400" cy="3457800"/>
            <a:chOff x="3664080" y="1848600"/>
            <a:chExt cx="3470400" cy="3457800"/>
          </a:xfrm>
        </p:grpSpPr>
        <p:sp>
          <p:nvSpPr>
            <p:cNvPr id="562" name=""/>
            <p:cNvSpPr/>
            <p:nvPr/>
          </p:nvSpPr>
          <p:spPr>
            <a:xfrm rot="7999800">
              <a:off x="4250160" y="2275920"/>
              <a:ext cx="2298240" cy="26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5" y="0"/>
                  </a:moveTo>
                  <a:arcTo wR="10800" hR="10800" stAng="-5388707" swAng="53887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5" y="0"/>
                  </a:moveTo>
                  <a:arcTo wR="10800" hR="10800" stAng="-5388707" swAng="538870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85160" y="479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090840" y="39448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100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0:53:24Z</dcterms:created>
  <dc:creator>ww</dc:creator>
  <dc:description/>
  <dc:language>en-US</dc:language>
  <cp:lastModifiedBy>ylj</cp:lastModifiedBy>
  <dcterms:modified xsi:type="dcterms:W3CDTF">2003-05-27T03:58:57Z</dcterms:modified>
  <cp:revision>14</cp:revision>
  <dc:subject/>
  <dc:title>幻灯片 1</dc:title>
</cp:coreProperties>
</file>