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34F-8FCD-4BED-A31A-C4CAFFEF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FEE-50BF-46B9-8D56-A31E125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F5A-349F-4AAF-9B65-D1FFBF7B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AD0-8BE3-4439-93B1-BE841017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FA0-CDDB-45B6-B4A2-9F1CB2E7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5CE-6E9E-4128-B84E-96CF3BAA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46E-A64C-4D53-8D45-6D2395A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933-0108-42E5-8784-12E19FE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EDD-1EC7-4A4F-BAE8-B9202640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1F0-2051-4A6C-8F7E-5DAC409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B77-32EA-4F52-BD1A-5C6F480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D01-5634-4BCD-BD3F-530B079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ADDF-C2C0-468A-A087-CDD89F032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990720"/>
            <a:ext cx="792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华统计一个停车场里各种机动车的数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数出有摩托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小汽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大客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载重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帮助她完成下面的统计表和条形统计图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086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29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372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943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514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0800" y="25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0920" y="25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146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83640" y="362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9000" y="423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9000" y="4768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39000" y="5378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2000" y="3724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0120" y="42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6708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708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6600" y="311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8088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522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9480" y="511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12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1280" y="1690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280" y="6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3880" y="838080"/>
            <a:ext cx="6172200" cy="4572000"/>
            <a:chOff x="2063880" y="838080"/>
            <a:chExt cx="6172200" cy="4572000"/>
          </a:xfrm>
        </p:grpSpPr>
        <p:grpSp>
          <p:nvGrpSpPr>
            <p:cNvPr id="104" name=""/>
            <p:cNvGrpSpPr/>
            <p:nvPr/>
          </p:nvGrpSpPr>
          <p:grpSpPr>
            <a:xfrm>
              <a:off x="2063880" y="838080"/>
              <a:ext cx="6172200" cy="4572000"/>
              <a:chOff x="2063880" y="838080"/>
              <a:chExt cx="6172200" cy="4572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063880" y="838080"/>
                <a:ext cx="6172200" cy="45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63880" y="5181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63880" y="4724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3880" y="4952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63880" y="4495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63880" y="4267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3880" y="4038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63880" y="3809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63880" y="3581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63880" y="3352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63880" y="3124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63880" y="2895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63880" y="2666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63880" y="2438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3880" y="2209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63880" y="1981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63880" y="1752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3880" y="1523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63880" y="1295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63880" y="1066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49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1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70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4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0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23120" y="533160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90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792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1600" y="92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96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12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12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12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12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280" y="3352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1280" y="3124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21280" y="2895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21280" y="2666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2438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1280" y="2209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1280" y="1981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928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928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28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28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28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44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644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44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44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644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4724280"/>
            <a:ext cx="685800" cy="228600"/>
          </a:xfrm>
          <a:prstGeom prst="rect">
            <a:avLst/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华统计一个路口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钟那各种机动车通过的数量，并制成统计表和条形统计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009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4152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7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295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867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438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4382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0" y="2452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092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070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3640" y="3549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9000" y="415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9000" y="530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200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0120" y="4205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0120" y="480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0120" y="5334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3048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7920" y="48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9720" y="37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9720" y="25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9720" y="1447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62320" y="519120"/>
            <a:ext cx="6095880" cy="4572000"/>
            <a:chOff x="2362320" y="519120"/>
            <a:chExt cx="6095880" cy="4572000"/>
          </a:xfrm>
        </p:grpSpPr>
        <p:sp>
          <p:nvSpPr>
            <p:cNvPr id="213" name=""/>
            <p:cNvSpPr/>
            <p:nvPr/>
          </p:nvSpPr>
          <p:spPr>
            <a:xfrm>
              <a:off x="2362320" y="519120"/>
              <a:ext cx="609588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4862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4405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4176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48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3719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490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3033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3262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2805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2576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2347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2119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1890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1662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1433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1204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976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747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8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13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7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899720" y="228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84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347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119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890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1662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5541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29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29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4685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0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92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1240" y="49363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428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0224" descr=""/>
          <p:cNvPicPr/>
          <p:nvPr/>
        </p:nvPicPr>
        <p:blipFill>
          <a:blip r:embed="rId2"/>
          <a:stretch/>
        </p:blipFill>
        <p:spPr>
          <a:xfrm>
            <a:off x="571680" y="5334120"/>
            <a:ext cx="262872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95400" y="630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上面的条形统计图中，一个格代表几辆车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1371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控制人口过快增长是我国的一项基本国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从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，全国每年增加的人口数依次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完成  下面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9480" y="3581280"/>
            <a:ext cx="7543800" cy="1600200"/>
            <a:chOff x="609480" y="3581280"/>
            <a:chExt cx="7543800" cy="1600200"/>
          </a:xfrm>
        </p:grpSpPr>
        <p:sp>
          <p:nvSpPr>
            <p:cNvPr id="299" name=""/>
            <p:cNvSpPr/>
            <p:nvPr/>
          </p:nvSpPr>
          <p:spPr>
            <a:xfrm>
              <a:off x="609480" y="358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574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767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43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191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5181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5840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948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88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812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80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06400" y="3657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423540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增加人口数（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456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4880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812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8708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732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762120"/>
            <a:ext cx="13716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7280" y="15238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画“正”字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80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先写出要统计的数量名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600" y="31384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依次画“正”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9680" y="3976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数出各种题目，按需要分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ww</dc:creator>
  <dc:description/>
  <dc:language>en-US</dc:language>
  <cp:lastModifiedBy>a</cp:lastModifiedBy>
  <dcterms:modified xsi:type="dcterms:W3CDTF">2003-04-18T05:58:00Z</dcterms:modified>
  <cp:revision>65</cp:revision>
  <dc:subject/>
  <dc:title>PowerPoint 演示文稿</dc:title>
</cp:coreProperties>
</file>