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1D2-A0C5-443F-B971-6D41B7DD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B86-3B67-44AA-8027-14FDE5E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C1E-0F1E-4625-B83D-44061D5A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4AC-7A18-4F42-BC82-827531F2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D30-8F17-433A-860C-40881746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81C-503E-4BF4-9C1B-6BDD0BC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551-6F66-41F1-8BC7-819D1B2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E4C-CC68-4485-ACF3-BBC8F06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496-9BAF-4535-8FE2-904F964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0A7-72FB-4063-B509-4726504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4F8-50B9-416C-98E6-81455C9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B72-8914-438E-AFD8-04B29AC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7063-773F-4058-9A21-D2758ACFD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960" y="10126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一班女同学测量身高的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1676520"/>
            <a:ext cx="6858000" cy="3827520"/>
            <a:chOff x="1600200" y="1676520"/>
            <a:chExt cx="6858000" cy="3827520"/>
          </a:xfrm>
        </p:grpSpPr>
        <p:grpSp>
          <p:nvGrpSpPr>
            <p:cNvPr id="70" name=""/>
            <p:cNvGrpSpPr/>
            <p:nvPr/>
          </p:nvGrpSpPr>
          <p:grpSpPr>
            <a:xfrm>
              <a:off x="1600200" y="1676520"/>
              <a:ext cx="6858000" cy="3809880"/>
              <a:chOff x="1600200" y="1676520"/>
              <a:chExt cx="6858000" cy="3809880"/>
            </a:xfrm>
          </p:grpSpPr>
          <p:sp>
            <p:nvSpPr>
              <p:cNvPr id="71" name=""/>
              <p:cNvSpPr/>
              <p:nvPr/>
            </p:nvSpPr>
            <p:spPr>
              <a:xfrm>
                <a:off x="1600200" y="1676520"/>
                <a:ext cx="685800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00200" y="5105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0200" y="4724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343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00200" y="3962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00200" y="3581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00200" y="3200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0200" y="2819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2438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43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29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86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72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15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9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80828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30600" y="2422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秀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75520" y="2836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    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98920" y="3200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李娟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0760" y="35812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张   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8920" y="3962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静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9892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丽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76600" y="43275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宋   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0600" y="4721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桂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2176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176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2422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84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840" y="3565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380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63800" y="4357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3800" y="4738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0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4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4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6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00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00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6600" y="2438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蔡雅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1520" y="2820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秦    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6600" y="316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顾伟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6600" y="3563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牛爱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9840" y="3962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    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9840" y="432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    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29840" y="472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40280" y="5087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小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600" y="2420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冯淑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600" y="2803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杜小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4760" y="32018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许     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6800" y="35827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 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2600" y="3946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竞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3760" y="432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杨宁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7520" y="4725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夏    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260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武星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612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172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9588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588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84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6744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7440" y="5100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380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8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404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9140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五年级一班女同学身高情况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52920" y="213372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1148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52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25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2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17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6104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5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8120" y="3038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身 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7720" y="3595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厘  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7200" y="4281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3240" y="42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0" y="4267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360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9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160" y="4648320"/>
            <a:ext cx="587520" cy="581400"/>
          </a:xfrm>
          <a:prstGeom prst="rect">
            <a:avLst/>
          </a:prstGeom>
          <a:solidFill>
            <a:srgbClr val="6699ff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7320" y="5029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如果要计算这个班女同学的平均身高，应该怎样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872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身高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8560" y="1981080"/>
            <a:ext cx="31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～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4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范围内人数最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2280" y="243828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一共有多少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880" y="2936880"/>
            <a:ext cx="36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2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3670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整理后的统计表和原始数据记录单相比，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哪些优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9280" y="44928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便于查看，便于分析、比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3760" y="5462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需要根据哪个表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 一 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080" y="1179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二班男同学的体重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1951200"/>
            <a:ext cx="6858000" cy="3461040"/>
            <a:chOff x="1600200" y="1951200"/>
            <a:chExt cx="6858000" cy="3461040"/>
          </a:xfrm>
        </p:grpSpPr>
        <p:sp>
          <p:nvSpPr>
            <p:cNvPr id="206" name=""/>
            <p:cNvSpPr/>
            <p:nvPr/>
          </p:nvSpPr>
          <p:spPr>
            <a:xfrm>
              <a:off x="1600200" y="1951200"/>
              <a:ext cx="6858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998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0200" y="4618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237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3855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475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094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2712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828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0600" y="2697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文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0600" y="3094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文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560" y="3475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贾庭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0760" y="3855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程   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4560" y="42544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费   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3060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荣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5520" y="50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姚    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176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2176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880" y="2697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6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188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7840" y="3840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1160" y="4237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4600" y="463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4600" y="5013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00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3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3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6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9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9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1520" y="27306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肖    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16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战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6600" y="3441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包天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6600" y="3838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方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29840" y="4237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陈    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8456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任小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29840" y="4998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金    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600" y="2712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凌   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2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天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4760" y="34765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 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6440" y="385776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     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2600" y="422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孙克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47520" y="46195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600" y="4983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黄国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84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1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6600" y="3475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568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9660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10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504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4452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452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452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452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4452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92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452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2057400"/>
            <a:ext cx="6629400" cy="1676520"/>
            <a:chOff x="1676520" y="2057400"/>
            <a:chExt cx="6629400" cy="1676520"/>
          </a:xfrm>
        </p:grpSpPr>
        <p:sp>
          <p:nvSpPr>
            <p:cNvPr id="282" name=""/>
            <p:cNvSpPr/>
            <p:nvPr/>
          </p:nvSpPr>
          <p:spPr>
            <a:xfrm>
              <a:off x="1676520" y="20574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812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3720" y="2286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重（千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1640" y="31240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            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126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5064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376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02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396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0200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9440" y="4114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个班男同学体重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5240" y="4890960"/>
            <a:ext cx="51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～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的范围内的人数最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8800" y="1295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原始数据进行分组整理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20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找出原始数据的范围，最大、最小各是多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28195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根据统计的需要何数据范围的具体情况， 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据的范围分成几组，并按照一定的顺序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列编制成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57840" y="47242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统计各组中的原始数据的数目，填写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a</cp:lastModifiedBy>
  <dcterms:modified xsi:type="dcterms:W3CDTF">2003-04-18T05:57:11Z</dcterms:modified>
  <cp:revision>47</cp:revision>
  <dc:subject/>
  <dc:title>PowerPoint 演示文稿</dc:title>
</cp:coreProperties>
</file>