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09E-4F6C-4F0C-8E37-A179AF7A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445-5EBE-4083-894A-0F5F736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C9D-971C-45D7-81B0-83C99751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CC9-AB60-4E01-AA32-5DF537EB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71F-502A-4682-8A5F-D2568518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F63-44DC-4ABB-9877-5213D1DF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530-1B38-43E0-B1A5-EBA0D5B9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BCD-72CD-4DB9-98F8-2B9514C0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E5E-508D-4341-A1B9-26B3AD4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8AF-5419-4601-8A39-0BECE9FB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649-FA65-4678-94BC-4BFB5ABA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E27-1C20-47D3-85BD-2E4BE90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7A5C-9141-4715-BA8B-D8C6CBD117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0600" y="106524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我国运动员在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~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夏季奥运会上各获得奖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。制成获奖牌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956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38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奖牌数（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4800" y="31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         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22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536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908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1964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22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536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920" y="3809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26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98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兴农小学活动课程四个小组的学生人数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98560" y="2590920"/>
            <a:ext cx="7559640" cy="3202920"/>
            <a:chOff x="898560" y="2590920"/>
            <a:chExt cx="7559640" cy="3202920"/>
          </a:xfrm>
        </p:grpSpPr>
        <p:grpSp>
          <p:nvGrpSpPr>
            <p:cNvPr id="100" name=""/>
            <p:cNvGrpSpPr/>
            <p:nvPr/>
          </p:nvGrpSpPr>
          <p:grpSpPr>
            <a:xfrm>
              <a:off x="898560" y="2590920"/>
              <a:ext cx="3200400" cy="1432800"/>
              <a:chOff x="898560" y="2590920"/>
              <a:chExt cx="3200400" cy="143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73720" y="259092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数学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56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856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856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2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7472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684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620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2204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6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20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286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668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71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3556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57800" y="2590920"/>
              <a:ext cx="3200400" cy="1432800"/>
              <a:chOff x="5257800" y="2590920"/>
              <a:chExt cx="3200400" cy="14328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31880" y="259092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生物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780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5780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220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3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9608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6544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8128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956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57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78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59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3564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480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898560" y="4361040"/>
              <a:ext cx="3200400" cy="1432800"/>
              <a:chOff x="898560" y="4361040"/>
              <a:chExt cx="3200400" cy="14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720" y="436104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航模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985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985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129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47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68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062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20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64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2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286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66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971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3556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241960" y="4361040"/>
              <a:ext cx="3200400" cy="1432800"/>
              <a:chOff x="5241960" y="4361040"/>
              <a:chExt cx="3200400" cy="1432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6040" y="436104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美术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419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19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19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563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81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802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96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54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98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416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0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00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405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7860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514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200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114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029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280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2004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3657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4320" y="4114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4320" y="4572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00600" y="1828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9160" y="1828800"/>
            <a:ext cx="24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BF0B5-F714-4CB4-B73D-9BE65D8CEF60}" type="datetime1">
              <a:rPr lang="en-US"/>
              <a:t>07/31/26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14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02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48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9080" y="263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112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344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360" y="41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140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614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514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666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960" y="287640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组     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74280" y="2487600"/>
            <a:ext cx="537480" cy="516600"/>
            <a:chOff x="2474280" y="2487600"/>
            <a:chExt cx="537480" cy="516600"/>
          </a:xfrm>
        </p:grpSpPr>
        <p:sp>
          <p:nvSpPr>
            <p:cNvPr id="222" name=""/>
            <p:cNvSpPr/>
            <p:nvPr/>
          </p:nvSpPr>
          <p:spPr>
            <a:xfrm>
              <a:off x="2474280" y="248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9000" y="2666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18640" y="2482920"/>
            <a:ext cx="683640" cy="494280"/>
            <a:chOff x="1718640" y="2482920"/>
            <a:chExt cx="683640" cy="494280"/>
          </a:xfrm>
        </p:grpSpPr>
        <p:sp>
          <p:nvSpPr>
            <p:cNvPr id="225" name=""/>
            <p:cNvSpPr/>
            <p:nvPr/>
          </p:nvSpPr>
          <p:spPr>
            <a:xfrm>
              <a:off x="1718640" y="2482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9520" y="2639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0960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11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324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6600" y="36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660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1660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8520" y="3648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9160" y="4105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41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080" y="50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960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4720" y="319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916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1400" y="181944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9200" y="1828800"/>
            <a:ext cx="24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四个小组共有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其中男生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女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560" y="2376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29200" y="30621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男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6080" y="38242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女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0224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43000" y="4800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可以看出什么哪些情况呢？你们能告诉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7960" y="11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6320" y="15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3560" y="15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876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4952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86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1360" y="1468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书店第一季度的售书情况如下，制成统计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0680" y="215424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60680" y="327672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0680" y="455760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9200" y="1461960"/>
            <a:ext cx="13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第一季度售出图书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701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38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84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30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75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1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7018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5444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7000" y="30639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种 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74280" y="2674800"/>
            <a:ext cx="537480" cy="516600"/>
            <a:chOff x="2474280" y="2674800"/>
            <a:chExt cx="537480" cy="516600"/>
          </a:xfrm>
        </p:grpSpPr>
        <p:sp>
          <p:nvSpPr>
            <p:cNvPr id="302" name=""/>
            <p:cNvSpPr/>
            <p:nvPr/>
          </p:nvSpPr>
          <p:spPr>
            <a:xfrm>
              <a:off x="2474280" y="26748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09000" y="2854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18640" y="2670120"/>
            <a:ext cx="683640" cy="494280"/>
            <a:chOff x="1718640" y="2670120"/>
            <a:chExt cx="683640" cy="494280"/>
          </a:xfrm>
        </p:grpSpPr>
        <p:sp>
          <p:nvSpPr>
            <p:cNvPr id="305" name=""/>
            <p:cNvSpPr/>
            <p:nvPr/>
          </p:nvSpPr>
          <p:spPr>
            <a:xfrm>
              <a:off x="1718640" y="26701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9520" y="282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95880" y="2819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92600" y="2819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5040" y="2825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0920" y="28400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1720" y="34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1400" y="388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艺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840" y="432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科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840" y="478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0240" y="384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386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600" y="385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4400" y="431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768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560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620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182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898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2280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9876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6080" y="338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768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560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342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7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08280" y="2048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6000" y="2038320"/>
            <a:ext cx="24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ww</dc:creator>
  <dc:description/>
  <dc:language>en-US</dc:language>
  <cp:lastModifiedBy>ccw</cp:lastModifiedBy>
  <dcterms:modified xsi:type="dcterms:W3CDTF">2004-03-11T08:49:01Z</dcterms:modified>
  <cp:revision>71</cp:revision>
  <dc:subject/>
  <dc:title>PowerPoint 演示文稿</dc:title>
</cp:coreProperties>
</file>