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3.gif" ContentType="image/gif"/>
  <Override PartName="/ppt/media/image11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.gif" ContentType="image/gif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170-E9C2-44DF-BB18-603BE00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C3B-1FC1-4954-B220-6404243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E50-D314-47F0-B2B3-B225187A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60D-766C-42D2-8BD3-C233C47B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5D96-8A34-4D96-8221-711E9968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0DC-7FC2-46D9-ACE0-82686F0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694-335B-4B9C-966B-35EE397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2F8-F888-4A71-A8A5-A87ACE84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DB3-F115-44C7-932D-9B52680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2402-D36A-4C97-B614-C63A67D2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3693-3800-45DA-9DE3-7A6EC8D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473-B3EA-4287-B254-5CC00C2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8E41-523F-4146-9CAC-E087C55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4CB-6421-4DDD-884E-B255B7E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2A1-D1A1-4B4E-B535-A2743B1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F91-6E46-495E-AAB6-4CBE4C77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E18C-658A-4E3A-B750-CDAD7C9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098-31A1-47D3-AD62-1B4C36D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B64-457A-4185-9C59-1B648520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DB8-8EE9-4653-AAF3-940C190A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77F-CC22-4348-B1E1-FA256E6E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F9B-3204-4FE4-9ED6-0A8B243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31E-A055-46C2-B725-1283250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88D-2F96-45E3-8271-A8F2C60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7940-9702-4289-96C2-36B5280679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6D9-B112-45AE-8EF4-DE0F48EB45B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76320"/>
            <a:ext cx="9219960" cy="6780960"/>
            <a:chOff x="0" y="76320"/>
            <a:chExt cx="9219960" cy="6780960"/>
          </a:xfrm>
        </p:grpSpPr>
        <p:pic>
          <p:nvPicPr>
            <p:cNvPr id="99" name="9996" descr=""/>
            <p:cNvPicPr/>
            <p:nvPr/>
          </p:nvPicPr>
          <p:blipFill>
            <a:blip r:embed="rId1"/>
            <a:stretch/>
          </p:blipFill>
          <p:spPr>
            <a:xfrm>
              <a:off x="95040" y="264240"/>
              <a:ext cx="9124920" cy="65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a2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4909320" cy="357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a1" descr=""/>
            <p:cNvPicPr/>
            <p:nvPr/>
          </p:nvPicPr>
          <p:blipFill>
            <a:blip r:embed="rId3"/>
            <a:stretch/>
          </p:blipFill>
          <p:spPr>
            <a:xfrm>
              <a:off x="5627520" y="676440"/>
              <a:ext cx="3432600" cy="22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a5" descr=""/>
            <p:cNvPicPr/>
            <p:nvPr/>
          </p:nvPicPr>
          <p:blipFill>
            <a:blip r:embed="rId4"/>
            <a:stretch/>
          </p:blipFill>
          <p:spPr>
            <a:xfrm>
              <a:off x="1272240" y="3148920"/>
              <a:ext cx="1776240" cy="23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a5" descr=""/>
            <p:cNvPicPr/>
            <p:nvPr/>
          </p:nvPicPr>
          <p:blipFill>
            <a:blip r:embed="rId5"/>
            <a:stretch/>
          </p:blipFill>
          <p:spPr>
            <a:xfrm>
              <a:off x="6358680" y="3354840"/>
              <a:ext cx="1776240" cy="239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 txBox="1"/>
          <p:nvPr/>
        </p:nvSpPr>
        <p:spPr>
          <a:xfrm>
            <a:off x="1981080" y="34290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汉仪中隶书简"/>
              </a:rPr>
              <a:t>一年级兴趣活动课</a:t>
            </a:r>
            <a:endParaRPr b="0" lang="en-US" sz="5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汉仪中隶书简"/>
              <a:ea typeface="汉仪中隶书简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52280"/>
            <a:ext cx="62485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汉仪中隶书简"/>
              </a:rPr>
              <a:t>九年义务教育六年制小学数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汉仪中隶书简"/>
              </a:rPr>
              <a:t>第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2362320" y="1828800"/>
            <a:ext cx="4952880" cy="3124080"/>
            <a:chOff x="2362320" y="1828800"/>
            <a:chExt cx="4952880" cy="3124080"/>
          </a:xfrm>
        </p:grpSpPr>
        <p:sp>
          <p:nvSpPr>
            <p:cNvPr id="418" name=""/>
            <p:cNvSpPr/>
            <p:nvPr/>
          </p:nvSpPr>
          <p:spPr>
            <a:xfrm>
              <a:off x="2362320" y="182880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819520" y="2286000"/>
              <a:ext cx="4114800" cy="215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推理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68280" y="2627640"/>
            <a:ext cx="1473120" cy="1830960"/>
            <a:chOff x="368280" y="2627640"/>
            <a:chExt cx="1473120" cy="1830960"/>
          </a:xfrm>
        </p:grpSpPr>
        <p:sp>
          <p:nvSpPr>
            <p:cNvPr id="421" name=""/>
            <p:cNvSpPr/>
            <p:nvPr/>
          </p:nvSpPr>
          <p:spPr>
            <a:xfrm rot="16404000">
              <a:off x="228240" y="2856960"/>
              <a:ext cx="175284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2120" y="3809880"/>
              <a:ext cx="761760" cy="360"/>
            </a:xfrm>
            <a:prstGeom prst="line">
              <a:avLst/>
            </a:prstGeom>
            <a:noFill/>
            <a:ln w="7632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3352680"/>
              <a:ext cx="30456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3581280"/>
              <a:ext cx="45720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57200" y="762120"/>
            <a:ext cx="7924320" cy="2286000"/>
            <a:chOff x="457200" y="762120"/>
            <a:chExt cx="7924320" cy="2286000"/>
          </a:xfrm>
        </p:grpSpPr>
        <p:graphicFrame>
          <p:nvGraphicFramePr>
            <p:cNvPr id="426" name=""/>
            <p:cNvGraphicFramePr/>
            <p:nvPr/>
          </p:nvGraphicFramePr>
          <p:xfrm>
            <a:off x="457200" y="762120"/>
            <a:ext cx="295200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762120"/>
                      <a:ext cx="295200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4108320" y="1144080"/>
            <a:ext cx="2175480" cy="153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08320" y="1144080"/>
                      <a:ext cx="2175480" cy="153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"/>
            <p:cNvGraphicFramePr/>
            <p:nvPr/>
          </p:nvGraphicFramePr>
          <p:xfrm>
            <a:off x="6206040" y="1182960"/>
            <a:ext cx="2175480" cy="152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06040" y="1182960"/>
                      <a:ext cx="2175480" cy="15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/>
            <p:nvPr/>
          </p:nvSpPr>
          <p:spPr>
            <a:xfrm>
              <a:off x="3409200" y="1257480"/>
              <a:ext cx="854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838080" y="2895480"/>
            <a:ext cx="6728040" cy="2210040"/>
            <a:chOff x="838080" y="2895480"/>
            <a:chExt cx="6728040" cy="2210040"/>
          </a:xfrm>
        </p:grpSpPr>
        <p:graphicFrame>
          <p:nvGraphicFramePr>
            <p:cNvPr id="434" name=""/>
            <p:cNvGraphicFramePr/>
            <p:nvPr/>
          </p:nvGraphicFramePr>
          <p:xfrm>
            <a:off x="6477120" y="3886200"/>
            <a:ext cx="10890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7120" y="3886200"/>
                      <a:ext cx="1089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838080" y="3125880"/>
            <a:ext cx="2667240" cy="172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8080" y="3125880"/>
                      <a:ext cx="2667240" cy="17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4168800" y="2895480"/>
            <a:ext cx="1089000" cy="110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68800" y="2895480"/>
                      <a:ext cx="1089000" cy="11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0" name=""/>
            <p:cNvGraphicFramePr/>
            <p:nvPr/>
          </p:nvGraphicFramePr>
          <p:xfrm>
            <a:off x="4168800" y="4000680"/>
            <a:ext cx="1089000" cy="1104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68800" y="400068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2" name=""/>
            <p:cNvGraphicFramePr/>
            <p:nvPr/>
          </p:nvGraphicFramePr>
          <p:xfrm>
            <a:off x="5235480" y="2968560"/>
            <a:ext cx="1089000" cy="1104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35480" y="296856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4" name=""/>
            <p:cNvGraphicFramePr/>
            <p:nvPr/>
          </p:nvGraphicFramePr>
          <p:xfrm>
            <a:off x="5311800" y="4000680"/>
            <a:ext cx="1089000" cy="1104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11800" y="400068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"/>
            <p:cNvGraphicFramePr/>
            <p:nvPr/>
          </p:nvGraphicFramePr>
          <p:xfrm>
            <a:off x="6378480" y="2968560"/>
            <a:ext cx="1089000" cy="1104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78480" y="2968560"/>
                      <a:ext cx="10890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3429000" y="337968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85800" y="4495680"/>
            <a:ext cx="6781320" cy="2328480"/>
            <a:chOff x="685800" y="4495680"/>
            <a:chExt cx="6781320" cy="2328480"/>
          </a:xfrm>
        </p:grpSpPr>
        <p:graphicFrame>
          <p:nvGraphicFramePr>
            <p:cNvPr id="450" name=""/>
            <p:cNvGraphicFramePr/>
            <p:nvPr/>
          </p:nvGraphicFramePr>
          <p:xfrm>
            <a:off x="685800" y="4495680"/>
            <a:ext cx="2961720" cy="2328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85800" y="4495680"/>
                      <a:ext cx="2961720" cy="23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6353280" y="5211360"/>
            <a:ext cx="1113840" cy="1176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53280" y="5211360"/>
                      <a:ext cx="111384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"/>
            <p:cNvSpPr/>
            <p:nvPr/>
          </p:nvSpPr>
          <p:spPr>
            <a:xfrm>
              <a:off x="3492000" y="5178600"/>
              <a:ext cx="2572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Times New Roman"/>
                </a:rPr>
                <a:t>= (    )</a:t>
              </a: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0" y="-76320"/>
            <a:ext cx="6933600" cy="1008360"/>
            <a:chOff x="0" y="-76320"/>
            <a:chExt cx="6933600" cy="1008360"/>
          </a:xfrm>
        </p:grpSpPr>
        <p:sp>
          <p:nvSpPr>
            <p:cNvPr id="456" name=""/>
            <p:cNvSpPr/>
            <p:nvPr/>
          </p:nvSpPr>
          <p:spPr>
            <a:xfrm>
              <a:off x="433080" y="-76320"/>
              <a:ext cx="650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   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推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75960"/>
              <a:ext cx="4333680" cy="83808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419720" y="5334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76320" y="0"/>
            <a:ext cx="9067680" cy="2133360"/>
            <a:chOff x="76320" y="0"/>
            <a:chExt cx="9067680" cy="2133360"/>
          </a:xfrm>
        </p:grpSpPr>
        <p:graphicFrame>
          <p:nvGraphicFramePr>
            <p:cNvPr id="460" name=""/>
            <p:cNvGraphicFramePr/>
            <p:nvPr/>
          </p:nvGraphicFramePr>
          <p:xfrm>
            <a:off x="76320" y="0"/>
            <a:ext cx="2133360" cy="21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0"/>
                      <a:ext cx="213336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676520" y="228600"/>
              <a:ext cx="746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2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.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空格里是什么图形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477120" y="5135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438280" y="1752480"/>
            <a:ext cx="5257800" cy="4800600"/>
            <a:chOff x="2438280" y="1752480"/>
            <a:chExt cx="5257800" cy="4800600"/>
          </a:xfrm>
        </p:grpSpPr>
        <p:sp>
          <p:nvSpPr>
            <p:cNvPr id="465" name=""/>
            <p:cNvSpPr/>
            <p:nvPr/>
          </p:nvSpPr>
          <p:spPr>
            <a:xfrm>
              <a:off x="2438280" y="3352680"/>
              <a:ext cx="52578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438280" y="1752480"/>
              <a:ext cx="5257800" cy="4800600"/>
              <a:chOff x="2438280" y="1752480"/>
              <a:chExt cx="5257800" cy="4800600"/>
            </a:xfrm>
          </p:grpSpPr>
          <p:sp>
            <p:nvSpPr>
              <p:cNvPr id="467" name=""/>
              <p:cNvSpPr/>
              <p:nvPr/>
            </p:nvSpPr>
            <p:spPr>
              <a:xfrm>
                <a:off x="2438280" y="1752480"/>
                <a:ext cx="5257800" cy="4800600"/>
              </a:xfrm>
              <a:prstGeom prst="rect">
                <a:avLst/>
              </a:prstGeom>
              <a:noFill/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8280" y="4952880"/>
                <a:ext cx="5257800" cy="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91120" y="1752480"/>
                <a:ext cx="0" cy="480060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19920" y="1752480"/>
                <a:ext cx="0" cy="480060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2590920" y="1905120"/>
                <a:ext cx="1371600" cy="1371600"/>
                <a:chOff x="2590920" y="1905120"/>
                <a:chExt cx="1371600" cy="13716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590920" y="1905120"/>
                  <a:ext cx="1371600" cy="1371600"/>
                </a:xfrm>
                <a:prstGeom prst="diamond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590920" y="25909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276720" y="19051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495320" y="1981080"/>
                <a:ext cx="1219680" cy="1143000"/>
                <a:chOff x="4495320" y="1981080"/>
                <a:chExt cx="1219680" cy="1143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495680" y="1981080"/>
                  <a:ext cx="1219320" cy="11430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495320" y="1981080"/>
                  <a:ext cx="121932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495680" y="1981080"/>
                  <a:ext cx="121932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590920" y="3505320"/>
                <a:ext cx="1371600" cy="1371600"/>
                <a:chOff x="2590920" y="3505320"/>
                <a:chExt cx="1371600" cy="13716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590920" y="350532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90920" y="41911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76720" y="35053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248160" y="3581280"/>
                <a:ext cx="1143360" cy="1143000"/>
                <a:chOff x="6248160" y="3581280"/>
                <a:chExt cx="1143360" cy="11430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248520" y="3581280"/>
                  <a:ext cx="1143000" cy="11430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248160" y="3581280"/>
                  <a:ext cx="114300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48520" y="3581280"/>
                  <a:ext cx="1143000" cy="1143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419720" y="3505320"/>
                <a:ext cx="1371600" cy="1371600"/>
                <a:chOff x="4419720" y="3505320"/>
                <a:chExt cx="1371600" cy="1371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419720" y="3505320"/>
                  <a:ext cx="1371600" cy="1371600"/>
                </a:xfrm>
                <a:prstGeom prst="diamond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419720" y="41911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105520" y="35053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172200" y="1828800"/>
                <a:ext cx="1371600" cy="1371600"/>
                <a:chOff x="6172200" y="1828800"/>
                <a:chExt cx="1371600" cy="13716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172200" y="182880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172200" y="251460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858000" y="182880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666880" y="5181480"/>
                <a:ext cx="1295280" cy="1219320"/>
                <a:chOff x="2666880" y="5181480"/>
                <a:chExt cx="1295280" cy="1219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666880" y="5181480"/>
                  <a:ext cx="1295280" cy="12193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666880" y="5181480"/>
                  <a:ext cx="129528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666880" y="5181480"/>
                  <a:ext cx="129528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419720" y="5105520"/>
                <a:ext cx="1371600" cy="1371600"/>
                <a:chOff x="4419720" y="5105520"/>
                <a:chExt cx="1371600" cy="13716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419720" y="5105520"/>
                  <a:ext cx="1371600" cy="137160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419720" y="57913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105520" y="51055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"/>
          <p:cNvGrpSpPr/>
          <p:nvPr/>
        </p:nvGrpSpPr>
        <p:grpSpPr>
          <a:xfrm>
            <a:off x="6172200" y="5105520"/>
            <a:ext cx="1371600" cy="1371600"/>
            <a:chOff x="6172200" y="5105520"/>
            <a:chExt cx="1371600" cy="1371600"/>
          </a:xfrm>
        </p:grpSpPr>
        <p:sp>
          <p:nvSpPr>
            <p:cNvPr id="504" name=""/>
            <p:cNvSpPr/>
            <p:nvPr/>
          </p:nvSpPr>
          <p:spPr>
            <a:xfrm>
              <a:off x="6172200" y="5105520"/>
              <a:ext cx="1371600" cy="1371600"/>
            </a:xfrm>
            <a:prstGeom prst="diamond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72200" y="579132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0" y="51055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1522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、下图是一串珠子，它是按一定规律排列的。请细心观后再回答：横线上有几颗珠子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733920" y="3733920"/>
            <a:ext cx="1600200" cy="457200"/>
            <a:chOff x="3733920" y="3733920"/>
            <a:chExt cx="1600200" cy="457200"/>
          </a:xfrm>
        </p:grpSpPr>
        <p:sp>
          <p:nvSpPr>
            <p:cNvPr id="509" name=""/>
            <p:cNvSpPr/>
            <p:nvPr/>
          </p:nvSpPr>
          <p:spPr>
            <a:xfrm>
              <a:off x="3733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708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6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200" y="3733920"/>
            <a:ext cx="8229600" cy="685800"/>
            <a:chOff x="457200" y="3733920"/>
            <a:chExt cx="8229600" cy="685800"/>
          </a:xfrm>
        </p:grpSpPr>
        <p:sp>
          <p:nvSpPr>
            <p:cNvPr id="513" name=""/>
            <p:cNvSpPr/>
            <p:nvPr/>
          </p:nvSpPr>
          <p:spPr>
            <a:xfrm>
              <a:off x="9907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720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238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574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240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909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1008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5308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2012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solidFill>
              <a:srgbClr val="f82ab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29600" y="3733920"/>
              <a:ext cx="4572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1972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371600" y="66996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0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、</a:t>
            </a:r>
            <a:r>
              <a:rPr b="1" lang="zh-CN" sz="6000" spc="-1" strike="noStrike">
                <a:solidFill>
                  <a:srgbClr val="333399"/>
                </a:solidFill>
                <a:latin typeface="隶书"/>
                <a:ea typeface="隶书"/>
              </a:rPr>
              <a:t>按规律填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28600" y="2819520"/>
            <a:ext cx="8915400" cy="1008360"/>
            <a:chOff x="228600" y="2819520"/>
            <a:chExt cx="8915400" cy="1008360"/>
          </a:xfrm>
        </p:grpSpPr>
        <p:sp>
          <p:nvSpPr>
            <p:cNvPr id="528" name=""/>
            <p:cNvSpPr/>
            <p:nvPr/>
          </p:nvSpPr>
          <p:spPr>
            <a:xfrm>
              <a:off x="228600" y="2819520"/>
              <a:ext cx="891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     、   、   、   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0532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24480" y="3368520"/>
              <a:ext cx="1067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0120" y="336852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28600" y="4479840"/>
            <a:ext cx="8915400" cy="1008360"/>
            <a:chOff x="228600" y="4479840"/>
            <a:chExt cx="8915400" cy="1008360"/>
          </a:xfrm>
        </p:grpSpPr>
        <p:sp>
          <p:nvSpPr>
            <p:cNvPr id="534" name=""/>
            <p:cNvSpPr/>
            <p:nvPr/>
          </p:nvSpPr>
          <p:spPr>
            <a:xfrm>
              <a:off x="228600" y="4479840"/>
              <a:ext cx="891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、     、   、   、   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532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2920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24480" y="5028840"/>
              <a:ext cx="1067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20120" y="502884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505320" y="24382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240660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8520" y="23623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0120" y="240660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40831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幼圆"/>
                <a:ea typeface="幼圆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403848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0384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96080" y="4006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幼圆"/>
                <a:ea typeface="幼圆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2895480" y="1905120"/>
            <a:ext cx="4953240" cy="3124080"/>
            <a:chOff x="2895480" y="1905120"/>
            <a:chExt cx="4953240" cy="3124080"/>
          </a:xfrm>
        </p:grpSpPr>
        <p:sp>
          <p:nvSpPr>
            <p:cNvPr id="548" name=""/>
            <p:cNvSpPr/>
            <p:nvPr/>
          </p:nvSpPr>
          <p:spPr>
            <a:xfrm>
              <a:off x="2895480" y="1905120"/>
              <a:ext cx="495324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335268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比一比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78120" y="2247120"/>
            <a:ext cx="1473120" cy="1830600"/>
            <a:chOff x="978120" y="2247120"/>
            <a:chExt cx="1473120" cy="1830600"/>
          </a:xfrm>
        </p:grpSpPr>
        <p:sp>
          <p:nvSpPr>
            <p:cNvPr id="551" name=""/>
            <p:cNvSpPr/>
            <p:nvPr/>
          </p:nvSpPr>
          <p:spPr>
            <a:xfrm rot="16404000">
              <a:off x="838080" y="247644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66680" y="2552760"/>
              <a:ext cx="1067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四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914400" y="2438280"/>
          <a:ext cx="6095880" cy="41403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914400" y="2895480"/>
            <a:ext cx="6095520" cy="914400"/>
            <a:chOff x="914400" y="2895480"/>
            <a:chExt cx="6095520" cy="914400"/>
          </a:xfrm>
        </p:grpSpPr>
        <p:sp>
          <p:nvSpPr>
            <p:cNvPr id="555" name=""/>
            <p:cNvSpPr/>
            <p:nvPr/>
          </p:nvSpPr>
          <p:spPr>
            <a:xfrm>
              <a:off x="914400" y="335268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160" y="28954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00040" y="28954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24280" y="33526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86040" y="335268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6160" y="2895480"/>
              <a:ext cx="1523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0004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3809880"/>
              <a:ext cx="761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8604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914400" y="457200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14400" y="5791320"/>
            <a:ext cx="6095880" cy="838080"/>
            <a:chOff x="914400" y="5791320"/>
            <a:chExt cx="6095880" cy="838080"/>
          </a:xfrm>
        </p:grpSpPr>
        <p:sp>
          <p:nvSpPr>
            <p:cNvPr id="566" name=""/>
            <p:cNvSpPr/>
            <p:nvPr/>
          </p:nvSpPr>
          <p:spPr>
            <a:xfrm>
              <a:off x="914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43828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8280" y="579132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20040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00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72428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486400" y="57913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24280" y="5791320"/>
              <a:ext cx="762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86400" y="66294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7238880" y="272736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94668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5200" y="53341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(    )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696080" y="5334120"/>
            <a:ext cx="838440" cy="838080"/>
            <a:chOff x="7696080" y="5334120"/>
            <a:chExt cx="838440" cy="838080"/>
          </a:xfrm>
        </p:grpSpPr>
        <p:sp>
          <p:nvSpPr>
            <p:cNvPr id="579" name=""/>
            <p:cNvSpPr/>
            <p:nvPr/>
          </p:nvSpPr>
          <p:spPr>
            <a:xfrm>
              <a:off x="7696080" y="5867280"/>
              <a:ext cx="30492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001000" y="5334120"/>
              <a:ext cx="53352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696080" y="4267080"/>
            <a:ext cx="6098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838080" y="0"/>
            <a:ext cx="8153640" cy="2133720"/>
            <a:chOff x="838080" y="0"/>
            <a:chExt cx="8153640" cy="2133720"/>
          </a:xfrm>
        </p:grpSpPr>
        <p:sp>
          <p:nvSpPr>
            <p:cNvPr id="583" name=""/>
            <p:cNvSpPr/>
            <p:nvPr/>
          </p:nvSpPr>
          <p:spPr>
            <a:xfrm>
              <a:off x="838080" y="0"/>
              <a:ext cx="815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1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。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比较长短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: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指出哪条线最长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,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在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(   )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里打“   ”；哪条线最短，在（   ）里打“    ”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0600" y="1523880"/>
              <a:ext cx="533520" cy="609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809880" y="914400"/>
              <a:ext cx="533520" cy="380880"/>
              <a:chOff x="3809880" y="914400"/>
              <a:chExt cx="533520" cy="380880"/>
            </a:xfrm>
          </p:grpSpPr>
          <p:sp>
            <p:nvSpPr>
              <p:cNvPr id="586" name=""/>
              <p:cNvSpPr/>
              <p:nvPr/>
            </p:nvSpPr>
            <p:spPr>
              <a:xfrm>
                <a:off x="3809880" y="1066680"/>
                <a:ext cx="152280" cy="2286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962160" y="914400"/>
                <a:ext cx="381240" cy="380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838080" y="2362320"/>
          <a:ext cx="7543800" cy="380988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853920"/>
                <a:gridCol w="762120"/>
                <a:gridCol w="647640"/>
                <a:gridCol w="723960"/>
                <a:gridCol w="838080"/>
                <a:gridCol w="701640"/>
                <a:gridCol w="754200"/>
                <a:gridCol w="75384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2362320"/>
            <a:ext cx="7543800" cy="3809880"/>
            <a:chOff x="838080" y="2362320"/>
            <a:chExt cx="7543800" cy="3809880"/>
          </a:xfrm>
        </p:grpSpPr>
        <p:sp>
          <p:nvSpPr>
            <p:cNvPr id="590" name=""/>
            <p:cNvSpPr/>
            <p:nvPr/>
          </p:nvSpPr>
          <p:spPr>
            <a:xfrm>
              <a:off x="838080" y="5029200"/>
              <a:ext cx="3048120" cy="1143000"/>
            </a:xfrm>
            <a:prstGeom prst="rect">
              <a:avLst/>
            </a:prstGeom>
            <a:noFill/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962520" y="2362320"/>
              <a:ext cx="2286000" cy="2286000"/>
              <a:chOff x="3962520" y="2362320"/>
              <a:chExt cx="2286000" cy="2286000"/>
            </a:xfrm>
          </p:grpSpPr>
          <p:sp>
            <p:nvSpPr>
              <p:cNvPr id="592" name=""/>
              <p:cNvSpPr/>
              <p:nvPr/>
            </p:nvSpPr>
            <p:spPr>
              <a:xfrm>
                <a:off x="3962520" y="2362320"/>
                <a:ext cx="2286000" cy="2284200"/>
              </a:xfrm>
              <a:prstGeom prst="line">
                <a:avLst/>
              </a:prstGeom>
              <a:ln w="7632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962520" y="2421000"/>
                <a:ext cx="2286000" cy="2227320"/>
                <a:chOff x="3962520" y="2421000"/>
                <a:chExt cx="2286000" cy="22273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962520" y="2421000"/>
                  <a:ext cx="0" cy="2208240"/>
                </a:xfrm>
                <a:prstGeom prst="line">
                  <a:avLst/>
                </a:prstGeom>
                <a:ln w="7632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962520" y="4648320"/>
                  <a:ext cx="2286000" cy="0"/>
                </a:xfrm>
                <a:prstGeom prst="line">
                  <a:avLst/>
                </a:prstGeom>
                <a:ln w="7632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6858000" y="4648320"/>
              <a:ext cx="1523880" cy="1523880"/>
            </a:xfrm>
            <a:prstGeom prst="rect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33520" y="-76320"/>
            <a:ext cx="8610480" cy="2133720"/>
            <a:chOff x="533520" y="-76320"/>
            <a:chExt cx="8610480" cy="2133720"/>
          </a:xfrm>
        </p:grpSpPr>
        <p:sp>
          <p:nvSpPr>
            <p:cNvPr id="598" name=""/>
            <p:cNvSpPr/>
            <p:nvPr/>
          </p:nvSpPr>
          <p:spPr>
            <a:xfrm>
              <a:off x="533520" y="-76320"/>
              <a:ext cx="8610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2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。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比较大小</a:t>
              </a:r>
              <a:r>
                <a:rPr b="1" lang="zh-CN" sz="4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: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下面的三个图形哪一个最大，在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(   )</a:t>
              </a: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里打“   ”；哪一个最小，在（   ）里打“    ”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315200" y="838080"/>
              <a:ext cx="533520" cy="380880"/>
              <a:chOff x="7315200" y="838080"/>
              <a:chExt cx="533520" cy="380880"/>
            </a:xfrm>
          </p:grpSpPr>
          <p:sp>
            <p:nvSpPr>
              <p:cNvPr id="600" name=""/>
              <p:cNvSpPr/>
              <p:nvPr/>
            </p:nvSpPr>
            <p:spPr>
              <a:xfrm>
                <a:off x="7315200" y="990360"/>
                <a:ext cx="152280" cy="2286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467480" y="838080"/>
                <a:ext cx="381240" cy="380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8229600" y="1447920"/>
              <a:ext cx="53352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295280" y="4784760"/>
            <a:ext cx="7391520" cy="2227680"/>
            <a:chOff x="1295280" y="4784760"/>
            <a:chExt cx="7391520" cy="2227680"/>
          </a:xfrm>
        </p:grpSpPr>
        <p:sp>
          <p:nvSpPr>
            <p:cNvPr id="604" name=""/>
            <p:cNvSpPr/>
            <p:nvPr/>
          </p:nvSpPr>
          <p:spPr>
            <a:xfrm>
              <a:off x="4038480" y="4784760"/>
              <a:ext cx="2438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53080" y="600408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280" y="598788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Times New Roman"/>
                </a:rPr>
                <a:t>（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133720" y="6324480"/>
            <a:ext cx="532800" cy="380880"/>
            <a:chOff x="2133720" y="6324480"/>
            <a:chExt cx="532800" cy="380880"/>
          </a:xfrm>
        </p:grpSpPr>
        <p:sp>
          <p:nvSpPr>
            <p:cNvPr id="608" name=""/>
            <p:cNvSpPr/>
            <p:nvPr/>
          </p:nvSpPr>
          <p:spPr>
            <a:xfrm>
              <a:off x="2133720" y="6476760"/>
              <a:ext cx="15192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285640" y="6324480"/>
              <a:ext cx="38088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315200" y="6248520"/>
            <a:ext cx="533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3000" y="76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、要使两行的三角形同样多，应在第一行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拿几个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三角形到第二行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52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2971800"/>
            <a:ext cx="68580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33520" y="4648320"/>
            <a:ext cx="2057400" cy="761760"/>
            <a:chOff x="533520" y="4648320"/>
            <a:chExt cx="2057400" cy="761760"/>
          </a:xfrm>
        </p:grpSpPr>
        <p:sp>
          <p:nvSpPr>
            <p:cNvPr id="619" name=""/>
            <p:cNvSpPr/>
            <p:nvPr/>
          </p:nvSpPr>
          <p:spPr>
            <a:xfrm>
              <a:off x="19051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3520" y="4648320"/>
              <a:ext cx="68580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429000" y="4564080"/>
            <a:ext cx="2285640" cy="845640"/>
            <a:chOff x="3429000" y="4564080"/>
            <a:chExt cx="2285640" cy="845640"/>
          </a:xfrm>
        </p:grpSpPr>
        <p:sp>
          <p:nvSpPr>
            <p:cNvPr id="623" name=""/>
            <p:cNvSpPr/>
            <p:nvPr/>
          </p:nvSpPr>
          <p:spPr>
            <a:xfrm>
              <a:off x="342900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9076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880" y="4564080"/>
              <a:ext cx="761760" cy="84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095880" y="2887560"/>
            <a:ext cx="2285640" cy="846000"/>
            <a:chOff x="6095880" y="2887560"/>
            <a:chExt cx="2285640" cy="846000"/>
          </a:xfrm>
        </p:grpSpPr>
        <p:sp>
          <p:nvSpPr>
            <p:cNvPr id="627" name=""/>
            <p:cNvSpPr/>
            <p:nvPr/>
          </p:nvSpPr>
          <p:spPr>
            <a:xfrm>
              <a:off x="609588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764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19760" y="2887560"/>
              <a:ext cx="761760" cy="8460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09480" y="327672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716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4.</a:t>
            </a:r>
            <a:r>
              <a:rPr b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把卡片正确地放在小圆圈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76520" y="259092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251460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19720" y="175248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2422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86600" y="33368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04920" y="4800600"/>
            <a:ext cx="8610480" cy="1024200"/>
            <a:chOff x="304920" y="4800600"/>
            <a:chExt cx="8610480" cy="1024200"/>
          </a:xfrm>
        </p:grpSpPr>
        <p:sp>
          <p:nvSpPr>
            <p:cNvPr id="638" name=""/>
            <p:cNvSpPr/>
            <p:nvPr/>
          </p:nvSpPr>
          <p:spPr>
            <a:xfrm>
              <a:off x="304920" y="48924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5288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7712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01000" y="48164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43000" y="480060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48924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6688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08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9132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15200" y="48164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ahoma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380880" y="4800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78476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470844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7692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01000" y="470844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d9b"/>
            </a:gs>
            <a:gs pos="50000">
              <a:srgbClr val="ffffff"/>
            </a:gs>
            <a:gs pos="100000">
              <a:srgbClr val="ed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286000" y="1905120"/>
            <a:ext cx="4952880" cy="3124080"/>
            <a:chOff x="2286000" y="1905120"/>
            <a:chExt cx="4952880" cy="3124080"/>
          </a:xfrm>
        </p:grpSpPr>
        <p:sp>
          <p:nvSpPr>
            <p:cNvPr id="107" name=""/>
            <p:cNvSpPr/>
            <p:nvPr/>
          </p:nvSpPr>
          <p:spPr>
            <a:xfrm>
              <a:off x="2286000" y="190512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4320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口答题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8280" y="2513880"/>
            <a:ext cx="1473120" cy="1830600"/>
            <a:chOff x="368280" y="2513880"/>
            <a:chExt cx="1473120" cy="1830600"/>
          </a:xfrm>
        </p:grpSpPr>
        <p:sp>
          <p:nvSpPr>
            <p:cNvPr id="110" name=""/>
            <p:cNvSpPr/>
            <p:nvPr/>
          </p:nvSpPr>
          <p:spPr>
            <a:xfrm rot="16404000">
              <a:off x="228240" y="274320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3505320"/>
              <a:ext cx="761760" cy="360"/>
            </a:xfrm>
            <a:prstGeom prst="lin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2895480" y="1905120"/>
            <a:ext cx="4953240" cy="3124080"/>
            <a:chOff x="2895480" y="1905120"/>
            <a:chExt cx="4953240" cy="3124080"/>
          </a:xfrm>
        </p:grpSpPr>
        <p:sp>
          <p:nvSpPr>
            <p:cNvPr id="656" name=""/>
            <p:cNvSpPr/>
            <p:nvPr/>
          </p:nvSpPr>
          <p:spPr>
            <a:xfrm>
              <a:off x="2895480" y="1905120"/>
              <a:ext cx="495324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3352680" y="2362320"/>
              <a:ext cx="4114800" cy="21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风险题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092240" y="2247120"/>
            <a:ext cx="1473120" cy="1830600"/>
            <a:chOff x="1092240" y="2247120"/>
            <a:chExt cx="1473120" cy="1830600"/>
          </a:xfrm>
        </p:grpSpPr>
        <p:sp>
          <p:nvSpPr>
            <p:cNvPr id="659" name=""/>
            <p:cNvSpPr/>
            <p:nvPr/>
          </p:nvSpPr>
          <p:spPr>
            <a:xfrm rot="16404000">
              <a:off x="952200" y="2476440"/>
              <a:ext cx="1752480" cy="1371600"/>
            </a:xfrm>
            <a:prstGeom prst="ellips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80800" y="2552760"/>
              <a:ext cx="1067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五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6019920" y="1143000"/>
          <a:ext cx="2895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43000"/>
                    <a:ext cx="2895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"/>
          <p:cNvSpPr/>
          <p:nvPr/>
        </p:nvSpPr>
        <p:spPr>
          <a:xfrm>
            <a:off x="7182000" y="2343240"/>
            <a:ext cx="82440" cy="142920"/>
          </a:xfrm>
          <a:custGeom>
            <a:avLst/>
            <a:gdLst/>
            <a:ahLst/>
            <a:rect l="l" t="t" r="r" b="b"/>
            <a:pathLst>
              <a:path w="52" h="90">
                <a:moveTo>
                  <a:pt x="0" y="0"/>
                </a:moveTo>
                <a:cubicBezTo>
                  <a:pt x="12" y="4"/>
                  <a:pt x="27" y="3"/>
                  <a:pt x="36" y="12"/>
                </a:cubicBezTo>
                <a:cubicBezTo>
                  <a:pt x="52" y="28"/>
                  <a:pt x="52" y="68"/>
                  <a:pt x="36" y="84"/>
                </a:cubicBezTo>
                <a:cubicBezTo>
                  <a:pt x="30" y="90"/>
                  <a:pt x="20" y="84"/>
                  <a:pt x="12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571680" y="990720"/>
          <a:ext cx="1257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990720"/>
                    <a:ext cx="1257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6" name=""/>
          <p:cNvGrpSpPr/>
          <p:nvPr/>
        </p:nvGrpSpPr>
        <p:grpSpPr>
          <a:xfrm>
            <a:off x="2057400" y="1752480"/>
            <a:ext cx="4038120" cy="533520"/>
            <a:chOff x="2057400" y="1752480"/>
            <a:chExt cx="4038120" cy="533520"/>
          </a:xfrm>
        </p:grpSpPr>
        <p:sp>
          <p:nvSpPr>
            <p:cNvPr id="667" name=""/>
            <p:cNvSpPr/>
            <p:nvPr/>
          </p:nvSpPr>
          <p:spPr>
            <a:xfrm>
              <a:off x="2057400" y="2286000"/>
              <a:ext cx="1261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319200" y="17524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19200" y="1752480"/>
              <a:ext cx="1177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7120" y="17524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7120" y="2286000"/>
              <a:ext cx="159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981080" y="3657600"/>
            <a:ext cx="4191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3657600"/>
            <a:ext cx="41911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81080" y="3657600"/>
            <a:ext cx="419112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434880" y="5334120"/>
          <a:ext cx="15861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880" y="5334120"/>
                    <a:ext cx="1586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533520" y="3962520"/>
          <a:ext cx="1600200" cy="120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962520"/>
                    <a:ext cx="160020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0" y="0"/>
            <a:ext cx="6019560" cy="1008360"/>
            <a:chOff x="0" y="0"/>
            <a:chExt cx="6019560" cy="1008360"/>
          </a:xfrm>
        </p:grpSpPr>
        <p:sp>
          <p:nvSpPr>
            <p:cNvPr id="682" name=""/>
            <p:cNvSpPr/>
            <p:nvPr/>
          </p:nvSpPr>
          <p:spPr>
            <a:xfrm>
              <a:off x="164520" y="0"/>
              <a:ext cx="585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000099"/>
                  </a:solidFill>
                  <a:latin typeface="隶书"/>
                  <a:ea typeface="隶书"/>
                </a:rPr>
                <a:t>谁先捉到老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152280"/>
              <a:ext cx="5937480" cy="838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4" name=""/>
          <p:cNvGraphicFramePr/>
          <p:nvPr/>
        </p:nvGraphicFramePr>
        <p:xfrm>
          <a:off x="380880" y="2514600"/>
          <a:ext cx="1447920" cy="11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514600"/>
                    <a:ext cx="144792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"/>
          <p:cNvGrpSpPr/>
          <p:nvPr/>
        </p:nvGrpSpPr>
        <p:grpSpPr>
          <a:xfrm>
            <a:off x="380880" y="2362320"/>
            <a:ext cx="5638680" cy="1294920"/>
            <a:chOff x="380880" y="2362320"/>
            <a:chExt cx="5638680" cy="1294920"/>
          </a:xfrm>
        </p:grpSpPr>
        <p:graphicFrame>
          <p:nvGraphicFramePr>
            <p:cNvPr id="687" name=""/>
            <p:cNvGraphicFramePr/>
            <p:nvPr/>
          </p:nvGraphicFramePr>
          <p:xfrm>
            <a:off x="4522680" y="2362320"/>
            <a:ext cx="1496880" cy="12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22680" y="2362320"/>
                      <a:ext cx="1496880" cy="12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9" name=""/>
            <p:cNvGraphicFramePr/>
            <p:nvPr/>
          </p:nvGraphicFramePr>
          <p:xfrm>
            <a:off x="380880" y="2518920"/>
            <a:ext cx="1428480" cy="1138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880" y="2518920"/>
                      <a:ext cx="1428480" cy="11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2133720" y="4114080"/>
            <a:ext cx="4419000" cy="2431080"/>
            <a:chOff x="2133720" y="4114080"/>
            <a:chExt cx="4419000" cy="2431080"/>
          </a:xfrm>
        </p:grpSpPr>
        <p:sp>
          <p:nvSpPr>
            <p:cNvPr id="692" name=""/>
            <p:cNvSpPr/>
            <p:nvPr/>
          </p:nvSpPr>
          <p:spPr>
            <a:xfrm>
              <a:off x="2133720" y="5857920"/>
              <a:ext cx="160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106600" y="5857920"/>
              <a:ext cx="1446120" cy="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3070800">
              <a:off x="3467880" y="4525920"/>
              <a:ext cx="1828080" cy="160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0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09333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981080" y="3986640"/>
            <a:ext cx="4495680" cy="2952000"/>
            <a:chOff x="1981080" y="3986640"/>
            <a:chExt cx="4495680" cy="2952000"/>
          </a:xfrm>
        </p:grpSpPr>
        <p:sp>
          <p:nvSpPr>
            <p:cNvPr id="696" name=""/>
            <p:cNvSpPr/>
            <p:nvPr/>
          </p:nvSpPr>
          <p:spPr>
            <a:xfrm>
              <a:off x="1981080" y="4724280"/>
              <a:ext cx="1262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41920" y="4724280"/>
              <a:ext cx="1734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12926400">
              <a:off x="2939760" y="4548240"/>
              <a:ext cx="25221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52280" y="76320"/>
            <a:ext cx="8534520" cy="91692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2.(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数砖头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)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这墙缺少几块砖</a:t>
            </a:r>
            <a:r>
              <a:rPr b="1" lang="zh-CN" sz="5400" spc="-1" strike="noStrike">
                <a:solidFill>
                  <a:srgbClr val="000099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533520" y="2133720"/>
          <a:ext cx="8153280" cy="3962160"/>
        </p:xfrm>
        <a:graphic>
          <a:graphicData uri="http://schemas.openxmlformats.org/drawingml/2006/table">
            <a:tbl>
              <a:tblPr/>
              <a:tblGrid>
                <a:gridCol w="838080"/>
                <a:gridCol w="792000"/>
                <a:gridCol w="731880"/>
                <a:gridCol w="898560"/>
                <a:gridCol w="1631880"/>
                <a:gridCol w="852480"/>
                <a:gridCol w="777960"/>
                <a:gridCol w="792360"/>
                <a:gridCol w="838080"/>
              </a:tblGrid>
              <a:tr h="76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1" name=""/>
          <p:cNvSpPr/>
          <p:nvPr/>
        </p:nvSpPr>
        <p:spPr>
          <a:xfrm>
            <a:off x="2895480" y="365760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33720" y="4495680"/>
            <a:ext cx="4190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28954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4495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4495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-92160"/>
            <a:ext cx="5562360" cy="1008360"/>
            <a:chOff x="0" y="-92160"/>
            <a:chExt cx="5562360" cy="1008360"/>
          </a:xfrm>
        </p:grpSpPr>
        <p:sp>
          <p:nvSpPr>
            <p:cNvPr id="709" name=""/>
            <p:cNvSpPr/>
            <p:nvPr/>
          </p:nvSpPr>
          <p:spPr>
            <a:xfrm>
              <a:off x="152280" y="-92160"/>
              <a:ext cx="541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3</a:t>
              </a:r>
              <a:r>
                <a:rPr b="1" lang="zh-CN" sz="60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  </a:t>
              </a:r>
              <a:r>
                <a:rPr b="1" lang="zh-CN" sz="60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小鸟送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60120"/>
              <a:ext cx="5486400" cy="838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1" name="小鸟" descr=""/>
          <p:cNvPicPr/>
          <p:nvPr/>
        </p:nvPicPr>
        <p:blipFill>
          <a:blip r:embed="rId1"/>
          <a:stretch/>
        </p:blipFill>
        <p:spPr>
          <a:xfrm>
            <a:off x="-152280" y="1143000"/>
            <a:ext cx="2147760" cy="14479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52480" y="1219320"/>
            <a:ext cx="1905120" cy="60948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7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20895000">
            <a:off x="3978000" y="1079640"/>
            <a:ext cx="2133360" cy="53316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6+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896400">
            <a:off x="6090840" y="837720"/>
            <a:ext cx="1981080" cy="60984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9+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896400">
            <a:off x="3728520" y="2057400"/>
            <a:ext cx="1757520" cy="68580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8+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28600" y="4343400"/>
            <a:ext cx="1676160" cy="2361960"/>
            <a:chOff x="228600" y="4343400"/>
            <a:chExt cx="1676160" cy="2361960"/>
          </a:xfrm>
        </p:grpSpPr>
        <p:sp>
          <p:nvSpPr>
            <p:cNvPr id="717" name=""/>
            <p:cNvSpPr/>
            <p:nvPr/>
          </p:nvSpPr>
          <p:spPr>
            <a:xfrm>
              <a:off x="362520" y="5064840"/>
              <a:ext cx="1542240" cy="1640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8600" y="4343400"/>
              <a:ext cx="1541880" cy="590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590920" y="4419720"/>
            <a:ext cx="1675800" cy="2286000"/>
            <a:chOff x="2590920" y="4419720"/>
            <a:chExt cx="1675800" cy="2286000"/>
          </a:xfrm>
        </p:grpSpPr>
        <p:sp>
          <p:nvSpPr>
            <p:cNvPr id="720" name=""/>
            <p:cNvSpPr/>
            <p:nvPr/>
          </p:nvSpPr>
          <p:spPr>
            <a:xfrm>
              <a:off x="2724840" y="5118120"/>
              <a:ext cx="1541880" cy="1587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90920" y="4419720"/>
              <a:ext cx="1541880" cy="571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724280" y="4419720"/>
            <a:ext cx="1676160" cy="2286000"/>
            <a:chOff x="4724280" y="4419720"/>
            <a:chExt cx="1676160" cy="2286000"/>
          </a:xfrm>
        </p:grpSpPr>
        <p:sp>
          <p:nvSpPr>
            <p:cNvPr id="723" name=""/>
            <p:cNvSpPr/>
            <p:nvPr/>
          </p:nvSpPr>
          <p:spPr>
            <a:xfrm>
              <a:off x="4858200" y="5118120"/>
              <a:ext cx="1542240" cy="1587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24280" y="4419720"/>
              <a:ext cx="1541880" cy="571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010280" y="4495680"/>
            <a:ext cx="1676160" cy="2209680"/>
            <a:chOff x="7010280" y="4495680"/>
            <a:chExt cx="1676160" cy="2209680"/>
          </a:xfrm>
        </p:grpSpPr>
        <p:sp>
          <p:nvSpPr>
            <p:cNvPr id="726" name=""/>
            <p:cNvSpPr/>
            <p:nvPr/>
          </p:nvSpPr>
          <p:spPr>
            <a:xfrm>
              <a:off x="7144200" y="5170680"/>
              <a:ext cx="1542240" cy="153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10280" y="4495680"/>
              <a:ext cx="1541880" cy="552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33520" y="548640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5562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46748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5562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2408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46748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48769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4952880"/>
            <a:ext cx="1218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4952880"/>
            <a:ext cx="1219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4952880"/>
            <a:ext cx="1219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987000">
            <a:off x="5646600" y="1535040"/>
            <a:ext cx="1828800" cy="68580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9+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1304200">
            <a:off x="387360" y="2599920"/>
            <a:ext cx="205740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0+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896400">
            <a:off x="2742840" y="2895480"/>
            <a:ext cx="190512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8+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38680" y="2362320"/>
            <a:ext cx="1676520" cy="53316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6+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3124080"/>
            <a:ext cx="1676520" cy="533520"/>
          </a:xfrm>
          <a:prstGeom prst="rect">
            <a:avLst/>
          </a:pr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7+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990720" y="1828800"/>
            <a:ext cx="1371600" cy="3276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218960" y="1600200"/>
            <a:ext cx="3809880" cy="3429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429000" y="2666880"/>
            <a:ext cx="838080" cy="2438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048120" y="2895480"/>
            <a:ext cx="3657600" cy="2210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2320" y="3048120"/>
            <a:ext cx="304776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245560" y="1259280"/>
            <a:ext cx="1656720" cy="370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467480" y="2209680"/>
            <a:ext cx="762120" cy="2819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486040" y="3581280"/>
            <a:ext cx="76212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72000" y="3352680"/>
            <a:ext cx="3124080" cy="1752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3352680" y="28195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76320" y="533520"/>
          <a:ext cx="30477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0477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2057400" y="609480"/>
          <a:ext cx="32004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609480"/>
                    <a:ext cx="3200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4038480" y="609480"/>
          <a:ext cx="3429000" cy="221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609480"/>
                    <a:ext cx="34290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6095880" y="609480"/>
          <a:ext cx="30481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60948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76320" y="763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95880" y="28195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76720" y="37339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95880" y="3733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4572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572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52680" y="5486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43600" y="5486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990720" y="2057400"/>
          <a:ext cx="7619760" cy="46227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066680" y="2133720"/>
          <a:ext cx="2286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2286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3657600" y="5181480"/>
          <a:ext cx="23623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18148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8" name=""/>
          <p:cNvGrpSpPr/>
          <p:nvPr/>
        </p:nvGrpSpPr>
        <p:grpSpPr>
          <a:xfrm>
            <a:off x="152280" y="76320"/>
            <a:ext cx="9296280" cy="1312920"/>
            <a:chOff x="152280" y="76320"/>
            <a:chExt cx="9296280" cy="1312920"/>
          </a:xfrm>
        </p:grpSpPr>
        <p:sp>
          <p:nvSpPr>
            <p:cNvPr id="779" name=""/>
            <p:cNvSpPr/>
            <p:nvPr/>
          </p:nvSpPr>
          <p:spPr>
            <a:xfrm>
              <a:off x="152280" y="76320"/>
              <a:ext cx="9296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5</a:t>
              </a:r>
              <a:r>
                <a:rPr b="1" lang="zh-CN" sz="40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小花猫收萝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小花猫要去收萝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必须走过每一块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草地又不许走重复路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想一想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花猫该怎样走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52280" y="91800"/>
              <a:ext cx="3485880" cy="68544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705120" y="2895480"/>
            <a:ext cx="4524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229600" y="2895480"/>
            <a:ext cx="0" cy="32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3787920" y="3580920"/>
            <a:ext cx="4441680" cy="259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990720" y="3581280"/>
            <a:ext cx="2797200" cy="152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5105520"/>
            <a:ext cx="271440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705120" y="5791320"/>
            <a:ext cx="17272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33720" y="3581280"/>
            <a:ext cx="0" cy="2362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133720" y="4114800"/>
            <a:ext cx="28954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2743200"/>
            <a:ext cx="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2743200"/>
            <a:ext cx="23623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91520" y="2743200"/>
            <a:ext cx="0" cy="3505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486400" y="6248520"/>
            <a:ext cx="190512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00200" y="921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.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口算下面各题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并说说是怎样想的</a:t>
            </a:r>
            <a:r>
              <a:rPr b="0" lang="zh-CN" sz="5400" spc="-1" strike="noStrike">
                <a:solidFill>
                  <a:srgbClr val="3333ff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819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2787480"/>
            <a:ext cx="3809880" cy="1099440"/>
            <a:chOff x="457200" y="2787480"/>
            <a:chExt cx="3809880" cy="1099440"/>
          </a:xfrm>
        </p:grpSpPr>
        <p:sp>
          <p:nvSpPr>
            <p:cNvPr id="115" name=""/>
            <p:cNvSpPr/>
            <p:nvPr/>
          </p:nvSpPr>
          <p:spPr>
            <a:xfrm>
              <a:off x="457200" y="2787480"/>
              <a:ext cx="304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63+ 7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895480"/>
              <a:ext cx="121896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2787480"/>
            <a:ext cx="3810240" cy="1099440"/>
            <a:chOff x="4724280" y="2787480"/>
            <a:chExt cx="3810240" cy="1099440"/>
          </a:xfrm>
        </p:grpSpPr>
        <p:sp>
          <p:nvSpPr>
            <p:cNvPr id="118" name=""/>
            <p:cNvSpPr/>
            <p:nvPr/>
          </p:nvSpPr>
          <p:spPr>
            <a:xfrm>
              <a:off x="4724280" y="2787480"/>
              <a:ext cx="304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69 - 5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2895480"/>
              <a:ext cx="121932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467480" y="2819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267080"/>
            <a:ext cx="4952880" cy="1099440"/>
            <a:chOff x="457200" y="4267080"/>
            <a:chExt cx="4952880" cy="1099440"/>
          </a:xfrm>
        </p:grpSpPr>
        <p:sp>
          <p:nvSpPr>
            <p:cNvPr id="122" name=""/>
            <p:cNvSpPr/>
            <p:nvPr/>
          </p:nvSpPr>
          <p:spPr>
            <a:xfrm>
              <a:off x="4191120" y="4375080"/>
              <a:ext cx="121896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4267080"/>
              <a:ext cx="3733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45 + 30 =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67080" y="432756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7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6323760" cy="1008360"/>
            <a:chOff x="0" y="0"/>
            <a:chExt cx="6323760" cy="1008360"/>
          </a:xfrm>
        </p:grpSpPr>
        <p:sp>
          <p:nvSpPr>
            <p:cNvPr id="126" name=""/>
            <p:cNvSpPr/>
            <p:nvPr/>
          </p:nvSpPr>
          <p:spPr>
            <a:xfrm>
              <a:off x="394920" y="0"/>
              <a:ext cx="592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2  </a:t>
              </a: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拼图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52280"/>
              <a:ext cx="3952440" cy="838080"/>
            </a:xfrm>
            <a:prstGeom prst="flowChartTerminator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905120" y="1752480"/>
          <a:ext cx="7238520" cy="1447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6840"/>
                <a:gridCol w="1447560"/>
                <a:gridCol w="144828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05120" y="3429000"/>
          <a:ext cx="7009920" cy="1447560"/>
        </p:xfrm>
        <a:graphic>
          <a:graphicData uri="http://schemas.openxmlformats.org/drawingml/2006/table">
            <a:tbl>
              <a:tblPr/>
              <a:tblGrid>
                <a:gridCol w="1402200"/>
                <a:gridCol w="1402200"/>
                <a:gridCol w="1401120"/>
                <a:gridCol w="1401840"/>
                <a:gridCol w="140256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05120" y="5181480"/>
          <a:ext cx="7009920" cy="1447560"/>
        </p:xfrm>
        <a:graphic>
          <a:graphicData uri="http://schemas.openxmlformats.org/drawingml/2006/table">
            <a:tbl>
              <a:tblPr/>
              <a:tblGrid>
                <a:gridCol w="1402200"/>
                <a:gridCol w="1402200"/>
                <a:gridCol w="1401120"/>
                <a:gridCol w="1401840"/>
                <a:gridCol w="1402560"/>
              </a:tblGrid>
              <a:tr h="14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905120" y="1832040"/>
          <a:ext cx="1295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32040"/>
                    <a:ext cx="1295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80880" y="3581280"/>
            <a:ext cx="1295640" cy="1219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62320" y="3581280"/>
          <a:ext cx="7617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81280"/>
                    <a:ext cx="7617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62400" y="3505320"/>
          <a:ext cx="12859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3505320"/>
                    <a:ext cx="1285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696080" y="3867120"/>
          <a:ext cx="9144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86712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248520" y="3505320"/>
          <a:ext cx="114300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505320"/>
                    <a:ext cx="1143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76920" y="3833640"/>
          <a:ext cx="1066680" cy="73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3833640"/>
                    <a:ext cx="1066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0880" y="533412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715000"/>
            <a:ext cx="914400" cy="762120"/>
          </a:xfrm>
          <a:prstGeom prst="flowChartManualInpu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172200" y="5816520"/>
          <a:ext cx="129528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816520"/>
                    <a:ext cx="129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09880" y="5715000"/>
          <a:ext cx="58104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5715000"/>
                    <a:ext cx="581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696080" y="5730840"/>
          <a:ext cx="990720" cy="74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96080" y="5730840"/>
                    <a:ext cx="990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029200" y="541008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182000">
            <a:off x="2438280" y="2359080"/>
            <a:ext cx="682560" cy="68868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86200" y="4114800"/>
          <a:ext cx="762120" cy="76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114800"/>
                    <a:ext cx="7621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400800" y="5334120"/>
          <a:ext cx="91440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5334120"/>
                    <a:ext cx="91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996320" y="1905120"/>
          <a:ext cx="766800" cy="1143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96320" y="1905120"/>
                    <a:ext cx="766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733920" y="1981080"/>
            <a:ext cx="768240" cy="979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750200">
            <a:off x="5028840" y="2055600"/>
            <a:ext cx="687240" cy="8935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209680"/>
            <a:ext cx="846000" cy="654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905120"/>
            <a:ext cx="1077840" cy="106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838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838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362320" y="1828800"/>
            <a:ext cx="4952880" cy="3124080"/>
            <a:chOff x="2362320" y="1828800"/>
            <a:chExt cx="4952880" cy="3124080"/>
          </a:xfrm>
        </p:grpSpPr>
        <p:sp>
          <p:nvSpPr>
            <p:cNvPr id="170" name=""/>
            <p:cNvSpPr/>
            <p:nvPr/>
          </p:nvSpPr>
          <p:spPr>
            <a:xfrm>
              <a:off x="2362320" y="1828800"/>
              <a:ext cx="4952880" cy="3124080"/>
            </a:xfrm>
            <a:prstGeom prst="flowChartPunchedTape">
              <a:avLst/>
            </a:prstGeom>
            <a:gradFill rotWithShape="0">
              <a:gsLst>
                <a:gs pos="0">
                  <a:srgbClr val="00e4a8"/>
                </a:gs>
                <a:gs pos="50000">
                  <a:srgbClr val="ffffff"/>
                </a:gs>
                <a:gs pos="100000">
                  <a:srgbClr val="00e4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19520" y="2286000"/>
              <a:ext cx="4114800" cy="215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3333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隶书"/>
                </a:rPr>
                <a:t>数数</a:t>
              </a:r>
              <a:endParaRPr b="0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8280" y="2513880"/>
            <a:ext cx="1473120" cy="1830600"/>
            <a:chOff x="368280" y="2513880"/>
            <a:chExt cx="1473120" cy="1830600"/>
          </a:xfrm>
        </p:grpSpPr>
        <p:grpSp>
          <p:nvGrpSpPr>
            <p:cNvPr id="173" name=""/>
            <p:cNvGrpSpPr/>
            <p:nvPr/>
          </p:nvGrpSpPr>
          <p:grpSpPr>
            <a:xfrm>
              <a:off x="368280" y="2513880"/>
              <a:ext cx="1473120" cy="1830600"/>
              <a:chOff x="368280" y="2513880"/>
              <a:chExt cx="1473120" cy="1830600"/>
            </a:xfrm>
          </p:grpSpPr>
          <p:sp>
            <p:nvSpPr>
              <p:cNvPr id="174" name=""/>
              <p:cNvSpPr/>
              <p:nvPr/>
            </p:nvSpPr>
            <p:spPr>
              <a:xfrm rot="16404000">
                <a:off x="228240" y="2743200"/>
                <a:ext cx="1752480" cy="1371600"/>
              </a:xfrm>
              <a:prstGeom prst="ellipse">
                <a:avLst/>
              </a:prstGeom>
              <a:gradFill rotWithShape="0">
                <a:gsLst>
                  <a:gs pos="0">
                    <a:srgbClr val="00e4a8"/>
                  </a:gs>
                  <a:gs pos="50000">
                    <a:srgbClr val="ffffff"/>
                  </a:gs>
                  <a:gs pos="100000">
                    <a:srgbClr val="00e4a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2120" y="3505320"/>
                <a:ext cx="761760" cy="360"/>
              </a:xfrm>
              <a:prstGeom prst="lin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838080" y="3200400"/>
              <a:ext cx="533520" cy="360"/>
            </a:xfrm>
            <a:prstGeom prst="lin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3240" y="4648320"/>
            <a:ext cx="1389600" cy="1513800"/>
            <a:chOff x="2343240" y="4648320"/>
            <a:chExt cx="1389600" cy="1513800"/>
          </a:xfrm>
        </p:grpSpPr>
        <p:grpSp>
          <p:nvGrpSpPr>
            <p:cNvPr id="178" name=""/>
            <p:cNvGrpSpPr/>
            <p:nvPr/>
          </p:nvGrpSpPr>
          <p:grpSpPr>
            <a:xfrm>
              <a:off x="2343240" y="5430960"/>
              <a:ext cx="799920" cy="731160"/>
              <a:chOff x="2343240" y="5430960"/>
              <a:chExt cx="799920" cy="7311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501640" y="5430960"/>
                <a:ext cx="641520" cy="568440"/>
                <a:chOff x="2501640" y="5430960"/>
                <a:chExt cx="641520" cy="568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501640" y="5430960"/>
                  <a:ext cx="641520" cy="56844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01640" y="5430960"/>
                  <a:ext cx="64152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002760" y="5430960"/>
                  <a:ext cx="140400" cy="56844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01640" y="5430960"/>
                  <a:ext cx="641520" cy="56844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501640" y="5430960"/>
                  <a:ext cx="64152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02760" y="5574240"/>
                  <a:ext cx="1440" cy="42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594040"/>
                <a:ext cx="639360" cy="568080"/>
                <a:chOff x="2343240" y="5594040"/>
                <a:chExt cx="639360" cy="568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343240" y="5594040"/>
                  <a:ext cx="63936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343240" y="55940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42200" y="5594040"/>
                  <a:ext cx="140400" cy="56808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43240" y="5594040"/>
                  <a:ext cx="63936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3240" y="55940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42200" y="5735520"/>
                  <a:ext cx="1800" cy="42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2963520" y="5354640"/>
              <a:ext cx="769320" cy="685080"/>
              <a:chOff x="2963520" y="5354640"/>
              <a:chExt cx="769320" cy="6850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093480" y="5354640"/>
                <a:ext cx="639360" cy="566280"/>
                <a:chOff x="3093480" y="5354640"/>
                <a:chExt cx="639360" cy="566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093480" y="5354640"/>
                  <a:ext cx="639360" cy="56628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93480" y="53546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592440" y="5354640"/>
                  <a:ext cx="140400" cy="56628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93480" y="5354640"/>
                  <a:ext cx="639360" cy="56628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093480" y="5354640"/>
                  <a:ext cx="639360" cy="1414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2440" y="5496120"/>
                  <a:ext cx="1440" cy="42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63520" y="5471640"/>
                <a:ext cx="639720" cy="568080"/>
                <a:chOff x="2963520" y="5471640"/>
                <a:chExt cx="639720" cy="568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63520" y="5471640"/>
                  <a:ext cx="63972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63520" y="5471640"/>
                  <a:ext cx="63972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7" y="82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462840" y="5471640"/>
                  <a:ext cx="140400" cy="56808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963520" y="5471640"/>
                  <a:ext cx="639720" cy="56808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7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63520" y="5471640"/>
                  <a:ext cx="63972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7" y="82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62840" y="5614920"/>
                  <a:ext cx="1440" cy="42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2492640" y="4648320"/>
              <a:ext cx="641160" cy="934200"/>
              <a:chOff x="2492640" y="4648320"/>
              <a:chExt cx="641160" cy="9342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2492640" y="5014800"/>
                <a:ext cx="641160" cy="567720"/>
                <a:chOff x="2492640" y="5014800"/>
                <a:chExt cx="641160" cy="567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492640" y="501480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92640" y="501480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93400" y="5014800"/>
                  <a:ext cx="140400" cy="56772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492640" y="501480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92640" y="501480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993400" y="5158080"/>
                  <a:ext cx="1440" cy="42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92640" y="4648320"/>
                <a:ext cx="641160" cy="567720"/>
                <a:chOff x="2492640" y="4648320"/>
                <a:chExt cx="641160" cy="56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492640" y="464832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92640" y="464832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993400" y="4648320"/>
                  <a:ext cx="140400" cy="56772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2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92640" y="4648320"/>
                  <a:ext cx="641160" cy="56772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92640" y="4648320"/>
                  <a:ext cx="64116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93400" y="4791600"/>
                  <a:ext cx="1440" cy="42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"/>
          <p:cNvGrpSpPr/>
          <p:nvPr/>
        </p:nvGrpSpPr>
        <p:grpSpPr>
          <a:xfrm>
            <a:off x="6232680" y="2590920"/>
            <a:ext cx="1843920" cy="2132280"/>
            <a:chOff x="6232680" y="2590920"/>
            <a:chExt cx="1843920" cy="2132280"/>
          </a:xfrm>
        </p:grpSpPr>
        <p:grpSp>
          <p:nvGrpSpPr>
            <p:cNvPr id="224" name=""/>
            <p:cNvGrpSpPr/>
            <p:nvPr/>
          </p:nvGrpSpPr>
          <p:grpSpPr>
            <a:xfrm>
              <a:off x="6232680" y="3984480"/>
              <a:ext cx="767520" cy="738720"/>
              <a:chOff x="6232680" y="3984480"/>
              <a:chExt cx="767520" cy="7387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386400" y="3984480"/>
                <a:ext cx="613800" cy="574200"/>
                <a:chOff x="6386400" y="3984480"/>
                <a:chExt cx="613800" cy="574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386400" y="3984480"/>
                  <a:ext cx="61380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86400" y="3984480"/>
                  <a:ext cx="61380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867000" y="3984480"/>
                  <a:ext cx="133200" cy="57420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86400" y="3984480"/>
                  <a:ext cx="61380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6400" y="3984480"/>
                  <a:ext cx="61380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867000" y="412776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232680" y="4148640"/>
                <a:ext cx="613440" cy="574560"/>
                <a:chOff x="6232680" y="4148640"/>
                <a:chExt cx="613440" cy="5745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232680" y="4148640"/>
                  <a:ext cx="613440" cy="57456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32680" y="4148640"/>
                  <a:ext cx="61344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13280" y="4148640"/>
                  <a:ext cx="132840" cy="57456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2680" y="4148640"/>
                  <a:ext cx="613440" cy="57456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32680" y="4148640"/>
                  <a:ext cx="613440" cy="143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13280" y="4291920"/>
                  <a:ext cx="144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6846480" y="3819960"/>
              <a:ext cx="767520" cy="738360"/>
              <a:chOff x="6846480" y="3819960"/>
              <a:chExt cx="767520" cy="7383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7000560" y="3819960"/>
                <a:ext cx="613440" cy="574200"/>
                <a:chOff x="7000560" y="3819960"/>
                <a:chExt cx="613440" cy="574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00560" y="3819960"/>
                  <a:ext cx="61344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000560" y="3819960"/>
                  <a:ext cx="613440" cy="1450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81160" y="3819960"/>
                  <a:ext cx="132840" cy="57420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2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000560" y="3819960"/>
                  <a:ext cx="613440" cy="57420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2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000560" y="3819960"/>
                  <a:ext cx="613440" cy="145080"/>
                </a:xfrm>
                <a:custGeom>
                  <a:avLst/>
                  <a:gdLst/>
                  <a:ahLst/>
                  <a:rect l="l" t="t" r="r" b="b"/>
                  <a:pathLst>
                    <a:path w="355" h="82">
                      <a:moveTo>
                        <a:pt x="0" y="82"/>
                      </a:moveTo>
                      <a:lnTo>
                        <a:pt x="278" y="82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81160" y="3965040"/>
                  <a:ext cx="1440" cy="42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846480" y="3984120"/>
                <a:ext cx="615600" cy="574200"/>
                <a:chOff x="6846480" y="3984120"/>
                <a:chExt cx="615600" cy="5742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846480" y="3984120"/>
                  <a:ext cx="615600" cy="57420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846480" y="3984120"/>
                  <a:ext cx="61560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6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27440" y="3984120"/>
                  <a:ext cx="134640" cy="574200"/>
                </a:xfrm>
                <a:custGeom>
                  <a:avLst/>
                  <a:gdLst/>
                  <a:ahLst/>
                  <a:rect l="l" t="t" r="r" b="b"/>
                  <a:pathLst>
                    <a:path w="78" h="325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46480" y="3984120"/>
                  <a:ext cx="615600" cy="574200"/>
                </a:xfrm>
                <a:custGeom>
                  <a:avLst/>
                  <a:gdLst/>
                  <a:ahLst/>
                  <a:rect l="l" t="t" r="r" b="b"/>
                  <a:pathLst>
                    <a:path w="356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6" y="244"/>
                      </a:lnTo>
                      <a:lnTo>
                        <a:pt x="356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46480" y="3984120"/>
                  <a:ext cx="615600" cy="143280"/>
                </a:xfrm>
                <a:custGeom>
                  <a:avLst/>
                  <a:gdLst/>
                  <a:ahLst/>
                  <a:rect l="l" t="t" r="r" b="b"/>
                  <a:pathLst>
                    <a:path w="356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6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27440" y="412740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462800" y="3819960"/>
              <a:ext cx="613800" cy="574200"/>
              <a:chOff x="7462800" y="3819960"/>
              <a:chExt cx="613800" cy="574200"/>
            </a:xfrm>
          </p:grpSpPr>
          <p:sp>
            <p:nvSpPr>
              <p:cNvPr id="255" name=""/>
              <p:cNvSpPr/>
              <p:nvPr/>
            </p:nvSpPr>
            <p:spPr>
              <a:xfrm>
                <a:off x="7462800" y="3819960"/>
                <a:ext cx="613800" cy="57420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7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7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3819960"/>
                <a:ext cx="613800" cy="14508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7" y="82"/>
                    </a:lnTo>
                    <a:lnTo>
                      <a:pt x="355" y="0"/>
                    </a:lnTo>
                    <a:lnTo>
                      <a:pt x="77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41960" y="3819960"/>
                <a:ext cx="134640" cy="574200"/>
              </a:xfrm>
              <a:custGeom>
                <a:avLst/>
                <a:gdLst/>
                <a:ahLst/>
                <a:rect l="l" t="t" r="r" b="b"/>
                <a:pathLst>
                  <a:path w="78" h="325">
                    <a:moveTo>
                      <a:pt x="0" y="82"/>
                    </a:moveTo>
                    <a:lnTo>
                      <a:pt x="78" y="0"/>
                    </a:lnTo>
                    <a:lnTo>
                      <a:pt x="78" y="244"/>
                    </a:lnTo>
                    <a:lnTo>
                      <a:pt x="0" y="325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3819960"/>
                <a:ext cx="613800" cy="57420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7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7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0" y="3819960"/>
                <a:ext cx="613800" cy="14508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7" y="82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41960" y="3965040"/>
                <a:ext cx="1440" cy="42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86400" y="3411720"/>
              <a:ext cx="767520" cy="736200"/>
              <a:chOff x="6386400" y="3411720"/>
              <a:chExt cx="767520" cy="7362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540480" y="3411720"/>
                <a:ext cx="613440" cy="572040"/>
                <a:chOff x="6540480" y="3411720"/>
                <a:chExt cx="613440" cy="572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40480" y="3411720"/>
                  <a:ext cx="613440" cy="57204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40480" y="3411720"/>
                  <a:ext cx="61344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019280" y="3411720"/>
                  <a:ext cx="134640" cy="57204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40480" y="3411720"/>
                  <a:ext cx="613440" cy="57204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40480" y="3411720"/>
                  <a:ext cx="61344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19280" y="3554640"/>
                  <a:ext cx="1800" cy="42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386400" y="3574080"/>
                <a:ext cx="613800" cy="573840"/>
                <a:chOff x="6386400" y="3574080"/>
                <a:chExt cx="613800" cy="573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386400" y="3574080"/>
                  <a:ext cx="613800" cy="57384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86400" y="3574080"/>
                  <a:ext cx="61380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  <a:lnTo>
                        <a:pt x="78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67000" y="3574080"/>
                  <a:ext cx="133200" cy="573840"/>
                </a:xfrm>
                <a:custGeom>
                  <a:avLst/>
                  <a:gdLst/>
                  <a:ahLst/>
                  <a:rect l="l" t="t" r="r" b="b"/>
                  <a:pathLst>
                    <a:path w="77" h="325">
                      <a:moveTo>
                        <a:pt x="0" y="81"/>
                      </a:moveTo>
                      <a:lnTo>
                        <a:pt x="77" y="0"/>
                      </a:lnTo>
                      <a:lnTo>
                        <a:pt x="77" y="244"/>
                      </a:lnTo>
                      <a:lnTo>
                        <a:pt x="0" y="325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386400" y="3574080"/>
                  <a:ext cx="613800" cy="573840"/>
                </a:xfrm>
                <a:custGeom>
                  <a:avLst/>
                  <a:gdLst/>
                  <a:ahLst/>
                  <a:rect l="l" t="t" r="r" b="b"/>
                  <a:pathLst>
                    <a:path w="355" h="325">
                      <a:moveTo>
                        <a:pt x="78" y="0"/>
                      </a:moveTo>
                      <a:lnTo>
                        <a:pt x="0" y="81"/>
                      </a:lnTo>
                      <a:lnTo>
                        <a:pt x="0" y="325"/>
                      </a:lnTo>
                      <a:lnTo>
                        <a:pt x="278" y="325"/>
                      </a:lnTo>
                      <a:lnTo>
                        <a:pt x="355" y="244"/>
                      </a:lnTo>
                      <a:lnTo>
                        <a:pt x="355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386400" y="3574080"/>
                  <a:ext cx="613800" cy="14292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8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67000" y="3717000"/>
                  <a:ext cx="180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540480" y="3001320"/>
              <a:ext cx="613440" cy="572040"/>
              <a:chOff x="6540480" y="3001320"/>
              <a:chExt cx="613440" cy="572040"/>
            </a:xfrm>
          </p:grpSpPr>
          <p:sp>
            <p:nvSpPr>
              <p:cNvPr id="277" name=""/>
              <p:cNvSpPr/>
              <p:nvPr/>
            </p:nvSpPr>
            <p:spPr>
              <a:xfrm>
                <a:off x="6540480" y="3001320"/>
                <a:ext cx="613440" cy="57204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40480" y="3001320"/>
                <a:ext cx="61344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9280" y="3001320"/>
                <a:ext cx="134640" cy="572040"/>
              </a:xfrm>
              <a:custGeom>
                <a:avLst/>
                <a:gdLst/>
                <a:ahLst/>
                <a:rect l="l" t="t" r="r" b="b"/>
                <a:pathLst>
                  <a:path w="78" h="324">
                    <a:moveTo>
                      <a:pt x="0" y="81"/>
                    </a:moveTo>
                    <a:lnTo>
                      <a:pt x="78" y="0"/>
                    </a:lnTo>
                    <a:lnTo>
                      <a:pt x="78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40480" y="3001320"/>
                <a:ext cx="613440" cy="57204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40480" y="3001320"/>
                <a:ext cx="61344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19280" y="3144240"/>
                <a:ext cx="1800" cy="42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998760" y="3452400"/>
              <a:ext cx="613800" cy="572760"/>
              <a:chOff x="6998760" y="3452400"/>
              <a:chExt cx="613800" cy="572760"/>
            </a:xfrm>
          </p:grpSpPr>
          <p:sp>
            <p:nvSpPr>
              <p:cNvPr id="284" name=""/>
              <p:cNvSpPr/>
              <p:nvPr/>
            </p:nvSpPr>
            <p:spPr>
              <a:xfrm>
                <a:off x="6998760" y="3452400"/>
                <a:ext cx="61380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8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8760" y="3452400"/>
                <a:ext cx="61380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8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79720" y="3452400"/>
                <a:ext cx="132840" cy="572760"/>
              </a:xfrm>
              <a:custGeom>
                <a:avLst/>
                <a:gdLst/>
                <a:ahLst/>
                <a:rect l="l" t="t" r="r" b="b"/>
                <a:pathLst>
                  <a:path w="77" h="324">
                    <a:moveTo>
                      <a:pt x="0" y="81"/>
                    </a:moveTo>
                    <a:lnTo>
                      <a:pt x="77" y="0"/>
                    </a:lnTo>
                    <a:lnTo>
                      <a:pt x="77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98760" y="3452400"/>
                <a:ext cx="61380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8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98760" y="3452400"/>
                <a:ext cx="613800" cy="14292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8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79720" y="3595320"/>
                <a:ext cx="144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540480" y="2590920"/>
              <a:ext cx="613440" cy="572760"/>
              <a:chOff x="6540480" y="2590920"/>
              <a:chExt cx="613440" cy="572760"/>
            </a:xfrm>
          </p:grpSpPr>
          <p:sp>
            <p:nvSpPr>
              <p:cNvPr id="291" name=""/>
              <p:cNvSpPr/>
              <p:nvPr/>
            </p:nvSpPr>
            <p:spPr>
              <a:xfrm>
                <a:off x="6540480" y="2590920"/>
                <a:ext cx="61344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40480" y="2590920"/>
                <a:ext cx="613440" cy="14328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19280" y="2590920"/>
                <a:ext cx="134640" cy="572760"/>
              </a:xfrm>
              <a:custGeom>
                <a:avLst/>
                <a:gdLst/>
                <a:ahLst/>
                <a:rect l="l" t="t" r="r" b="b"/>
                <a:pathLst>
                  <a:path w="78" h="324">
                    <a:moveTo>
                      <a:pt x="0" y="81"/>
                    </a:moveTo>
                    <a:lnTo>
                      <a:pt x="78" y="0"/>
                    </a:lnTo>
                    <a:lnTo>
                      <a:pt x="78" y="243"/>
                    </a:lnTo>
                    <a:lnTo>
                      <a:pt x="0" y="324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40480" y="2590920"/>
                <a:ext cx="613440" cy="572760"/>
              </a:xfrm>
              <a:custGeom>
                <a:avLst/>
                <a:gdLst/>
                <a:ahLst/>
                <a:rect l="l" t="t" r="r" b="b"/>
                <a:pathLst>
                  <a:path w="355" h="324">
                    <a:moveTo>
                      <a:pt x="78" y="0"/>
                    </a:moveTo>
                    <a:lnTo>
                      <a:pt x="0" y="81"/>
                    </a:lnTo>
                    <a:lnTo>
                      <a:pt x="0" y="324"/>
                    </a:lnTo>
                    <a:lnTo>
                      <a:pt x="277" y="324"/>
                    </a:lnTo>
                    <a:lnTo>
                      <a:pt x="355" y="243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40480" y="2590920"/>
                <a:ext cx="613440" cy="143280"/>
              </a:xfrm>
              <a:custGeom>
                <a:avLst/>
                <a:gdLst/>
                <a:ahLst/>
                <a:rect l="l" t="t" r="r" b="b"/>
                <a:pathLst>
                  <a:path w="355" h="81">
                    <a:moveTo>
                      <a:pt x="0" y="81"/>
                    </a:moveTo>
                    <a:lnTo>
                      <a:pt x="277" y="81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19280" y="2734200"/>
                <a:ext cx="180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380880" y="2362320"/>
            <a:ext cx="1143000" cy="1066680"/>
            <a:chOff x="380880" y="2362320"/>
            <a:chExt cx="1143000" cy="1066680"/>
          </a:xfrm>
        </p:grpSpPr>
        <p:sp>
          <p:nvSpPr>
            <p:cNvPr id="298" name=""/>
            <p:cNvSpPr/>
            <p:nvPr/>
          </p:nvSpPr>
          <p:spPr>
            <a:xfrm>
              <a:off x="380880" y="236232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400" y="259092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33520" y="4800600"/>
            <a:ext cx="1143000" cy="1066680"/>
            <a:chOff x="533520" y="4800600"/>
            <a:chExt cx="1143000" cy="1066680"/>
          </a:xfrm>
        </p:grpSpPr>
        <p:sp>
          <p:nvSpPr>
            <p:cNvPr id="301" name=""/>
            <p:cNvSpPr/>
            <p:nvPr/>
          </p:nvSpPr>
          <p:spPr>
            <a:xfrm>
              <a:off x="533520" y="480060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040" y="502920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72000" y="3429000"/>
            <a:ext cx="1143000" cy="1066680"/>
            <a:chOff x="4572000" y="3429000"/>
            <a:chExt cx="1143000" cy="1066680"/>
          </a:xfrm>
        </p:grpSpPr>
        <p:sp>
          <p:nvSpPr>
            <p:cNvPr id="304" name=""/>
            <p:cNvSpPr/>
            <p:nvPr/>
          </p:nvSpPr>
          <p:spPr>
            <a:xfrm>
              <a:off x="4572000" y="3429000"/>
              <a:ext cx="1143000" cy="106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52520" y="3657600"/>
              <a:ext cx="29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66680" y="425520"/>
            <a:ext cx="6323760" cy="1024200"/>
            <a:chOff x="1066680" y="425520"/>
            <a:chExt cx="6323760" cy="1024200"/>
          </a:xfrm>
        </p:grpSpPr>
        <p:sp>
          <p:nvSpPr>
            <p:cNvPr id="307" name=""/>
            <p:cNvSpPr/>
            <p:nvPr/>
          </p:nvSpPr>
          <p:spPr>
            <a:xfrm>
              <a:off x="1295280" y="441360"/>
              <a:ext cx="3886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1.</a:t>
              </a:r>
              <a:r>
                <a:rPr b="1" lang="zh-CN" sz="6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数一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066680" y="425520"/>
              <a:ext cx="6323760" cy="1006200"/>
              <a:chOff x="1066680" y="425520"/>
              <a:chExt cx="6323760" cy="1006200"/>
            </a:xfrm>
          </p:grpSpPr>
          <p:sp>
            <p:nvSpPr>
              <p:cNvPr id="309" name=""/>
              <p:cNvSpPr/>
              <p:nvPr/>
            </p:nvSpPr>
            <p:spPr>
              <a:xfrm>
                <a:off x="1461600" y="425520"/>
                <a:ext cx="59288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066680" y="577800"/>
                <a:ext cx="3952440" cy="838080"/>
              </a:xfrm>
              <a:prstGeom prst="flowChartTerminator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685800" y="2514600"/>
            <a:ext cx="60948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4819680"/>
            <a:ext cx="60948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3429000"/>
            <a:ext cx="1143000" cy="916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57400" y="2209680"/>
            <a:ext cx="1370880" cy="1580400"/>
            <a:chOff x="2057400" y="2209680"/>
            <a:chExt cx="1370880" cy="1580400"/>
          </a:xfrm>
        </p:grpSpPr>
        <p:grpSp>
          <p:nvGrpSpPr>
            <p:cNvPr id="315" name=""/>
            <p:cNvGrpSpPr/>
            <p:nvPr/>
          </p:nvGrpSpPr>
          <p:grpSpPr>
            <a:xfrm>
              <a:off x="2057400" y="3048120"/>
              <a:ext cx="837360" cy="741960"/>
              <a:chOff x="2057400" y="3048120"/>
              <a:chExt cx="837360" cy="7419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153520" y="3048120"/>
                <a:ext cx="741240" cy="646560"/>
                <a:chOff x="2153520" y="3048120"/>
                <a:chExt cx="741240" cy="646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15352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15352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31680" y="3048120"/>
                  <a:ext cx="162720" cy="6465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15352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15352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731680" y="3209760"/>
                  <a:ext cx="180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057400" y="3143880"/>
                <a:ext cx="741240" cy="646200"/>
                <a:chOff x="2057400" y="3143880"/>
                <a:chExt cx="741240" cy="6462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05740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05740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635560" y="3143880"/>
                  <a:ext cx="162720" cy="64620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5740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05740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35560" y="3305160"/>
                  <a:ext cx="1800" cy="48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2590920" y="3048120"/>
              <a:ext cx="837360" cy="741960"/>
              <a:chOff x="2590920" y="3048120"/>
              <a:chExt cx="837360" cy="7419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687040" y="3048120"/>
                <a:ext cx="741240" cy="646560"/>
                <a:chOff x="2687040" y="3048120"/>
                <a:chExt cx="741240" cy="646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68704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8704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65200" y="3048120"/>
                  <a:ext cx="162720" cy="6465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687040" y="3048120"/>
                  <a:ext cx="741240" cy="6465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87040" y="3048120"/>
                  <a:ext cx="741240" cy="16164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265200" y="3209760"/>
                  <a:ext cx="180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590920" y="3143880"/>
                <a:ext cx="741240" cy="646200"/>
                <a:chOff x="2590920" y="3143880"/>
                <a:chExt cx="741240" cy="6462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59092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9092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169080" y="3143880"/>
                  <a:ext cx="162720" cy="64620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590920" y="3143880"/>
                  <a:ext cx="741240" cy="64620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90920" y="3143880"/>
                  <a:ext cx="741240" cy="16128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69080" y="3305160"/>
                  <a:ext cx="1800" cy="48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2057400" y="2590920"/>
              <a:ext cx="761400" cy="761040"/>
              <a:chOff x="2057400" y="2590920"/>
              <a:chExt cx="761400" cy="7610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144880" y="2590920"/>
                <a:ext cx="673920" cy="663120"/>
                <a:chOff x="2144880" y="2590920"/>
                <a:chExt cx="673920" cy="663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144880" y="2590920"/>
                  <a:ext cx="673920" cy="66312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44880" y="259092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70840" y="2590920"/>
                  <a:ext cx="147960" cy="66312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44880" y="2590920"/>
                  <a:ext cx="673920" cy="66312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144880" y="259092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670840" y="2756520"/>
                  <a:ext cx="1440" cy="49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57400" y="2689200"/>
                <a:ext cx="673920" cy="662760"/>
                <a:chOff x="2057400" y="2689200"/>
                <a:chExt cx="673920" cy="662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57400" y="2689200"/>
                  <a:ext cx="673920" cy="6627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57400" y="268920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  <a:lnTo>
                        <a:pt x="77" y="0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83360" y="2689200"/>
                  <a:ext cx="147960" cy="662760"/>
                </a:xfrm>
                <a:custGeom>
                  <a:avLst/>
                  <a:gdLst/>
                  <a:ahLst/>
                  <a:rect l="l" t="t" r="r" b="b"/>
                  <a:pathLst>
                    <a:path w="78" h="324">
                      <a:moveTo>
                        <a:pt x="0" y="81"/>
                      </a:moveTo>
                      <a:lnTo>
                        <a:pt x="78" y="0"/>
                      </a:lnTo>
                      <a:lnTo>
                        <a:pt x="78" y="243"/>
                      </a:lnTo>
                      <a:lnTo>
                        <a:pt x="0" y="324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057400" y="2689200"/>
                  <a:ext cx="673920" cy="662760"/>
                </a:xfrm>
                <a:custGeom>
                  <a:avLst/>
                  <a:gdLst/>
                  <a:ahLst/>
                  <a:rect l="l" t="t" r="r" b="b"/>
                  <a:pathLst>
                    <a:path w="355" h="324">
                      <a:moveTo>
                        <a:pt x="77" y="0"/>
                      </a:moveTo>
                      <a:lnTo>
                        <a:pt x="0" y="81"/>
                      </a:lnTo>
                      <a:lnTo>
                        <a:pt x="0" y="324"/>
                      </a:lnTo>
                      <a:lnTo>
                        <a:pt x="277" y="324"/>
                      </a:lnTo>
                      <a:lnTo>
                        <a:pt x="355" y="243"/>
                      </a:lnTo>
                      <a:lnTo>
                        <a:pt x="355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057400" y="2689200"/>
                  <a:ext cx="673920" cy="165600"/>
                </a:xfrm>
                <a:custGeom>
                  <a:avLst/>
                  <a:gdLst/>
                  <a:ahLst/>
                  <a:rect l="l" t="t" r="r" b="b"/>
                  <a:pathLst>
                    <a:path w="355" h="81">
                      <a:moveTo>
                        <a:pt x="0" y="81"/>
                      </a:moveTo>
                      <a:lnTo>
                        <a:pt x="277" y="81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ffcf0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83360" y="2854800"/>
                  <a:ext cx="1440" cy="49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2133720" y="2209680"/>
              <a:ext cx="685440" cy="533160"/>
              <a:chOff x="2133720" y="2209680"/>
              <a:chExt cx="685440" cy="533160"/>
            </a:xfrm>
          </p:grpSpPr>
          <p:sp>
            <p:nvSpPr>
              <p:cNvPr id="361" name=""/>
              <p:cNvSpPr/>
              <p:nvPr/>
            </p:nvSpPr>
            <p:spPr>
              <a:xfrm>
                <a:off x="2133720" y="2209680"/>
                <a:ext cx="685440" cy="53316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8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8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33720" y="2209680"/>
                <a:ext cx="685440" cy="13464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8" y="82"/>
                    </a:lnTo>
                    <a:lnTo>
                      <a:pt x="355" y="0"/>
                    </a:lnTo>
                    <a:lnTo>
                      <a:pt x="78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70120" y="2209680"/>
                <a:ext cx="148680" cy="533160"/>
              </a:xfrm>
              <a:custGeom>
                <a:avLst/>
                <a:gdLst/>
                <a:ahLst/>
                <a:rect l="l" t="t" r="r" b="b"/>
                <a:pathLst>
                  <a:path w="77" h="325">
                    <a:moveTo>
                      <a:pt x="0" y="82"/>
                    </a:moveTo>
                    <a:lnTo>
                      <a:pt x="77" y="0"/>
                    </a:lnTo>
                    <a:lnTo>
                      <a:pt x="77" y="244"/>
                    </a:lnTo>
                    <a:lnTo>
                      <a:pt x="0" y="325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33720" y="2209680"/>
                <a:ext cx="685440" cy="533160"/>
              </a:xfrm>
              <a:custGeom>
                <a:avLst/>
                <a:gdLst/>
                <a:ahLst/>
                <a:rect l="l" t="t" r="r" b="b"/>
                <a:pathLst>
                  <a:path w="355" h="325">
                    <a:moveTo>
                      <a:pt x="78" y="0"/>
                    </a:moveTo>
                    <a:lnTo>
                      <a:pt x="0" y="82"/>
                    </a:lnTo>
                    <a:lnTo>
                      <a:pt x="0" y="325"/>
                    </a:lnTo>
                    <a:lnTo>
                      <a:pt x="278" y="325"/>
                    </a:lnTo>
                    <a:lnTo>
                      <a:pt x="355" y="244"/>
                    </a:lnTo>
                    <a:lnTo>
                      <a:pt x="355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33720" y="2209680"/>
                <a:ext cx="685440" cy="134640"/>
              </a:xfrm>
              <a:custGeom>
                <a:avLst/>
                <a:gdLst/>
                <a:ahLst/>
                <a:rect l="l" t="t" r="r" b="b"/>
                <a:pathLst>
                  <a:path w="355" h="82">
                    <a:moveTo>
                      <a:pt x="0" y="82"/>
                    </a:moveTo>
                    <a:lnTo>
                      <a:pt x="278" y="82"/>
                    </a:lnTo>
                    <a:lnTo>
                      <a:pt x="355" y="0"/>
                    </a:lnTo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70120" y="2344320"/>
                <a:ext cx="2160" cy="3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90720" y="685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数一数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有多少个三角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00200" y="2133720"/>
            <a:ext cx="5409720" cy="3886200"/>
            <a:chOff x="1600200" y="2133720"/>
            <a:chExt cx="5409720" cy="3886200"/>
          </a:xfrm>
        </p:grpSpPr>
        <p:sp>
          <p:nvSpPr>
            <p:cNvPr id="369" name=""/>
            <p:cNvSpPr/>
            <p:nvPr/>
          </p:nvSpPr>
          <p:spPr>
            <a:xfrm>
              <a:off x="1676160" y="2133720"/>
              <a:ext cx="5333760" cy="16765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5640" y="3124440"/>
              <a:ext cx="4190760" cy="21337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4572360"/>
              <a:ext cx="5333760" cy="14475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391520" y="48769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838440" cy="1008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380880"/>
            <a:ext cx="92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下图中共有（     ）个正方形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14600" y="2133720"/>
            <a:ext cx="3962520" cy="3962160"/>
            <a:chOff x="2514600" y="2133720"/>
            <a:chExt cx="3962520" cy="3962160"/>
          </a:xfrm>
        </p:grpSpPr>
        <p:sp>
          <p:nvSpPr>
            <p:cNvPr id="376" name=""/>
            <p:cNvSpPr/>
            <p:nvPr/>
          </p:nvSpPr>
          <p:spPr>
            <a:xfrm>
              <a:off x="3505320" y="3048120"/>
              <a:ext cx="1981080" cy="1981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514600" y="2133720"/>
              <a:ext cx="3962520" cy="3962160"/>
              <a:chOff x="2514600" y="2133720"/>
              <a:chExt cx="3962520" cy="3962160"/>
            </a:xfrm>
          </p:grpSpPr>
          <p:sp>
            <p:nvSpPr>
              <p:cNvPr id="378" name=""/>
              <p:cNvSpPr/>
              <p:nvPr/>
            </p:nvSpPr>
            <p:spPr>
              <a:xfrm>
                <a:off x="2514600" y="2133720"/>
                <a:ext cx="198108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514600" y="4114800"/>
                <a:ext cx="198108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95680" y="4114800"/>
                <a:ext cx="198144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95680" y="2133720"/>
                <a:ext cx="1981440" cy="19810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4631040" y="4572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1904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600200" y="5335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 Black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3333cc"/>
                </a:solidFill>
                <a:latin typeface="Arial Black"/>
                <a:ea typeface="华文新魏"/>
              </a:rPr>
              <a:t>、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数图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22096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352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6080" y="43578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80880" y="1752480"/>
            <a:ext cx="5334120" cy="4648320"/>
            <a:chOff x="380880" y="1752480"/>
            <a:chExt cx="5334120" cy="4648320"/>
          </a:xfrm>
        </p:grpSpPr>
        <p:sp>
          <p:nvSpPr>
            <p:cNvPr id="388" name=""/>
            <p:cNvSpPr/>
            <p:nvPr/>
          </p:nvSpPr>
          <p:spPr>
            <a:xfrm>
              <a:off x="380880" y="1752480"/>
              <a:ext cx="5334120" cy="4648320"/>
            </a:xfrm>
            <a:prstGeom prst="rect">
              <a:avLst/>
            </a:prstGeom>
            <a:noFill/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880" y="3335400"/>
              <a:ext cx="5334120" cy="144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880" y="4818240"/>
              <a:ext cx="5334120" cy="2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7320" y="1752480"/>
              <a:ext cx="1440" cy="464832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3400" y="1752480"/>
              <a:ext cx="3240" cy="464832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8240" y="2049480"/>
              <a:ext cx="1128960" cy="988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35120" y="2049480"/>
              <a:ext cx="1128960" cy="988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4520" y="5313240"/>
              <a:ext cx="820800" cy="790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9960" y="3730680"/>
              <a:ext cx="820800" cy="790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93880" y="2147760"/>
              <a:ext cx="820800" cy="7923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0560" y="5213520"/>
              <a:ext cx="1027080" cy="988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8440" y="5213520"/>
              <a:ext cx="1025640" cy="988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1560" y="3929040"/>
              <a:ext cx="1128600" cy="3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0560" y="3828960"/>
              <a:ext cx="1128600" cy="3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43600" y="1600200"/>
            <a:ext cx="4495680" cy="4650480"/>
            <a:chOff x="5943600" y="1600200"/>
            <a:chExt cx="4495680" cy="4650480"/>
          </a:xfrm>
        </p:grpSpPr>
        <p:sp>
          <p:nvSpPr>
            <p:cNvPr id="403" name=""/>
            <p:cNvSpPr/>
            <p:nvPr/>
          </p:nvSpPr>
          <p:spPr>
            <a:xfrm>
              <a:off x="6324480" y="4648320"/>
              <a:ext cx="83844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943600" y="1600200"/>
              <a:ext cx="4495680" cy="1783800"/>
              <a:chOff x="5943600" y="1600200"/>
              <a:chExt cx="4495680" cy="1783800"/>
            </a:xfrm>
          </p:grpSpPr>
          <p:sp>
            <p:nvSpPr>
              <p:cNvPr id="405" name=""/>
              <p:cNvSpPr/>
              <p:nvPr/>
            </p:nvSpPr>
            <p:spPr>
              <a:xfrm>
                <a:off x="5943600" y="1600200"/>
                <a:ext cx="4495680" cy="17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333300"/>
                    </a:solidFill>
                    <a:latin typeface="Times New Roman"/>
                  </a:rPr>
                  <a:t>图中有</a:t>
                </a:r>
                <a:r>
                  <a:rPr b="1" lang="zh-CN" sz="4400" spc="-1" strike="noStrike">
                    <a:solidFill>
                      <a:srgbClr val="333300"/>
                    </a:solidFill>
                    <a:latin typeface="Times New Roman"/>
                  </a:rPr>
                  <a:t>: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94360" y="18288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52dbb"/>
                    </a:solidFill>
                    <a:latin typeface="Times New Roman"/>
                  </a:rPr>
                  <a:t>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034280" y="1752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52dbb"/>
                    </a:solidFill>
                    <a:latin typeface="Times New Roman"/>
                  </a:rPr>
                  <a:t>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324480" y="2438280"/>
              <a:ext cx="60984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48520" y="3276720"/>
              <a:ext cx="838080" cy="7617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5486400"/>
              <a:ext cx="762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15200" y="220968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15200" y="335268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15200" y="441972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1520" y="54864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cc"/>
                  </a:solidFill>
                  <a:latin typeface="Tahoma"/>
                </a:rPr>
                <a:t>(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696080" y="5500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5:33:24Z</dcterms:created>
  <dc:creator>ww</dc:creator>
  <dc:description/>
  <dc:language>en-US</dc:language>
  <cp:lastModifiedBy>wang</cp:lastModifiedBy>
  <dcterms:modified xsi:type="dcterms:W3CDTF">2004-01-15T02:51:43Z</dcterms:modified>
  <cp:revision>39</cp:revision>
  <dc:subject/>
  <dc:title>PowerPoint 演示文稿</dc:title>
</cp:coreProperties>
</file>