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D4E-02AA-4CA5-AD19-3FFCE997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B12-5B1D-4B50-8434-6406345C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141-5AEE-4358-BBE0-F8D7186E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B09-901D-4362-8C17-4B1638CB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C6E-800A-4836-9718-F265EDA8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E45-1A0B-46DD-85DC-2633921D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DFB-E9B2-42BB-A5B1-1DCCA1D7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B5F-3067-40CF-B0C3-00D0A968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C75-83FE-404F-B59E-E1DBB99E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426-0FF3-4823-A5D4-39892EE5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411-059E-4BFE-A36D-C195412F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738-C385-4329-8D6E-22CC90B3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AFE5-6835-42FA-BF5C-77C5D4C7E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960" y="10126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五年级一班女同学测量身高的记录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1676520"/>
            <a:ext cx="6858000" cy="3827520"/>
            <a:chOff x="1600200" y="1676520"/>
            <a:chExt cx="6858000" cy="3827520"/>
          </a:xfrm>
        </p:grpSpPr>
        <p:grpSp>
          <p:nvGrpSpPr>
            <p:cNvPr id="70" name=""/>
            <p:cNvGrpSpPr/>
            <p:nvPr/>
          </p:nvGrpSpPr>
          <p:grpSpPr>
            <a:xfrm>
              <a:off x="1600200" y="1676520"/>
              <a:ext cx="6858000" cy="3809880"/>
              <a:chOff x="1600200" y="1676520"/>
              <a:chExt cx="6858000" cy="3809880"/>
            </a:xfrm>
          </p:grpSpPr>
          <p:sp>
            <p:nvSpPr>
              <p:cNvPr id="71" name=""/>
              <p:cNvSpPr/>
              <p:nvPr/>
            </p:nvSpPr>
            <p:spPr>
              <a:xfrm>
                <a:off x="1600200" y="1676520"/>
                <a:ext cx="6858000" cy="38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00200" y="5105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0200" y="4724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00200" y="4343400"/>
                <a:ext cx="685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00200" y="3962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00200" y="3581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00200" y="3200400"/>
                <a:ext cx="685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00200" y="2819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00200" y="2438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43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29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86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9588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72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315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988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80828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30600" y="2422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钱秀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75520" y="28368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王    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98920" y="32004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李娟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60760" y="358128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张   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98920" y="39621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静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98920" y="5089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王丽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76600" y="43275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宋   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30600" y="4721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桂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2176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176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2422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84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84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840" y="3565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380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3800" y="5105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63800" y="4357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63800" y="47386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076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1424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1424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8676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0024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0024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6600" y="2438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蔡雅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1520" y="2820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秦    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6600" y="316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顾伟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6600" y="3563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牛爱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9840" y="39621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钱    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29840" y="43275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    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29840" y="4724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    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40280" y="5087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小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2600" y="2420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冯淑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2600" y="2803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杜小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14760" y="320184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许     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46800" y="35827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     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2600" y="3946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刘竞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03760" y="43275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杨宁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7520" y="47257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夏    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2600" y="5089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武星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26120" y="2438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172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9588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5880" y="3581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184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1840" y="43434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67440" y="4724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67440" y="51004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438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380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4380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3800" y="3581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4380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48840" y="43434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4724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74040" y="5105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91400" y="1676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五年级一班女同学身高情况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52920" y="213372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30481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41148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9528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2252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2240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172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6104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7540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8120" y="30384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身   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97720" y="359568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厘  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57200" y="42814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3240" y="428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62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0" y="4267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7360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692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1160" y="4648320"/>
            <a:ext cx="587520" cy="581400"/>
          </a:xfrm>
          <a:prstGeom prst="rect">
            <a:avLst/>
          </a:prstGeom>
          <a:solidFill>
            <a:srgbClr val="6699ff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17320" y="502920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如果要计算这个班女同学的平均身高，应该怎样计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58720" y="13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个班女同学身高在哪个范围内的人数最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8560" y="1981080"/>
            <a:ext cx="31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在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40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厘米～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44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厘米范围内人数最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2280" y="2438280"/>
            <a:ext cx="34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个班女同学一共有多少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44880" y="2936880"/>
            <a:ext cx="36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2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336708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整理后的统计表和原始数据记录单相比，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哪些优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9280" y="44928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便于查看，便于分析、比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3760" y="5462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需要根据哪个表计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 一 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92080" y="117936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五年级二班男同学的体重记录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600200" y="1951200"/>
            <a:ext cx="6858000" cy="3461040"/>
            <a:chOff x="1600200" y="1951200"/>
            <a:chExt cx="6858000" cy="3461040"/>
          </a:xfrm>
        </p:grpSpPr>
        <p:sp>
          <p:nvSpPr>
            <p:cNvPr id="206" name=""/>
            <p:cNvSpPr/>
            <p:nvPr/>
          </p:nvSpPr>
          <p:spPr>
            <a:xfrm>
              <a:off x="1600200" y="1951200"/>
              <a:ext cx="685800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4998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00200" y="461808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423720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00200" y="3855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347508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309420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00200" y="2712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86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5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0828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0600" y="2697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何文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30600" y="3094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文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98560" y="34750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贾庭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60760" y="38559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程   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4560" y="425448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费   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30600" y="4584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荣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5520" y="501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姚    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2176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2176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81880" y="2697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9628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81880" y="3459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67840" y="3840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1160" y="4237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4600" y="463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64600" y="50133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0076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1388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1388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8676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988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988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1520" y="27306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肖    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16600" y="3078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战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16600" y="3441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包天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16600" y="38386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何方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29840" y="4237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陈    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84560" y="4584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任小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29840" y="4998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金    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600" y="27129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凌   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2600" y="3078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天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14760" y="34765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     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6440" y="385776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刘     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02600" y="422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孙克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47520" y="46195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    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2600" y="4983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黄国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26840" y="2712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128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96600" y="3475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1568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96600" y="4237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1000" y="4618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25040" y="4998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44520" y="2712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4452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44520" y="3459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4452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44520" y="4237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9200" y="4618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44520" y="4998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76520" y="2057400"/>
            <a:ext cx="6629400" cy="1676520"/>
            <a:chOff x="1676520" y="2057400"/>
            <a:chExt cx="6629400" cy="1676520"/>
          </a:xfrm>
        </p:grpSpPr>
        <p:sp>
          <p:nvSpPr>
            <p:cNvPr id="282" name=""/>
            <p:cNvSpPr/>
            <p:nvPr/>
          </p:nvSpPr>
          <p:spPr>
            <a:xfrm>
              <a:off x="1676520" y="205740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76520" y="2895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76520" y="37339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8128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0060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3888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43720" y="2286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重（千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1640" y="312408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            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12680" y="23335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以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50640" y="232740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3760" y="232740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70280" y="23335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以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963960" y="303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0200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856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56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19440" y="41148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个班男同学体重在哪个范围内的人数最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25240" y="4890960"/>
            <a:ext cx="51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（在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千克～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千克的范围内的人数最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总   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8800" y="1295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原始数据进行分组整理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2071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找出原始数据的范围，最大、最小各是多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281952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根据统计的需要何数据范围的具体情况， 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据的范围分成几组，并按照一定的顺序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列编制成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57840" y="47242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统计各组中的原始数据的数目，填写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>ww</dc:creator>
  <dc:description/>
  <dc:language>en-US</dc:language>
  <cp:lastModifiedBy>a</cp:lastModifiedBy>
  <dcterms:modified xsi:type="dcterms:W3CDTF">2003-04-18T05:57:11Z</dcterms:modified>
  <cp:revision>47</cp:revision>
  <dc:subject/>
  <dc:title>PowerPoint 演示文稿</dc:title>
</cp:coreProperties>
</file>