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0A3-6D78-463C-BC4E-1E170178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3E2-081A-4EFE-BFE4-7D2587AA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E99-065D-4BBC-88CD-58D1AB84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36B-E3EB-4E97-A0EA-E48D6060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2AC-89C6-4129-BF8C-EA9D07E4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B14-8407-442A-811E-64E9C6A4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033-9D52-471B-848F-EE9E9C03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1BC-2BCB-4C7A-9FA8-671B6FDD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B17-35C2-42F0-872D-4D3F96BC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AD2-6158-4268-9297-21A843E5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4BE-BE84-4831-A63F-552A4E09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C2E-A303-43AD-B9C5-3D95550E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CB10-05F9-41B9-B28C-A25986C616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20600" y="1065240"/>
            <a:ext cx="819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我国运动员在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~2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夏季奥运会上各获得奖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。制成获奖牌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9718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733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4956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68320" y="3824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奖牌数（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14800" y="3138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          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22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536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24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9080" y="3124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1964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22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536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85920" y="3809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26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98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523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兴农小学活动课程四个小组的学生人数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98560" y="2590920"/>
            <a:ext cx="7559640" cy="3202920"/>
            <a:chOff x="898560" y="2590920"/>
            <a:chExt cx="7559640" cy="3202920"/>
          </a:xfrm>
        </p:grpSpPr>
        <p:grpSp>
          <p:nvGrpSpPr>
            <p:cNvPr id="100" name=""/>
            <p:cNvGrpSpPr/>
            <p:nvPr/>
          </p:nvGrpSpPr>
          <p:grpSpPr>
            <a:xfrm>
              <a:off x="898560" y="2590920"/>
              <a:ext cx="3200400" cy="1432800"/>
              <a:chOff x="898560" y="2590920"/>
              <a:chExt cx="3200400" cy="14328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73720" y="259092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数学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856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856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856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12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7472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3684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0620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2204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36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820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286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6668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71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3556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257800" y="2590920"/>
              <a:ext cx="3200400" cy="1432800"/>
              <a:chOff x="5257800" y="2590920"/>
              <a:chExt cx="3200400" cy="1432800"/>
            </a:xfrm>
          </p:grpSpPr>
          <p:sp>
            <p:nvSpPr>
              <p:cNvPr id="117" name=""/>
              <p:cNvSpPr/>
              <p:nvPr/>
            </p:nvSpPr>
            <p:spPr>
              <a:xfrm>
                <a:off x="6131880" y="259092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生物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25780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5780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7220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933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9608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6544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8128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956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57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78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59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35640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9480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898560" y="4361040"/>
              <a:ext cx="3200400" cy="1432800"/>
              <a:chOff x="898560" y="4361040"/>
              <a:chExt cx="3200400" cy="1432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773720" y="436104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航模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985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985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85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129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747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368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062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220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64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82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286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666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971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35560" y="5334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241960" y="4361040"/>
              <a:ext cx="3200400" cy="1432800"/>
              <a:chOff x="5241960" y="4361040"/>
              <a:chExt cx="3200400" cy="1432800"/>
            </a:xfrm>
          </p:grpSpPr>
          <p:sp>
            <p:nvSpPr>
              <p:cNvPr id="149" name=""/>
              <p:cNvSpPr/>
              <p:nvPr/>
            </p:nvSpPr>
            <p:spPr>
              <a:xfrm>
                <a:off x="6116040" y="436104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美术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419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419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19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563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81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802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496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654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798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416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0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100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405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7860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514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2004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657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114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5720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0292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9280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2004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36576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4320" y="41148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54320" y="45720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00600" y="1828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9160" y="1828800"/>
            <a:ext cx="24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1BDE3-A11D-45F7-9940-972B1D41C5B8}" type="datetime1">
              <a:rPr lang="en-US"/>
              <a:t>07/31/26</a:t>
            </a:fld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514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200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65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57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502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548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29080" y="263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3112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2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344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360" y="412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1400" y="459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61400" y="498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5146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6668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960" y="287640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组     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74280" y="2487600"/>
            <a:ext cx="537480" cy="516600"/>
            <a:chOff x="2474280" y="2487600"/>
            <a:chExt cx="537480" cy="516600"/>
          </a:xfrm>
        </p:grpSpPr>
        <p:sp>
          <p:nvSpPr>
            <p:cNvPr id="222" name=""/>
            <p:cNvSpPr/>
            <p:nvPr/>
          </p:nvSpPr>
          <p:spPr>
            <a:xfrm>
              <a:off x="2474280" y="24876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09000" y="2666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718640" y="2482920"/>
            <a:ext cx="683640" cy="494280"/>
            <a:chOff x="1718640" y="2482920"/>
            <a:chExt cx="683640" cy="494280"/>
          </a:xfrm>
        </p:grpSpPr>
        <p:sp>
          <p:nvSpPr>
            <p:cNvPr id="225" name=""/>
            <p:cNvSpPr/>
            <p:nvPr/>
          </p:nvSpPr>
          <p:spPr>
            <a:xfrm>
              <a:off x="1718640" y="24829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9520" y="2639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09600" y="365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1184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1160" y="4572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7324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16600" y="36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1660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16600" y="45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28520" y="3648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9160" y="4105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14120" y="456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080" y="50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0960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4720" y="3191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1916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1400" y="181944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9200" y="1828800"/>
            <a:ext cx="24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14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四个小组共有学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其中男生有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女生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7560" y="23763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29200" y="306216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男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6080" y="382428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女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0224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2629080" cy="1143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43000" y="48006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还可以看出什么哪些情况呢？你们能告诉我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7960" y="115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6320" y="15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33560" y="15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876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49520" y="3747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860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81360" y="146844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个书店第一季度的售书情况如下，制成统计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60680" y="215424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60680" y="327672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60680" y="455760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9200" y="1461960"/>
            <a:ext cx="13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第一季度售出图书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701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338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384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430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75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521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7018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285444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7000" y="306396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种 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474280" y="2674800"/>
            <a:ext cx="537480" cy="516600"/>
            <a:chOff x="2474280" y="2674800"/>
            <a:chExt cx="537480" cy="516600"/>
          </a:xfrm>
        </p:grpSpPr>
        <p:sp>
          <p:nvSpPr>
            <p:cNvPr id="302" name=""/>
            <p:cNvSpPr/>
            <p:nvPr/>
          </p:nvSpPr>
          <p:spPr>
            <a:xfrm>
              <a:off x="2474280" y="26748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09000" y="2854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718640" y="2670120"/>
            <a:ext cx="683640" cy="494280"/>
            <a:chOff x="1718640" y="2670120"/>
            <a:chExt cx="683640" cy="494280"/>
          </a:xfrm>
        </p:grpSpPr>
        <p:sp>
          <p:nvSpPr>
            <p:cNvPr id="305" name=""/>
            <p:cNvSpPr/>
            <p:nvPr/>
          </p:nvSpPr>
          <p:spPr>
            <a:xfrm>
              <a:off x="1718640" y="26701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99520" y="2827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395880" y="2819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92600" y="2819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25040" y="28256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0920" y="28400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01720" y="3408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1400" y="3886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文艺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840" y="4322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科技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840" y="478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0240" y="384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0280" y="386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5600" y="385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94400" y="431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768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560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8620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182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898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280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2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2280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98760" y="4800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6080" y="3387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768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560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342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7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08280" y="2048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6000" y="2038320"/>
            <a:ext cx="24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>ww</dc:creator>
  <dc:description/>
  <dc:language>en-US</dc:language>
  <cp:lastModifiedBy>ccw</cp:lastModifiedBy>
  <dcterms:modified xsi:type="dcterms:W3CDTF">2004-03-11T08:49:01Z</dcterms:modified>
  <cp:revision>71</cp:revision>
  <dc:subject/>
  <dc:title>PowerPoint 演示文稿</dc:title>
</cp:coreProperties>
</file>