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wmf" ContentType="image/x-wmf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F50E-3C63-4D85-A9EB-0488FE5103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C39-ECFB-40A4-BBB5-474D36C3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CC5-018F-44A3-BF38-5E9102A0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C7B-6E36-4DFC-A848-DA3B17A1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12C-B74A-45A0-BA77-C619B672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7E6-9726-4888-BEE3-17CE47DE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C4C-83A0-457A-8C63-DA2898B3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D05-606E-484F-8470-423F5693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532-3D81-4A0D-84ED-1B48E88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CCF-8039-4786-8B20-748A634E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2CA-7993-4200-8F98-7347281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ACB-438E-4B3E-954B-15A14628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8DE-9E90-4CEA-A88A-DE7A062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F697-F01F-448F-94F8-7F747CECD1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2421000"/>
            <a:ext cx="5761080" cy="15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角的初步认识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981000"/>
            <a:ext cx="37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16200" y="836640"/>
            <a:ext cx="23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那些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2514600"/>
            <a:ext cx="38124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914400" y="3657240"/>
            <a:ext cx="144792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514600"/>
            <a:ext cx="76212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434340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590920"/>
            <a:ext cx="1359000" cy="1866960"/>
          </a:xfrm>
          <a:custGeom>
            <a:avLst/>
            <a:gdLst/>
            <a:ahLst/>
            <a:rect l="l" t="t" r="r" b="b"/>
            <a:pathLst>
              <a:path w="856" h="1176">
                <a:moveTo>
                  <a:pt x="616" y="0"/>
                </a:moveTo>
                <a:cubicBezTo>
                  <a:pt x="308" y="420"/>
                  <a:pt x="0" y="840"/>
                  <a:pt x="40" y="1008"/>
                </a:cubicBezTo>
                <a:cubicBezTo>
                  <a:pt x="80" y="1176"/>
                  <a:pt x="720" y="1008"/>
                  <a:pt x="856" y="100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438280"/>
            <a:ext cx="11430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352680"/>
            <a:ext cx="16761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7242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00cc00"/>
                </a:solidFill>
                <a:latin typeface="隶书"/>
                <a:ea typeface="隶书"/>
              </a:rPr>
              <a:t>是  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不是</a:t>
            </a:r>
            <a:r>
              <a:rPr b="0" lang="zh-CN" sz="4800" spc="-1" strike="noStrike">
                <a:solidFill>
                  <a:srgbClr val="00cc00"/>
                </a:solidFill>
                <a:latin typeface="隶书"/>
                <a:ea typeface="隶书"/>
              </a:rPr>
              <a:t>    是     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838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仔细看看，下面的图形有几个角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2-1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9320" y="49528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有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个角，你答对了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81280"/>
            <a:ext cx="685800" cy="76212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2286000"/>
            <a:ext cx="762120" cy="762120"/>
          </a:xfrm>
          <a:prstGeom prst="donut">
            <a:avLst>
              <a:gd name="adj" fmla="val 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3657600"/>
            <a:ext cx="762120" cy="76212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-2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838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仔细看看，下面的图形有几个角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518148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有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4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个角，你答对了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581280"/>
            <a:ext cx="685800" cy="76212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133720"/>
            <a:ext cx="762120" cy="761760"/>
          </a:xfrm>
          <a:prstGeom prst="donut">
            <a:avLst>
              <a:gd name="adj" fmla="val 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3657600"/>
            <a:ext cx="762120" cy="76212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438280"/>
            <a:ext cx="762120" cy="762120"/>
          </a:xfrm>
          <a:prstGeom prst="donut">
            <a:avLst>
              <a:gd name="adj" fmla="val 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j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2743200"/>
            <a:ext cx="2519640" cy="1917720"/>
          </a:xfrm>
          <a:prstGeom prst="rect">
            <a:avLst/>
          </a:prstGeom>
          <a:ln w="0">
            <a:noFill/>
          </a:ln>
        </p:spPr>
      </p:pic>
      <p:pic>
        <p:nvPicPr>
          <p:cNvPr id="96" name="sj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624720" y="2666880"/>
            <a:ext cx="2519280" cy="191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120" y="1066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Times New Roman"/>
                <a:ea typeface="黑体"/>
              </a:rPr>
              <a:t>下面两个角，哪个大，哪个小？用三角板比比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294920" y="3276720"/>
            <a:ext cx="121932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19112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5029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这两个角是一样大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762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动动脑筋，仔细看看，下面的图形有几个角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4-1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3657600"/>
            <a:ext cx="380880" cy="457200"/>
          </a:xfrm>
          <a:custGeom>
            <a:avLst/>
            <a:gdLst>
              <a:gd name="textAreaLeft" fmla="*/ 0 w 380880"/>
              <a:gd name="textAreaRight" fmla="*/ 381240 w 380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388620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4886" y="8743"/>
                </a:moveTo>
                <a:arcTo wR="-6261" hR="-6261" stAng="-9649283" swAng="-10135349"/>
                <a:lnTo>
                  <a:pt x="1471" y="5358"/>
                </a:lnTo>
                <a:arcTo wR="10800" hR="10800" stAng="-8984632" swAng="10135349"/>
                <a:lnTo>
                  <a:pt x="23551" y="15235"/>
                </a:lnTo>
                <a:lnTo>
                  <a:pt x="17224" y="18296"/>
                </a:lnTo>
                <a:lnTo>
                  <a:pt x="14163" y="1197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276720"/>
            <a:ext cx="1447920" cy="12952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2606" y="6565"/>
                </a:moveTo>
                <a:arcTo wR="-9224" hR="-9224" stAng="-9160263" swAng="-11092566"/>
                <a:lnTo>
                  <a:pt x="819" y="6675"/>
                </a:lnTo>
                <a:arcTo wR="10800" hR="10800" stAng="-9452829" swAng="11092566"/>
                <a:lnTo>
                  <a:pt x="22793" y="16998"/>
                </a:lnTo>
                <a:lnTo>
                  <a:pt x="18093" y="18495"/>
                </a:lnTo>
                <a:lnTo>
                  <a:pt x="16596" y="1379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一共有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个角，你答对了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4-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1800" y="403848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1812" y="3601"/>
                </a:moveTo>
                <a:arcTo wR="-7270" hR="-7270" stAng="-4919951" swAng="-16680049"/>
                <a:lnTo>
                  <a:pt x="0" y="10800"/>
                </a:lnTo>
                <a:arcTo wR="10800" hR="10800" stAng="10800000" swAng="16680049"/>
                <a:lnTo>
                  <a:pt x="8921" y="24169"/>
                </a:lnTo>
                <a:lnTo>
                  <a:pt x="5121" y="19126"/>
                </a:lnTo>
                <a:lnTo>
                  <a:pt x="10164" y="153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0292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一共有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7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个角，你答对了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7621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动动脑筋，仔细看看，下面的图形里有几个角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4038480"/>
            <a:ext cx="228600" cy="304920"/>
          </a:xfrm>
          <a:custGeom>
            <a:avLst/>
            <a:gdLst>
              <a:gd name="textAreaLeft" fmla="*/ 0 w 228600"/>
              <a:gd name="textAreaRight" fmla="*/ 228960 w 2286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1812" y="3601"/>
                </a:moveTo>
                <a:arcTo wR="-7270" hR="-7270" stAng="-4919951" swAng="-16680049"/>
                <a:lnTo>
                  <a:pt x="0" y="10800"/>
                </a:lnTo>
                <a:arcTo wR="10800" hR="10800" stAng="10800000" swAng="16680049"/>
                <a:lnTo>
                  <a:pt x="8921" y="24169"/>
                </a:lnTo>
                <a:lnTo>
                  <a:pt x="5121" y="19126"/>
                </a:lnTo>
                <a:lnTo>
                  <a:pt x="10164" y="153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743200"/>
            <a:ext cx="304920" cy="380880"/>
          </a:xfrm>
          <a:custGeom>
            <a:avLst/>
            <a:gdLst>
              <a:gd name="textAreaLeft" fmla="*/ 40680 w 304920"/>
              <a:gd name="textAreaRight" fmla="*/ 264240 w 30492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2743200"/>
            <a:ext cx="304560" cy="380880"/>
          </a:xfrm>
          <a:custGeom>
            <a:avLst/>
            <a:gdLst>
              <a:gd name="textAreaLeft" fmla="*/ 40680 w 304560"/>
              <a:gd name="textAreaRight" fmla="*/ 263880 w 30456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1447920" cy="38124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4038480"/>
            <a:ext cx="304560" cy="381240"/>
          </a:xfrm>
          <a:custGeom>
            <a:avLst/>
            <a:gdLst>
              <a:gd name="textAreaLeft" fmla="*/ 40680 w 304560"/>
              <a:gd name="textAreaRight" fmla="*/ 263880 w 30456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038480"/>
            <a:ext cx="304920" cy="381240"/>
          </a:xfrm>
          <a:custGeom>
            <a:avLst/>
            <a:gdLst>
              <a:gd name="textAreaLeft" fmla="*/ 40680 w 304920"/>
              <a:gd name="textAreaRight" fmla="*/ 264240 w 30492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4-3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19520" y="426708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1812" y="3601"/>
                </a:moveTo>
                <a:arcTo wR="-7270" hR="-7270" stAng="-4919951" swAng="-16680049"/>
                <a:lnTo>
                  <a:pt x="0" y="10800"/>
                </a:lnTo>
                <a:arcTo wR="10800" hR="10800" stAng="10800000" swAng="16680049"/>
                <a:lnTo>
                  <a:pt x="8921" y="24169"/>
                </a:lnTo>
                <a:lnTo>
                  <a:pt x="5121" y="19126"/>
                </a:lnTo>
                <a:lnTo>
                  <a:pt x="10164" y="153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53341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一共有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8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个角，你答对了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7621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动动脑筋，仔细看看，下面的图形里有几个角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98108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412" y="3600"/>
                </a:moveTo>
                <a:arcTo wR="-8550" hR="-8550" stAng="-3441491" swAng="-18158509"/>
                <a:lnTo>
                  <a:pt x="0" y="10800"/>
                </a:lnTo>
                <a:arcTo wR="10800" hR="10800" stAng="10800000" swAng="18158509"/>
                <a:lnTo>
                  <a:pt x="3518" y="22168"/>
                </a:lnTo>
                <a:lnTo>
                  <a:pt x="2361" y="16884"/>
                </a:lnTo>
                <a:lnTo>
                  <a:pt x="7645" y="157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057400"/>
            <a:ext cx="304560" cy="380880"/>
          </a:xfrm>
          <a:custGeom>
            <a:avLst/>
            <a:gdLst>
              <a:gd name="textAreaLeft" fmla="*/ 40680 w 304560"/>
              <a:gd name="textAreaRight" fmla="*/ 263880 w 30456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666880"/>
            <a:ext cx="381240" cy="381240"/>
          </a:xfrm>
          <a:custGeom>
            <a:avLst/>
            <a:gdLst>
              <a:gd name="textAreaLeft" fmla="*/ 51120 w 381240"/>
              <a:gd name="textAreaRight" fmla="*/ 330120 w 38124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4343400"/>
            <a:ext cx="304920" cy="380880"/>
          </a:xfrm>
          <a:custGeom>
            <a:avLst/>
            <a:gdLst>
              <a:gd name="textAreaLeft" fmla="*/ 40680 w 304920"/>
              <a:gd name="textAreaRight" fmla="*/ 264240 w 30492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200400"/>
            <a:ext cx="381240" cy="380880"/>
          </a:xfrm>
          <a:custGeom>
            <a:avLst/>
            <a:gdLst>
              <a:gd name="textAreaLeft" fmla="*/ 51120 w 381240"/>
              <a:gd name="textAreaRight" fmla="*/ 330120 w 381240"/>
              <a:gd name="textAreaTop" fmla="*/ 64080 h 380880"/>
              <a:gd name="textAreaBottom" fmla="*/ 2534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2895480"/>
            <a:ext cx="380880" cy="381240"/>
          </a:xfrm>
          <a:custGeom>
            <a:avLst/>
            <a:gdLst>
              <a:gd name="textAreaLeft" fmla="*/ 50760 w 380880"/>
              <a:gd name="textAreaRight" fmla="*/ 330120 w 380880"/>
              <a:gd name="textAreaTop" fmla="*/ 64080 h 381240"/>
              <a:gd name="textAreaBottom" fmla="*/ 2538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3" stAng="-5400000" swAng="-5400000"/>
                <a:lnTo>
                  <a:pt x="0" y="10737"/>
                </a:lnTo>
                <a:arcTo wR="21600" hR="7263" stAng="10800000" swAng="-3942495"/>
                <a:lnTo>
                  <a:pt x="18359" y="21518"/>
                </a:lnTo>
                <a:lnTo>
                  <a:pt x="21600" y="16263"/>
                </a:lnTo>
                <a:lnTo>
                  <a:pt x="18359" y="10844"/>
                </a:lnTo>
                <a:lnTo>
                  <a:pt x="18359" y="14444"/>
                </a:lnTo>
                <a:arcTo wR="21600" hR="7263" stAng="6857505" swAng="3658429"/>
                <a:lnTo>
                  <a:pt x="627" y="9000"/>
                </a:lnTo>
                <a:arcTo wR="21600" hR="7263" stAng="-10515934" swAng="5115934"/>
                <a:close/>
              </a:path>
              <a:path fill="darkenLess" w="21600" h="21600">
                <a:moveTo>
                  <a:pt x="21600" y="0"/>
                </a:moveTo>
                <a:arcTo wR="21600" hR="7263" stAng="-5400000" swAng="-5400000"/>
                <a:lnTo>
                  <a:pt x="0" y="7263"/>
                </a:lnTo>
                <a:arcTo wR="21600" hR="7263" stAng="10800000" swAng="-284066"/>
                <a:lnTo>
                  <a:pt x="627" y="9000"/>
                </a:lnTo>
                <a:arcTo wR="21600" hR="7263" stAng="-10515934" swAng="51159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89548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1812" y="3601"/>
                </a:moveTo>
                <a:arcTo wR="-7270" hR="-7270" stAng="-4919951" swAng="-16680049"/>
                <a:lnTo>
                  <a:pt x="0" y="10800"/>
                </a:lnTo>
                <a:arcTo wR="10800" hR="10800" stAng="10800000" swAng="16680049"/>
                <a:lnTo>
                  <a:pt x="8921" y="24169"/>
                </a:lnTo>
                <a:lnTo>
                  <a:pt x="5121" y="19126"/>
                </a:lnTo>
                <a:lnTo>
                  <a:pt x="10164" y="153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5-1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5-2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lockX001" descr=""/>
          <p:cNvPicPr/>
          <p:nvPr/>
        </p:nvPicPr>
        <p:blipFill>
          <a:blip r:embed="rId1"/>
          <a:stretch/>
        </p:blipFill>
        <p:spPr>
          <a:xfrm>
            <a:off x="3081240" y="1938240"/>
            <a:ext cx="2981520" cy="2981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an1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是不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3505320"/>
            <a:ext cx="1447920" cy="1295280"/>
          </a:xfrm>
          <a:prstGeom prst="donut">
            <a:avLst>
              <a:gd name="adj" fmla="val 11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01832_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2057400" cy="1904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1080" y="3809880"/>
            <a:ext cx="350532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828800"/>
            <a:ext cx="1600200" cy="2438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49528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-2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是不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276720"/>
            <a:ext cx="1447920" cy="1295280"/>
          </a:xfrm>
          <a:prstGeom prst="donut">
            <a:avLst>
              <a:gd name="adj" fmla="val 1157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7304_" descr=""/>
          <p:cNvPicPr/>
          <p:nvPr/>
        </p:nvPicPr>
        <p:blipFill>
          <a:blip r:embed="rId2"/>
          <a:stretch/>
        </p:blipFill>
        <p:spPr>
          <a:xfrm>
            <a:off x="6172200" y="373392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-3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是不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1447920" cy="1295280"/>
          </a:xfrm>
          <a:prstGeom prst="donut">
            <a:avLst>
              <a:gd name="adj" fmla="val 11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E01832_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-4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33520"/>
            <a:ext cx="5410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判断下面的图形，是不是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505320"/>
            <a:ext cx="1447920" cy="1295280"/>
          </a:xfrm>
          <a:prstGeom prst="donut">
            <a:avLst>
              <a:gd name="adj" fmla="val 11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E01832_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5:19:00Z</dcterms:created>
  <dc:creator>ww</dc:creator>
  <dc:description/>
  <dc:language>en-US</dc:language>
  <cp:lastModifiedBy>wang</cp:lastModifiedBy>
  <dcterms:modified xsi:type="dcterms:W3CDTF">2004-02-02T02:55:49Z</dcterms:modified>
  <cp:revision>27</cp:revision>
  <dc:subject/>
  <dc:title>PowerPoint 演示文稿</dc:title>
</cp:coreProperties>
</file>