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3.jpeg" ContentType="image/jpeg"/>
  <Override PartName="/ppt/media/image9.jpeg" ContentType="image/jpeg"/>
  <Override PartName="/ppt/media/image6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2.gif" ContentType="image/gif"/>
  <Override PartName="/ppt/media/image25.gif" ContentType="image/gif"/>
  <Override PartName="/ppt/media/image5.jpeg" ContentType="image/jpeg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4.gif" ContentType="image/gif"/>
  <Override PartName="/ppt/media/image1.jpeg" ContentType="image/jpeg"/>
  <Override PartName="/ppt/media/image22.jpeg" ContentType="image/jpeg"/>
  <Override PartName="/ppt/media/image15.gif" ContentType="image/gif"/>
  <Override PartName="/ppt/media/image7.jpeg" ContentType="image/jpeg"/>
  <Override PartName="/ppt/media/image4.png" ContentType="image/png"/>
  <Override PartName="/ppt/media/image2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079-33B7-4AA7-8891-2DFD7086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018-3A28-4760-9025-C0E0D40F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1A4-BE83-4055-ADB3-CF347464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5CC-3B60-471E-8F1F-EBA79287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3DE-5C37-4255-9405-27047E5E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20D-C962-48D5-9C14-4268A774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6A2-074E-48DD-9ADC-56AA6E87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529-C587-4738-A3BE-80A06778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AFD-AAD8-4C73-B8DE-9C14E9CB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660-51C8-40FB-9DB4-C1162870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B05-6464-43F5-9A64-B3D65EAC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805-AE45-4AB6-92A9-F351F06B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8887-4FBC-4A2C-B232-A87A0F4CF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5.gif"/><Relationship Id="rId3" Type="http://schemas.openxmlformats.org/officeDocument/2006/relationships/slide" Target="slide18.xml"/><Relationship Id="rId4" Type="http://schemas.openxmlformats.org/officeDocument/2006/relationships/image" Target="../media/image16.gif"/><Relationship Id="rId5" Type="http://schemas.openxmlformats.org/officeDocument/2006/relationships/slide" Target="slide19.xml"/><Relationship Id="rId6" Type="http://schemas.openxmlformats.org/officeDocument/2006/relationships/image" Target="../media/image17.gif"/><Relationship Id="rId7" Type="http://schemas.openxmlformats.org/officeDocument/2006/relationships/slide" Target="slide20.xml"/><Relationship Id="rId8" Type="http://schemas.openxmlformats.org/officeDocument/2006/relationships/image" Target="../media/image18.gif"/><Relationship Id="rId9" Type="http://schemas.openxmlformats.org/officeDocument/2006/relationships/slide" Target="slide21.xml"/><Relationship Id="rId10" Type="http://schemas.openxmlformats.org/officeDocument/2006/relationships/image" Target="../media/image19.gif"/><Relationship Id="rId11" Type="http://schemas.openxmlformats.org/officeDocument/2006/relationships/slide" Target="slide22.xml"/><Relationship Id="rId12" Type="http://schemas.openxmlformats.org/officeDocument/2006/relationships/image" Target="../media/image20.gif"/><Relationship Id="rId13" Type="http://schemas.openxmlformats.org/officeDocument/2006/relationships/image" Target="../media/image21.gi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5.gif"/><Relationship Id="rId4" Type="http://schemas.openxmlformats.org/officeDocument/2006/relationships/slide" Target="slide14.xm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5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5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5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5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5.gif"/><Relationship Id="rId3" Type="http://schemas.openxmlformats.org/officeDocument/2006/relationships/slide" Target="slide18.xml"/><Relationship Id="rId4" Type="http://schemas.openxmlformats.org/officeDocument/2006/relationships/image" Target="../media/image16.gif"/><Relationship Id="rId5" Type="http://schemas.openxmlformats.org/officeDocument/2006/relationships/slide" Target="slide19.xml"/><Relationship Id="rId6" Type="http://schemas.openxmlformats.org/officeDocument/2006/relationships/image" Target="../media/image17.gif"/><Relationship Id="rId7" Type="http://schemas.openxmlformats.org/officeDocument/2006/relationships/slide" Target="slide20.xml"/><Relationship Id="rId8" Type="http://schemas.openxmlformats.org/officeDocument/2006/relationships/image" Target="../media/image18.gif"/><Relationship Id="rId9" Type="http://schemas.openxmlformats.org/officeDocument/2006/relationships/slide" Target="slide21.xml"/><Relationship Id="rId10" Type="http://schemas.openxmlformats.org/officeDocument/2006/relationships/image" Target="../media/image19.gif"/><Relationship Id="rId11" Type="http://schemas.openxmlformats.org/officeDocument/2006/relationships/image" Target="../media/image20.gif"/><Relationship Id="rId12" Type="http://schemas.openxmlformats.org/officeDocument/2006/relationships/image" Target="../media/image21.gif"/><Relationship Id="rId13" Type="http://schemas.openxmlformats.org/officeDocument/2006/relationships/image" Target="../media/image25.gif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grpSp>
        <p:nvGrpSpPr>
          <p:cNvPr id="117" name=""/>
          <p:cNvGrpSpPr/>
          <p:nvPr/>
        </p:nvGrpSpPr>
        <p:grpSpPr>
          <a:xfrm>
            <a:off x="3132000" y="1628640"/>
            <a:ext cx="3384720" cy="2246400"/>
            <a:chOff x="3132000" y="1628640"/>
            <a:chExt cx="3384720" cy="2246400"/>
          </a:xfrm>
        </p:grpSpPr>
        <p:sp>
          <p:nvSpPr>
            <p:cNvPr id="118" name=""/>
            <p:cNvSpPr/>
            <p:nvPr/>
          </p:nvSpPr>
          <p:spPr>
            <a:xfrm>
              <a:off x="3132000" y="3860640"/>
              <a:ext cx="33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32000" y="1628640"/>
              <a:ext cx="2144880" cy="224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059280" y="3789360"/>
            <a:ext cx="142560" cy="142920"/>
          </a:xfrm>
          <a:prstGeom prst="ellipse">
            <a:avLst/>
          </a:prstGeom>
          <a:solidFill>
            <a:srgbClr val="f70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3860640"/>
            <a:ext cx="331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407664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03640" y="1557360"/>
            <a:ext cx="2144520" cy="22464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419640" y="3141720"/>
            <a:ext cx="990360" cy="764280"/>
            <a:chOff x="3419640" y="3141720"/>
            <a:chExt cx="990360" cy="764280"/>
          </a:xfrm>
        </p:grpSpPr>
        <p:sp>
          <p:nvSpPr>
            <p:cNvPr id="125" name=""/>
            <p:cNvSpPr/>
            <p:nvPr/>
          </p:nvSpPr>
          <p:spPr>
            <a:xfrm>
              <a:off x="3419640" y="364500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0" y="0"/>
                  </a:moveTo>
                  <a:cubicBezTo>
                    <a:pt x="56" y="84"/>
                    <a:pt x="51" y="46"/>
                    <a:pt x="51" y="10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2360" y="3141720"/>
              <a:ext cx="91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0"/>
            <a:ext cx="684000" cy="1903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0"/>
            <a:ext cx="647640" cy="1911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59280" y="0"/>
            <a:ext cx="684000" cy="1911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72000" y="0"/>
            <a:ext cx="649440" cy="1911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084720" y="0"/>
            <a:ext cx="648000" cy="1916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524720" y="0"/>
            <a:ext cx="647640" cy="1916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3"/>
          <a:stretch/>
        </p:blipFill>
        <p:spPr>
          <a:xfrm>
            <a:off x="7130880" y="4292640"/>
            <a:ext cx="2013120" cy="22431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539640" y="3274920"/>
            <a:ext cx="2117880" cy="1235160"/>
            <a:chOff x="539640" y="3274920"/>
            <a:chExt cx="2117880" cy="1235160"/>
          </a:xfrm>
        </p:grpSpPr>
        <p:sp>
          <p:nvSpPr>
            <p:cNvPr id="135" name=""/>
            <p:cNvSpPr/>
            <p:nvPr/>
          </p:nvSpPr>
          <p:spPr>
            <a:xfrm rot="5400000">
              <a:off x="455760" y="3358440"/>
              <a:ext cx="1235160" cy="1067760"/>
            </a:xfrm>
            <a:prstGeom prst="hexagon">
              <a:avLst>
                <a:gd name="adj" fmla="val 28919"/>
                <a:gd name="vf" fmla="val 11547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1505880" y="3358440"/>
              <a:ext cx="1235160" cy="1067760"/>
            </a:xfrm>
            <a:prstGeom prst="hexagon">
              <a:avLst>
                <a:gd name="adj" fmla="val 28919"/>
                <a:gd name="vf" fmla="val 11547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 rot="5400000">
            <a:off x="1011240" y="2432880"/>
            <a:ext cx="1235160" cy="1068120"/>
          </a:xfrm>
          <a:prstGeom prst="hexagon">
            <a:avLst>
              <a:gd name="adj" fmla="val 28910"/>
              <a:gd name="vf" fmla="val 11547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27280" y="2997360"/>
            <a:ext cx="1081080" cy="288720"/>
          </a:xfrm>
          <a:prstGeom prst="rightArrow">
            <a:avLst>
              <a:gd name="adj1" fmla="val 50000"/>
              <a:gd name="adj2" fmla="val 93610"/>
            </a:avLst>
          </a:prstGeom>
          <a:solidFill>
            <a:srgbClr val="f70f3b"/>
          </a:solidFill>
          <a:ln w="9360">
            <a:solidFill>
              <a:srgbClr val="f70f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841200" y="3440880"/>
            <a:ext cx="1234800" cy="1068480"/>
          </a:xfrm>
          <a:prstGeom prst="hexagon">
            <a:avLst>
              <a:gd name="adj" fmla="val 28892"/>
              <a:gd name="vf" fmla="val 11547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4889880" y="3440880"/>
            <a:ext cx="1234800" cy="1068120"/>
          </a:xfrm>
          <a:prstGeom prst="hexagon">
            <a:avLst>
              <a:gd name="adj" fmla="val 28901"/>
              <a:gd name="vf" fmla="val 11547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343760" y="2504520"/>
            <a:ext cx="1235160" cy="1068120"/>
          </a:xfrm>
          <a:prstGeom prst="hexagon">
            <a:avLst>
              <a:gd name="adj" fmla="val 28910"/>
              <a:gd name="vf" fmla="val 11547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7960" y="3170160"/>
            <a:ext cx="122040" cy="263520"/>
          </a:xfrm>
          <a:custGeom>
            <a:avLst/>
            <a:gdLst/>
            <a:ahLst/>
            <a:rect l="l" t="t" r="r" b="b"/>
            <a:pathLst>
              <a:path w="77" h="166">
                <a:moveTo>
                  <a:pt x="77" y="0"/>
                </a:moveTo>
                <a:cubicBezTo>
                  <a:pt x="64" y="8"/>
                  <a:pt x="46" y="12"/>
                  <a:pt x="38" y="25"/>
                </a:cubicBezTo>
                <a:cubicBezTo>
                  <a:pt x="18" y="57"/>
                  <a:pt x="0" y="123"/>
                  <a:pt x="0" y="166"/>
                </a:cubicBezTo>
              </a:path>
            </a:pathLst>
          </a:custGeom>
          <a:noFill/>
          <a:ln w="38160">
            <a:solidFill>
              <a:srgbClr val="f70f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3209760"/>
            <a:ext cx="141480" cy="223920"/>
          </a:xfrm>
          <a:custGeom>
            <a:avLst/>
            <a:gdLst/>
            <a:ahLst/>
            <a:rect l="l" t="t" r="r" b="b"/>
            <a:pathLst>
              <a:path w="89" h="141">
                <a:moveTo>
                  <a:pt x="0" y="0"/>
                </a:moveTo>
                <a:cubicBezTo>
                  <a:pt x="54" y="37"/>
                  <a:pt x="89" y="76"/>
                  <a:pt x="89" y="141"/>
                </a:cubicBezTo>
              </a:path>
            </a:pathLst>
          </a:custGeom>
          <a:noFill/>
          <a:ln w="57240">
            <a:solidFill>
              <a:srgbClr val="f70f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35520" y="4389480"/>
            <a:ext cx="345960" cy="79200"/>
          </a:xfrm>
          <a:custGeom>
            <a:avLst/>
            <a:gdLst/>
            <a:ahLst/>
            <a:rect l="l" t="t" r="r" b="b"/>
            <a:pathLst>
              <a:path w="218" h="50">
                <a:moveTo>
                  <a:pt x="0" y="0"/>
                </a:moveTo>
                <a:cubicBezTo>
                  <a:pt x="70" y="45"/>
                  <a:pt x="138" y="50"/>
                  <a:pt x="218" y="13"/>
                </a:cubicBezTo>
              </a:path>
            </a:pathLst>
          </a:custGeom>
          <a:noFill/>
          <a:ln w="38160">
            <a:solidFill>
              <a:srgbClr val="f70f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grpSp>
        <p:nvGrpSpPr>
          <p:cNvPr id="147" name=""/>
          <p:cNvGrpSpPr/>
          <p:nvPr/>
        </p:nvGrpSpPr>
        <p:grpSpPr>
          <a:xfrm>
            <a:off x="4643280" y="2565000"/>
            <a:ext cx="2808000" cy="1582560"/>
            <a:chOff x="4643280" y="2565000"/>
            <a:chExt cx="2808000" cy="1582560"/>
          </a:xfrm>
        </p:grpSpPr>
        <p:sp>
          <p:nvSpPr>
            <p:cNvPr id="148" name=""/>
            <p:cNvSpPr/>
            <p:nvPr/>
          </p:nvSpPr>
          <p:spPr>
            <a:xfrm>
              <a:off x="4643280" y="4147560"/>
              <a:ext cx="28080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643280" y="2565000"/>
              <a:ext cx="2665440" cy="15822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16000" y="1413000"/>
            <a:ext cx="1441440" cy="790560"/>
            <a:chOff x="1116000" y="1413000"/>
            <a:chExt cx="1441440" cy="790560"/>
          </a:xfrm>
        </p:grpSpPr>
        <p:sp>
          <p:nvSpPr>
            <p:cNvPr id="151" name=""/>
            <p:cNvSpPr/>
            <p:nvPr/>
          </p:nvSpPr>
          <p:spPr>
            <a:xfrm>
              <a:off x="1116000" y="2203560"/>
              <a:ext cx="1441440" cy="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116000" y="1413000"/>
              <a:ext cx="1368360" cy="79056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0.04739 L 0.38576 0.27786 E">
                                      <p:cBhvr>
                                        <p:cTn id="20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03280" y="350028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11280" y="1628280"/>
            <a:ext cx="1727280" cy="1655640"/>
            <a:chOff x="611280" y="1628280"/>
            <a:chExt cx="1727280" cy="1655640"/>
          </a:xfrm>
        </p:grpSpPr>
        <p:grpSp>
          <p:nvGrpSpPr>
            <p:cNvPr id="157" name=""/>
            <p:cNvGrpSpPr/>
            <p:nvPr/>
          </p:nvGrpSpPr>
          <p:grpSpPr>
            <a:xfrm>
              <a:off x="611280" y="1628280"/>
              <a:ext cx="1727280" cy="1655640"/>
              <a:chOff x="611280" y="1628280"/>
              <a:chExt cx="1727280" cy="16556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11280" y="1628280"/>
                <a:ext cx="1727280" cy="1655640"/>
                <a:chOff x="611280" y="1628280"/>
                <a:chExt cx="1727280" cy="16556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11280" y="3283920"/>
                  <a:ext cx="1727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2338560" y="1628280"/>
                  <a:ext cx="0" cy="1655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2138400" y="3055680"/>
                <a:ext cx="163440" cy="182880"/>
              </a:xfrm>
              <a:custGeom>
                <a:avLst/>
                <a:gdLst/>
                <a:ahLst/>
                <a:rect l="l" t="t" r="r" b="b"/>
                <a:pathLst>
                  <a:path w="103" h="115">
                    <a:moveTo>
                      <a:pt x="103" y="0"/>
                    </a:moveTo>
                    <a:cubicBezTo>
                      <a:pt x="24" y="27"/>
                      <a:pt x="0" y="13"/>
                      <a:pt x="0" y="115"/>
                    </a:cubicBezTo>
                  </a:path>
                </a:pathLst>
              </a:custGeom>
              <a:noFill/>
              <a:ln w="38160">
                <a:solidFill>
                  <a:srgbClr val="f70f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870200" y="2746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87320" y="417960"/>
            <a:ext cx="1332720" cy="1927800"/>
            <a:chOff x="3487320" y="417960"/>
            <a:chExt cx="1332720" cy="1927800"/>
          </a:xfrm>
        </p:grpSpPr>
        <p:grpSp>
          <p:nvGrpSpPr>
            <p:cNvPr id="164" name=""/>
            <p:cNvGrpSpPr/>
            <p:nvPr/>
          </p:nvGrpSpPr>
          <p:grpSpPr>
            <a:xfrm>
              <a:off x="3487320" y="417960"/>
              <a:ext cx="1332720" cy="1927800"/>
              <a:chOff x="3487320" y="417960"/>
              <a:chExt cx="1332720" cy="19278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3487320" y="417960"/>
                <a:ext cx="1332720" cy="1927800"/>
                <a:chOff x="3487320" y="417960"/>
                <a:chExt cx="1332720" cy="1927800"/>
              </a:xfrm>
            </p:grpSpPr>
            <p:sp>
              <p:nvSpPr>
                <p:cNvPr id="166" name=""/>
                <p:cNvSpPr/>
                <p:nvPr/>
              </p:nvSpPr>
              <p:spPr>
                <a:xfrm flipV="1">
                  <a:off x="4274280" y="480960"/>
                  <a:ext cx="545760" cy="18648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3487320" y="417960"/>
                  <a:ext cx="786600" cy="19278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4168440" y="1936440"/>
                <a:ext cx="182160" cy="55800"/>
              </a:xfrm>
              <a:custGeom>
                <a:avLst/>
                <a:gdLst/>
                <a:ahLst/>
                <a:rect l="l" t="t" r="r" b="b"/>
                <a:pathLst>
                  <a:path w="115" h="35">
                    <a:moveTo>
                      <a:pt x="0" y="35"/>
                    </a:moveTo>
                    <a:cubicBezTo>
                      <a:pt x="26" y="26"/>
                      <a:pt x="51" y="0"/>
                      <a:pt x="77" y="9"/>
                    </a:cubicBezTo>
                    <a:cubicBezTo>
                      <a:pt x="90" y="13"/>
                      <a:pt x="115" y="22"/>
                      <a:pt x="115" y="22"/>
                    </a:cubicBezTo>
                  </a:path>
                </a:pathLst>
              </a:custGeom>
              <a:noFill/>
              <a:ln w="38160">
                <a:solidFill>
                  <a:srgbClr val="f70f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068720" y="1484280"/>
              <a:ext cx="4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00640" y="2034720"/>
            <a:ext cx="4511880" cy="1203840"/>
            <a:chOff x="4400640" y="2034720"/>
            <a:chExt cx="4511880" cy="1203840"/>
          </a:xfrm>
        </p:grpSpPr>
        <p:grpSp>
          <p:nvGrpSpPr>
            <p:cNvPr id="171" name=""/>
            <p:cNvGrpSpPr/>
            <p:nvPr/>
          </p:nvGrpSpPr>
          <p:grpSpPr>
            <a:xfrm>
              <a:off x="4400640" y="2034720"/>
              <a:ext cx="4511880" cy="1203840"/>
              <a:chOff x="4400640" y="2034720"/>
              <a:chExt cx="4511880" cy="12038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4400640" y="2034720"/>
                <a:ext cx="4511880" cy="1203840"/>
                <a:chOff x="4400640" y="2034720"/>
                <a:chExt cx="4511880" cy="12038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217640" y="2034720"/>
                  <a:ext cx="1694880" cy="970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4400640" y="2034720"/>
                  <a:ext cx="2816640" cy="1203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6913440" y="2133720"/>
                <a:ext cx="426960" cy="123840"/>
              </a:xfrm>
              <a:custGeom>
                <a:avLst/>
                <a:gdLst/>
                <a:ahLst/>
                <a:rect l="l" t="t" r="r" b="b"/>
                <a:pathLst>
                  <a:path w="269" h="78">
                    <a:moveTo>
                      <a:pt x="0" y="38"/>
                    </a:moveTo>
                    <a:cubicBezTo>
                      <a:pt x="118" y="78"/>
                      <a:pt x="50" y="67"/>
                      <a:pt x="205" y="51"/>
                    </a:cubicBezTo>
                    <a:cubicBezTo>
                      <a:pt x="218" y="47"/>
                      <a:pt x="233" y="46"/>
                      <a:pt x="243" y="38"/>
                    </a:cubicBezTo>
                    <a:cubicBezTo>
                      <a:pt x="255" y="28"/>
                      <a:pt x="269" y="0"/>
                      <a:pt x="269" y="0"/>
                    </a:cubicBezTo>
                  </a:path>
                </a:pathLst>
              </a:custGeom>
              <a:noFill/>
              <a:ln w="38160">
                <a:solidFill>
                  <a:srgbClr val="f70f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019640" y="2232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987640" y="3573360"/>
            <a:ext cx="1584360" cy="592200"/>
            <a:chOff x="2987640" y="3573360"/>
            <a:chExt cx="1584360" cy="592200"/>
          </a:xfrm>
        </p:grpSpPr>
        <p:grpSp>
          <p:nvGrpSpPr>
            <p:cNvPr id="178" name=""/>
            <p:cNvGrpSpPr/>
            <p:nvPr/>
          </p:nvGrpSpPr>
          <p:grpSpPr>
            <a:xfrm>
              <a:off x="2987640" y="3645000"/>
              <a:ext cx="1008000" cy="520560"/>
              <a:chOff x="2987640" y="3645000"/>
              <a:chExt cx="1008000" cy="5205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987640" y="3787920"/>
                <a:ext cx="431640" cy="222480"/>
                <a:chOff x="2987640" y="3787920"/>
                <a:chExt cx="431640" cy="2224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987640" y="4010040"/>
                  <a:ext cx="423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2987640" y="3787920"/>
                  <a:ext cx="43164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3274920" y="3645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924360" y="3573360"/>
              <a:ext cx="647640" cy="505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987640" y="4437000"/>
            <a:ext cx="1584360" cy="520560"/>
            <a:chOff x="2987640" y="4437000"/>
            <a:chExt cx="1584360" cy="520560"/>
          </a:xfrm>
        </p:grpSpPr>
        <p:grpSp>
          <p:nvGrpSpPr>
            <p:cNvPr id="185" name=""/>
            <p:cNvGrpSpPr/>
            <p:nvPr/>
          </p:nvGrpSpPr>
          <p:grpSpPr>
            <a:xfrm>
              <a:off x="2987640" y="4437000"/>
              <a:ext cx="1008000" cy="520560"/>
              <a:chOff x="2987640" y="4437000"/>
              <a:chExt cx="1008000" cy="5205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2987640" y="4579920"/>
                <a:ext cx="431640" cy="222480"/>
                <a:chOff x="2987640" y="4579920"/>
                <a:chExt cx="431640" cy="2224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987640" y="4802040"/>
                  <a:ext cx="423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2987640" y="4579920"/>
                  <a:ext cx="43164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274920" y="443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924360" y="4437000"/>
              <a:ext cx="647640" cy="50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16360" y="5300640"/>
            <a:ext cx="1584360" cy="576360"/>
            <a:chOff x="2916360" y="5300640"/>
            <a:chExt cx="1584360" cy="576360"/>
          </a:xfrm>
        </p:grpSpPr>
        <p:grpSp>
          <p:nvGrpSpPr>
            <p:cNvPr id="192" name=""/>
            <p:cNvGrpSpPr/>
            <p:nvPr/>
          </p:nvGrpSpPr>
          <p:grpSpPr>
            <a:xfrm>
              <a:off x="2916360" y="5300640"/>
              <a:ext cx="1008000" cy="520560"/>
              <a:chOff x="2916360" y="5300640"/>
              <a:chExt cx="1008000" cy="52056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2916360" y="5443560"/>
                <a:ext cx="431640" cy="222480"/>
                <a:chOff x="2916360" y="5443560"/>
                <a:chExt cx="431640" cy="2224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916360" y="5665680"/>
                  <a:ext cx="423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2916360" y="5443560"/>
                  <a:ext cx="43164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3203640" y="5300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853080" y="5371920"/>
              <a:ext cx="647640" cy="505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995640" y="4581360"/>
            <a:ext cx="360360" cy="1224000"/>
            <a:chOff x="3995640" y="4581360"/>
            <a:chExt cx="360360" cy="1224000"/>
          </a:xfrm>
        </p:grpSpPr>
        <p:sp>
          <p:nvSpPr>
            <p:cNvPr id="199" name=""/>
            <p:cNvSpPr/>
            <p:nvPr/>
          </p:nvSpPr>
          <p:spPr>
            <a:xfrm>
              <a:off x="3995640" y="5516640"/>
              <a:ext cx="216000" cy="288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140000" y="4581360"/>
              <a:ext cx="216000" cy="216000"/>
              <a:chOff x="4140000" y="4581360"/>
              <a:chExt cx="216000" cy="216000"/>
            </a:xfrm>
          </p:grpSpPr>
          <p:sp>
            <p:nvSpPr>
              <p:cNvPr id="201" name=""/>
              <p:cNvSpPr/>
              <p:nvPr/>
            </p:nvSpPr>
            <p:spPr>
              <a:xfrm>
                <a:off x="4140360" y="4581360"/>
                <a:ext cx="215640" cy="2160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140000" y="4581360"/>
                <a:ext cx="215640" cy="2160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1547640" y="2492280"/>
            <a:ext cx="1441800" cy="1246320"/>
            <a:chOff x="1547640" y="2492280"/>
            <a:chExt cx="1441800" cy="1246320"/>
          </a:xfrm>
        </p:grpSpPr>
        <p:sp>
          <p:nvSpPr>
            <p:cNvPr id="205" name=""/>
            <p:cNvSpPr/>
            <p:nvPr/>
          </p:nvSpPr>
          <p:spPr>
            <a:xfrm>
              <a:off x="1547640" y="2492280"/>
              <a:ext cx="1441800" cy="124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41840" y="3082680"/>
              <a:ext cx="654480" cy="0"/>
            </a:xfrm>
            <a:prstGeom prst="line">
              <a:avLst/>
            </a:prstGeom>
            <a:ln w="38160">
              <a:solidFill>
                <a:srgbClr val="f70f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619280" y="4365720"/>
            <a:ext cx="1441440" cy="1245960"/>
            <a:chOff x="1619280" y="4365720"/>
            <a:chExt cx="1441440" cy="1245960"/>
          </a:xfrm>
        </p:grpSpPr>
        <p:sp>
          <p:nvSpPr>
            <p:cNvPr id="208" name=""/>
            <p:cNvSpPr/>
            <p:nvPr/>
          </p:nvSpPr>
          <p:spPr>
            <a:xfrm>
              <a:off x="1619280" y="4365720"/>
              <a:ext cx="1441440" cy="1245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268360" y="4365720"/>
              <a:ext cx="71640" cy="1224000"/>
            </a:xfrm>
            <a:prstGeom prst="line">
              <a:avLst/>
            </a:prstGeom>
            <a:ln w="38160">
              <a:solidFill>
                <a:srgbClr val="f70f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059280" y="2997000"/>
            <a:ext cx="3312720" cy="718920"/>
            <a:chOff x="3059280" y="2997000"/>
            <a:chExt cx="3312720" cy="718920"/>
          </a:xfrm>
        </p:grpSpPr>
        <p:sp>
          <p:nvSpPr>
            <p:cNvPr id="211" name=""/>
            <p:cNvSpPr/>
            <p:nvPr/>
          </p:nvSpPr>
          <p:spPr>
            <a:xfrm>
              <a:off x="3059280" y="3141720"/>
              <a:ext cx="1225440" cy="216000"/>
            </a:xfrm>
            <a:prstGeom prst="rightArrow">
              <a:avLst>
                <a:gd name="adj1" fmla="val 50000"/>
                <a:gd name="adj2" fmla="val 14183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0800000">
              <a:off x="4787640" y="2997000"/>
              <a:ext cx="1584360" cy="718920"/>
            </a:xfrm>
            <a:custGeom>
              <a:avLst/>
              <a:gdLst>
                <a:gd name="textAreaLeft" fmla="*/ 348480 w 1584360"/>
                <a:gd name="textAreaRight" fmla="*/ 1235880 w 1584360"/>
                <a:gd name="textAreaTop" fmla="*/ 158040 h 718920"/>
                <a:gd name="textAreaBottom" fmla="*/ 5608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 flipH="1" rot="21587400">
            <a:off x="1187280" y="2205000"/>
            <a:ext cx="3240360" cy="1468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300720" y="400536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1780920" cy="1658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1052640"/>
            <a:ext cx="684360" cy="1903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1780920" cy="1658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3851280" y="1197000"/>
            <a:ext cx="64764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1780920" cy="1658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851280" y="1197000"/>
            <a:ext cx="68436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24000" y="1509840"/>
            <a:ext cx="5256360" cy="3468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1780920" cy="1658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851280" y="1125360"/>
            <a:ext cx="649440" cy="1911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1780920" cy="1658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851280" y="1052640"/>
            <a:ext cx="647640" cy="191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1780920" cy="1658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64764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0"/>
            <a:ext cx="684000" cy="1903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0"/>
            <a:ext cx="647640" cy="1911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59280" y="0"/>
            <a:ext cx="684000" cy="19112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72000" y="0"/>
            <a:ext cx="649440" cy="1911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084720" y="0"/>
            <a:ext cx="648000" cy="1916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1"/>
          <a:stretch/>
        </p:blipFill>
        <p:spPr>
          <a:xfrm>
            <a:off x="7524720" y="0"/>
            <a:ext cx="647640" cy="1916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"/>
          <a:stretch/>
        </p:blipFill>
        <p:spPr>
          <a:xfrm>
            <a:off x="7130880" y="4292640"/>
            <a:ext cx="2013120" cy="2243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3"/>
          <a:stretch/>
        </p:blipFill>
        <p:spPr>
          <a:xfrm>
            <a:off x="34920" y="1773360"/>
            <a:ext cx="5329080" cy="4962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2723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050920" y="2492280"/>
            <a:ext cx="792360" cy="720720"/>
            <a:chOff x="2050920" y="2492280"/>
            <a:chExt cx="792360" cy="720720"/>
          </a:xfrm>
        </p:grpSpPr>
        <p:sp>
          <p:nvSpPr>
            <p:cNvPr id="245" name=""/>
            <p:cNvSpPr/>
            <p:nvPr/>
          </p:nvSpPr>
          <p:spPr>
            <a:xfrm flipV="1">
              <a:off x="2050920" y="2492280"/>
              <a:ext cx="505080" cy="144720"/>
            </a:xfrm>
            <a:prstGeom prst="line">
              <a:avLst/>
            </a:prstGeom>
            <a:ln w="5724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0920" y="2637000"/>
              <a:ext cx="792360" cy="576000"/>
            </a:xfrm>
            <a:prstGeom prst="line">
              <a:avLst/>
            </a:prstGeom>
            <a:ln w="5724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384720" cy="28576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1979640" y="2565360"/>
            <a:ext cx="792000" cy="720720"/>
            <a:chOff x="1979640" y="2565360"/>
            <a:chExt cx="792000" cy="720720"/>
          </a:xfrm>
        </p:grpSpPr>
        <p:sp>
          <p:nvSpPr>
            <p:cNvPr id="249" name=""/>
            <p:cNvSpPr/>
            <p:nvPr/>
          </p:nvSpPr>
          <p:spPr>
            <a:xfrm flipV="1">
              <a:off x="1979640" y="2565360"/>
              <a:ext cx="504720" cy="14472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79640" y="2710080"/>
              <a:ext cx="792000" cy="57600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3097440" cy="277488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7453440" y="2852640"/>
            <a:ext cx="287280" cy="432000"/>
            <a:chOff x="7453440" y="2852640"/>
            <a:chExt cx="287280" cy="432000"/>
          </a:xfrm>
        </p:grpSpPr>
        <p:sp>
          <p:nvSpPr>
            <p:cNvPr id="254" name=""/>
            <p:cNvSpPr/>
            <p:nvPr/>
          </p:nvSpPr>
          <p:spPr>
            <a:xfrm>
              <a:off x="7740720" y="2852640"/>
              <a:ext cx="0" cy="43200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53440" y="3284640"/>
              <a:ext cx="287280" cy="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203640" y="2637000"/>
            <a:ext cx="2160360" cy="223200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3995640" y="2204640"/>
            <a:ext cx="286920" cy="576720"/>
            <a:chOff x="3995640" y="2204640"/>
            <a:chExt cx="286920" cy="576720"/>
          </a:xfrm>
        </p:grpSpPr>
        <p:sp>
          <p:nvSpPr>
            <p:cNvPr id="259" name=""/>
            <p:cNvSpPr/>
            <p:nvPr/>
          </p:nvSpPr>
          <p:spPr>
            <a:xfrm>
              <a:off x="3995640" y="2276640"/>
              <a:ext cx="215640" cy="50472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211280" y="2204640"/>
              <a:ext cx="71280" cy="57636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3441600" cy="260352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2843280" y="2349360"/>
            <a:ext cx="2736720" cy="936720"/>
            <a:chOff x="2843280" y="2349360"/>
            <a:chExt cx="2736720" cy="936720"/>
          </a:xfrm>
        </p:grpSpPr>
        <p:sp>
          <p:nvSpPr>
            <p:cNvPr id="264" name=""/>
            <p:cNvSpPr/>
            <p:nvPr/>
          </p:nvSpPr>
          <p:spPr>
            <a:xfrm flipV="1">
              <a:off x="2843280" y="2349360"/>
              <a:ext cx="1152360" cy="93672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95640" y="2349360"/>
              <a:ext cx="1584360" cy="865080"/>
            </a:xfrm>
            <a:prstGeom prst="line">
              <a:avLst/>
            </a:prstGeom>
            <a:ln w="7632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4753080" cy="3141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68360" y="333360"/>
            <a:ext cx="9894960" cy="7167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0800000">
            <a:off x="2124000" y="2491920"/>
            <a:ext cx="5905440" cy="1728720"/>
          </a:xfrm>
          <a:prstGeom prst="triangle">
            <a:avLst>
              <a:gd name="adj" fmla="val 50000"/>
            </a:avLst>
          </a:prstGeom>
          <a:solidFill>
            <a:srgbClr val="f70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124000" y="2492280"/>
            <a:ext cx="1008000" cy="452160"/>
            <a:chOff x="2124000" y="2492280"/>
            <a:chExt cx="1008000" cy="452160"/>
          </a:xfrm>
        </p:grpSpPr>
        <p:sp>
          <p:nvSpPr>
            <p:cNvPr id="51" name=""/>
            <p:cNvSpPr/>
            <p:nvPr/>
          </p:nvSpPr>
          <p:spPr>
            <a:xfrm>
              <a:off x="2124000" y="2492280"/>
              <a:ext cx="10080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24000" y="2492280"/>
              <a:ext cx="738000" cy="4521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015680" y="2478600"/>
            <a:ext cx="1007640" cy="448920"/>
            <a:chOff x="7015680" y="2478600"/>
            <a:chExt cx="1007640" cy="448920"/>
          </a:xfrm>
        </p:grpSpPr>
        <p:sp>
          <p:nvSpPr>
            <p:cNvPr id="54" name=""/>
            <p:cNvSpPr/>
            <p:nvPr/>
          </p:nvSpPr>
          <p:spPr>
            <a:xfrm flipH="1">
              <a:off x="7015680" y="2478600"/>
              <a:ext cx="1007640" cy="212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294680" y="2478600"/>
              <a:ext cx="728640" cy="448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211640" y="3645000"/>
            <a:ext cx="1872720" cy="576000"/>
            <a:chOff x="4211640" y="3645000"/>
            <a:chExt cx="1872720" cy="576000"/>
          </a:xfrm>
        </p:grpSpPr>
        <p:sp>
          <p:nvSpPr>
            <p:cNvPr id="57" name=""/>
            <p:cNvSpPr/>
            <p:nvPr/>
          </p:nvSpPr>
          <p:spPr>
            <a:xfrm>
              <a:off x="4211640" y="3716280"/>
              <a:ext cx="937080" cy="504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148720" y="3645000"/>
              <a:ext cx="935640" cy="576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08000" y="4221000"/>
            <a:ext cx="2160720" cy="223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35640" y="3860640"/>
            <a:ext cx="3441600" cy="26035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2050920" y="2492280"/>
            <a:ext cx="792360" cy="720720"/>
            <a:chOff x="2050920" y="2492280"/>
            <a:chExt cx="792360" cy="720720"/>
          </a:xfrm>
        </p:grpSpPr>
        <p:sp>
          <p:nvSpPr>
            <p:cNvPr id="63" name=""/>
            <p:cNvSpPr/>
            <p:nvPr/>
          </p:nvSpPr>
          <p:spPr>
            <a:xfrm flipV="1">
              <a:off x="2050920" y="2492280"/>
              <a:ext cx="505080" cy="144720"/>
            </a:xfrm>
            <a:prstGeom prst="line">
              <a:avLst/>
            </a:prstGeom>
            <a:ln w="5724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50920" y="2637000"/>
              <a:ext cx="792360" cy="576000"/>
            </a:xfrm>
            <a:prstGeom prst="line">
              <a:avLst/>
            </a:prstGeom>
            <a:ln w="57240">
              <a:solidFill>
                <a:srgbClr val="f70f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9640" y="1125360"/>
            <a:ext cx="338472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724360" y="1125360"/>
            <a:ext cx="23385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grpSp>
        <p:nvGrpSpPr>
          <p:cNvPr id="69" name=""/>
          <p:cNvGrpSpPr/>
          <p:nvPr/>
        </p:nvGrpSpPr>
        <p:grpSpPr>
          <a:xfrm>
            <a:off x="3132000" y="1628640"/>
            <a:ext cx="3384720" cy="2246400"/>
            <a:chOff x="3132000" y="1628640"/>
            <a:chExt cx="3384720" cy="2246400"/>
          </a:xfrm>
        </p:grpSpPr>
        <p:sp>
          <p:nvSpPr>
            <p:cNvPr id="70" name=""/>
            <p:cNvSpPr/>
            <p:nvPr/>
          </p:nvSpPr>
          <p:spPr>
            <a:xfrm>
              <a:off x="3132000" y="3860640"/>
              <a:ext cx="33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132000" y="1628640"/>
              <a:ext cx="2144880" cy="224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059280" y="3789360"/>
            <a:ext cx="142560" cy="142920"/>
          </a:xfrm>
          <a:prstGeom prst="ellipse">
            <a:avLst/>
          </a:prstGeom>
          <a:solidFill>
            <a:srgbClr val="f70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4005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顶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3860640"/>
            <a:ext cx="331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40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1989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03640" y="1557360"/>
            <a:ext cx="2144520" cy="22464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6084720" y="1052280"/>
            <a:ext cx="2232000" cy="1081440"/>
            <a:chOff x="6084720" y="1052280"/>
            <a:chExt cx="2232000" cy="1081440"/>
          </a:xfrm>
        </p:grpSpPr>
        <p:sp>
          <p:nvSpPr>
            <p:cNvPr id="80" name=""/>
            <p:cNvSpPr/>
            <p:nvPr/>
          </p:nvSpPr>
          <p:spPr>
            <a:xfrm>
              <a:off x="6084720" y="2133720"/>
              <a:ext cx="2232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084720" y="1052280"/>
              <a:ext cx="1871640" cy="108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013480" y="1159560"/>
            <a:ext cx="1339560" cy="2374200"/>
            <a:chOff x="2013480" y="1159560"/>
            <a:chExt cx="1339560" cy="2374200"/>
          </a:xfrm>
        </p:grpSpPr>
        <p:sp>
          <p:nvSpPr>
            <p:cNvPr id="83" name=""/>
            <p:cNvSpPr/>
            <p:nvPr/>
          </p:nvSpPr>
          <p:spPr>
            <a:xfrm flipV="1">
              <a:off x="2013480" y="2443320"/>
              <a:ext cx="1339560" cy="1090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307600" y="1159560"/>
              <a:ext cx="1045440" cy="1283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347640" y="4437000"/>
            <a:ext cx="3456360" cy="1150920"/>
            <a:chOff x="3347640" y="4437000"/>
            <a:chExt cx="3456360" cy="1150920"/>
          </a:xfrm>
        </p:grpSpPr>
        <p:sp>
          <p:nvSpPr>
            <p:cNvPr id="86" name=""/>
            <p:cNvSpPr/>
            <p:nvPr/>
          </p:nvSpPr>
          <p:spPr>
            <a:xfrm>
              <a:off x="5653080" y="4437000"/>
              <a:ext cx="1150920" cy="115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347640" y="4437000"/>
              <a:ext cx="2305080" cy="61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76720" y="2349360"/>
            <a:ext cx="141120" cy="216000"/>
          </a:xfrm>
          <a:prstGeom prst="ellipse">
            <a:avLst/>
          </a:prstGeom>
          <a:solidFill>
            <a:srgbClr val="f70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1989000"/>
            <a:ext cx="142920" cy="216000"/>
          </a:xfrm>
          <a:prstGeom prst="ellipse">
            <a:avLst/>
          </a:prstGeom>
          <a:solidFill>
            <a:srgbClr val="f70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4292640"/>
            <a:ext cx="141480" cy="216000"/>
          </a:xfrm>
          <a:prstGeom prst="ellipse">
            <a:avLst/>
          </a:prstGeom>
          <a:solidFill>
            <a:srgbClr val="f70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2050920" y="549360"/>
            <a:ext cx="2448000" cy="2917800"/>
            <a:chOff x="2050920" y="549360"/>
            <a:chExt cx="2448000" cy="2917800"/>
          </a:xfrm>
        </p:grpSpPr>
        <p:grpSp>
          <p:nvGrpSpPr>
            <p:cNvPr id="93" name=""/>
            <p:cNvGrpSpPr/>
            <p:nvPr/>
          </p:nvGrpSpPr>
          <p:grpSpPr>
            <a:xfrm>
              <a:off x="2050920" y="549360"/>
              <a:ext cx="2448000" cy="1442880"/>
              <a:chOff x="2050920" y="549360"/>
              <a:chExt cx="2448000" cy="1442880"/>
            </a:xfrm>
          </p:grpSpPr>
          <p:sp>
            <p:nvSpPr>
              <p:cNvPr id="94" name=""/>
              <p:cNvSpPr/>
              <p:nvPr/>
            </p:nvSpPr>
            <p:spPr>
              <a:xfrm>
                <a:off x="2050920" y="1989000"/>
                <a:ext cx="2448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50920" y="549360"/>
                <a:ext cx="2133720" cy="1442880"/>
              </a:xfrm>
              <a:custGeom>
                <a:avLst/>
                <a:gdLst/>
                <a:ahLst/>
                <a:rect l="l" t="t" r="r" b="b"/>
                <a:pathLst>
                  <a:path w="1344" h="909">
                    <a:moveTo>
                      <a:pt x="0" y="909"/>
                    </a:moveTo>
                    <a:cubicBezTo>
                      <a:pt x="12" y="814"/>
                      <a:pt x="28" y="712"/>
                      <a:pt x="77" y="627"/>
                    </a:cubicBezTo>
                    <a:cubicBezTo>
                      <a:pt x="126" y="541"/>
                      <a:pt x="209" y="485"/>
                      <a:pt x="282" y="422"/>
                    </a:cubicBezTo>
                    <a:cubicBezTo>
                      <a:pt x="374" y="342"/>
                      <a:pt x="468" y="284"/>
                      <a:pt x="576" y="230"/>
                    </a:cubicBezTo>
                    <a:cubicBezTo>
                      <a:pt x="637" y="200"/>
                      <a:pt x="694" y="156"/>
                      <a:pt x="756" y="128"/>
                    </a:cubicBezTo>
                    <a:cubicBezTo>
                      <a:pt x="818" y="100"/>
                      <a:pt x="895" y="99"/>
                      <a:pt x="960" y="77"/>
                    </a:cubicBezTo>
                    <a:cubicBezTo>
                      <a:pt x="1087" y="35"/>
                      <a:pt x="1208" y="0"/>
                      <a:pt x="1344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627280" y="2278440"/>
              <a:ext cx="72072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99280" y="1557360"/>
            <a:ext cx="1279080" cy="3003480"/>
            <a:chOff x="7199280" y="1557360"/>
            <a:chExt cx="1279080" cy="3003480"/>
          </a:xfrm>
        </p:grpSpPr>
        <p:grpSp>
          <p:nvGrpSpPr>
            <p:cNvPr id="98" name=""/>
            <p:cNvGrpSpPr/>
            <p:nvPr/>
          </p:nvGrpSpPr>
          <p:grpSpPr>
            <a:xfrm>
              <a:off x="7199280" y="1557360"/>
              <a:ext cx="1279080" cy="2454120"/>
              <a:chOff x="7199280" y="1557360"/>
              <a:chExt cx="1279080" cy="245412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7199280" y="1557360"/>
                <a:ext cx="702360" cy="2195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19360" y="1897920"/>
                <a:ext cx="459000" cy="2113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rot="21416400">
              <a:off x="7451640" y="3348000"/>
              <a:ext cx="93672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42680" y="3328560"/>
            <a:ext cx="1873080" cy="2487960"/>
            <a:chOff x="742680" y="3328560"/>
            <a:chExt cx="1873080" cy="2487960"/>
          </a:xfrm>
        </p:grpSpPr>
        <p:grpSp>
          <p:nvGrpSpPr>
            <p:cNvPr id="103" name=""/>
            <p:cNvGrpSpPr/>
            <p:nvPr/>
          </p:nvGrpSpPr>
          <p:grpSpPr>
            <a:xfrm>
              <a:off x="947520" y="3328560"/>
              <a:ext cx="1668240" cy="2487960"/>
              <a:chOff x="947520" y="3328560"/>
              <a:chExt cx="1668240" cy="2487960"/>
            </a:xfrm>
          </p:grpSpPr>
          <p:sp>
            <p:nvSpPr>
              <p:cNvPr id="104" name=""/>
              <p:cNvSpPr/>
              <p:nvPr/>
            </p:nvSpPr>
            <p:spPr>
              <a:xfrm>
                <a:off x="2398320" y="3328560"/>
                <a:ext cx="217440" cy="2115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947520" y="5443560"/>
                <a:ext cx="1668240" cy="3729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rot="18100200">
              <a:off x="944280" y="4221000"/>
              <a:ext cx="128016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1749600" cy="1871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435640" y="476280"/>
            <a:ext cx="2089080" cy="179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403280" y="5097600"/>
            <a:ext cx="2113200" cy="176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804000" y="3860640"/>
            <a:ext cx="2671920" cy="277344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5076360" y="4724280"/>
            <a:ext cx="1583280" cy="1584360"/>
            <a:chOff x="5076360" y="4724280"/>
            <a:chExt cx="1583280" cy="1584360"/>
          </a:xfrm>
        </p:grpSpPr>
        <p:sp>
          <p:nvSpPr>
            <p:cNvPr id="112" name=""/>
            <p:cNvSpPr/>
            <p:nvPr/>
          </p:nvSpPr>
          <p:spPr>
            <a:xfrm>
              <a:off x="5508720" y="5084640"/>
              <a:ext cx="720720" cy="1224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64000" y="5013360"/>
              <a:ext cx="1079640" cy="9349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5076360" y="4724280"/>
              <a:ext cx="50508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156360" y="4724280"/>
              <a:ext cx="50328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02:43:56Z</dcterms:created>
  <dc:creator>ww</dc:creator>
  <dc:description/>
  <dc:language>en-US</dc:language>
  <cp:lastModifiedBy>a</cp:lastModifiedBy>
  <dcterms:modified xsi:type="dcterms:W3CDTF">2003-04-03T08:27:51Z</dcterms:modified>
  <cp:revision>33</cp:revision>
  <dc:subject/>
  <dc:title>幻灯片 1</dc:title>
</cp:coreProperties>
</file>