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laser.wav" ContentType="audio/x-wav"/>
  <Override PartName="/ppt/media/chimes.wav" ContentType="audio/x-wav"/>
  <Override PartName="/ppt/media/image2.png" ContentType="image/png"/>
  <Override PartName="/ppt/media/drumroll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2C49-048B-4265-B202-8C9B7456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D06-8F8B-4175-9A22-C48038D0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8B2-9977-4662-9B91-574B3032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DA6-46AD-4158-AEBC-816C4F0A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232B-C5E5-4459-89E7-4CD6EFE4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77A6-6B31-4EC6-B8E4-48F5CAE5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B5C9-589A-4872-B90C-D6D33C37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FC50-AA6C-4519-AE90-1A8A63EE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7D64-E31E-4901-A352-6037BFA6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864E-44FD-4F11-B35D-2022201B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C9AA-3C92-4F16-9038-74EBFDC4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45F-DE9C-4DEE-88EF-A65FC9FB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291D-6390-434B-B574-5A99C7E5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7F69-13EE-4C15-899F-49EB35F5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C392-57F2-4E70-94A3-CF33D44F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F6F4-EB15-4632-A91C-6BC214CF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4C57-CFEE-4998-9357-DCDF41A3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09C-6727-4C5A-B40A-D6A8DAAA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381-7E42-4999-98C0-AB7B9E90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727-0020-4902-A520-8373C0C1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B87-51C2-4BBE-B912-221D2AAE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3F48-0093-4237-8A6E-E128785A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3C4-3C3C-4ABE-8DEA-71A5F193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30C-4CAD-4E94-9B3D-AD1A5CDA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CF5B-E4E3-4C64-8CA2-98AA10FC1F9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B648-07AC-4EEF-A849-42CC1098097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24050;&#24405;&#19979;&#30340;&#22768;&#38899;" TargetMode="External"/><Relationship Id="rId2" Type="http://schemas.microsoft.com/office/2007/relationships/media" Target="file:///tmp/home/.config/libreoffice/4/user/gallery/&#24050;&#24405;&#19979;&#30340;&#22768;&#38899;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24050;&#24405;&#19979;&#30340;&#22768;&#38899;" TargetMode="External"/><Relationship Id="rId2" Type="http://schemas.microsoft.com/office/2007/relationships/media" Target="file:///tmp/home/.config/libreoffice/4/user/gallery/&#24050;&#24405;&#19979;&#30340;&#22768;&#38899;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24050;&#24405;&#19979;&#30340;&#22768;&#38899;" TargetMode="External"/><Relationship Id="rId2" Type="http://schemas.microsoft.com/office/2007/relationships/media" Target="file:///tmp/home/.config/libreoffice/4/user/gallery/&#24050;&#24405;&#19979;&#30340;&#22768;&#38899;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24050;&#24405;&#19979;&#30340;&#22768;&#38899;" TargetMode="External"/><Relationship Id="rId2" Type="http://schemas.microsoft.com/office/2007/relationships/media" Target="file:///tmp/home/.config/libreoffice/4/user/gallery/&#24050;&#24405;&#19979;&#30340;&#22768;&#38899;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24050;&#24405;&#19979;&#30340;&#22768;&#38899;" TargetMode="External"/><Relationship Id="rId2" Type="http://schemas.microsoft.com/office/2007/relationships/media" Target="file:///tmp/home/.config/libreoffice/4/user/gallery/&#24050;&#24405;&#19979;&#30340;&#22768;&#38899;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24050;&#24405;&#19979;&#30340;&#22768;&#38899;" TargetMode="External"/><Relationship Id="rId2" Type="http://schemas.microsoft.com/office/2007/relationships/media" Target="file:///tmp/home/.config/libreoffice/4/user/gallery/&#24050;&#24405;&#19979;&#30340;&#22768;&#38899;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30492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215800" y="35892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215800" y="38941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9320" y="1905120"/>
            <a:ext cx="7391160" cy="230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角的认识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 flipH="1">
            <a:off x="2133360" y="2514600"/>
            <a:ext cx="236196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657600" y="2514600"/>
            <a:ext cx="838080" cy="3505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3809880"/>
            <a:ext cx="838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182880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548640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600200" y="51055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4648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96080" y="434340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8" idx="0"/>
          </p:cNvCxnSpPr>
          <p:nvPr/>
        </p:nvCxnSpPr>
        <p:spPr>
          <a:xfrm flipV="1" rot="16200000">
            <a:off x="3694320" y="1257480"/>
            <a:ext cx="1905840" cy="579060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1219320" y="25909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657600" y="1143000"/>
            <a:ext cx="1143000" cy="4648320"/>
          </a:xfrm>
          <a:prstGeom prst="flowChartDelay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38480" y="5638680"/>
            <a:ext cx="838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5335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5638680"/>
            <a:ext cx="838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609480"/>
            <a:ext cx="838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438280" y="472428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438280" y="3048120"/>
            <a:ext cx="403884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1828440"/>
            <a:ext cx="2514600" cy="289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44197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1295280"/>
            <a:ext cx="838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24480" y="25909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4495680"/>
            <a:ext cx="838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438280" y="472428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438280" y="1447560"/>
            <a:ext cx="1600200" cy="32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219320" y="1600200"/>
            <a:ext cx="1218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44197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066680"/>
            <a:ext cx="838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91440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23623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438280" y="2819160"/>
            <a:ext cx="3276720" cy="190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2200" y="4267080"/>
            <a:ext cx="838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-304920" y="4343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4495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3962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411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活动要求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在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号信封里找出有角的图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看一看，摸一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小组成员互相说一说角的特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45720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华文彩云"/>
              </a:rPr>
              <a:t>找一找，议一议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4267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3962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100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4340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5760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4343400"/>
            <a:ext cx="3886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371600" y="1143000"/>
            <a:ext cx="3429000" cy="320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295280" y="4343400"/>
            <a:ext cx="117360" cy="57240"/>
            <a:chOff x="1295280" y="4343400"/>
            <a:chExt cx="117360" cy="57240"/>
          </a:xfrm>
        </p:grpSpPr>
        <p:sp>
          <p:nvSpPr>
            <p:cNvPr id="96" name=""/>
            <p:cNvSpPr/>
            <p:nvPr/>
          </p:nvSpPr>
          <p:spPr>
            <a:xfrm flipV="1">
              <a:off x="1336680" y="4367520"/>
              <a:ext cx="75960" cy="432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95280" y="434340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cubicBezTo>
                    <a:pt x="13" y="8"/>
                    <a:pt x="0" y="15"/>
                    <a:pt x="2" y="24"/>
                  </a:cubicBezTo>
                  <a:cubicBezTo>
                    <a:pt x="4" y="32"/>
                    <a:pt x="18" y="36"/>
                    <a:pt x="26" y="32"/>
                  </a:cubicBezTo>
                  <a:cubicBezTo>
                    <a:pt x="34" y="28"/>
                    <a:pt x="36" y="16"/>
                    <a:pt x="34" y="8"/>
                  </a:cubicBezTo>
                  <a:cubicBezTo>
                    <a:pt x="33" y="2"/>
                    <a:pt x="23" y="3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520" bIns="11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962520" y="4343400"/>
            <a:ext cx="5715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657600" y="-533520"/>
            <a:ext cx="2971800" cy="274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8006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从一点沿一个方向无限延长的线叫＿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4267080"/>
            <a:ext cx="1752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彩云"/>
              </a:rPr>
              <a:t>射线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0040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1952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382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7652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9072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38680" y="2971800"/>
            <a:ext cx="2057400" cy="152388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1905120"/>
            <a:ext cx="3504960" cy="2590560"/>
          </a:xfrm>
          <a:custGeom>
            <a:avLst/>
            <a:gdLst/>
            <a:ahLst/>
            <a:rect l="l" t="t" r="r" b="b"/>
            <a:pathLst>
              <a:path w="2208" h="1632">
                <a:moveTo>
                  <a:pt x="1632" y="0"/>
                </a:moveTo>
                <a:lnTo>
                  <a:pt x="0" y="1632"/>
                </a:lnTo>
                <a:lnTo>
                  <a:pt x="2208" y="16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716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华文彩云"/>
              </a:rPr>
              <a:t>红角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彩云"/>
              </a:rPr>
              <a:t>蓝角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大</a:t>
            </a:r>
            <a:r>
              <a:rPr b="1" lang="zh-CN" sz="3600" spc="-1" strike="noStrike">
                <a:solidFill>
                  <a:srgbClr val="ffffff"/>
                </a:solidFill>
                <a:latin typeface="cajcd fnta0"/>
                <a:ea typeface="cajcd fnta0"/>
              </a:rPr>
              <a:t>小之</a:t>
            </a:r>
            <a:r>
              <a:rPr b="1" lang="zh-CN" sz="5400" spc="-1" strike="noStrike">
                <a:solidFill>
                  <a:srgbClr val="ffffff"/>
                </a:solidFill>
                <a:latin typeface="cajcd fnta0"/>
                <a:ea typeface="cajcd fnta0"/>
              </a:rPr>
              <a:t>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角的大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与两边叉开的大小有关系，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叉开越大，角就越大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叉开越小，角就越小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与边画的长度没有关系。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31960" y="4343400"/>
            <a:ext cx="3886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631960" y="1676520"/>
            <a:ext cx="2895840" cy="266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590920" y="4317840"/>
            <a:ext cx="117360" cy="57240"/>
            <a:chOff x="2590920" y="4317840"/>
            <a:chExt cx="117360" cy="57240"/>
          </a:xfrm>
        </p:grpSpPr>
        <p:sp>
          <p:nvSpPr>
            <p:cNvPr id="105" name=""/>
            <p:cNvSpPr/>
            <p:nvPr/>
          </p:nvSpPr>
          <p:spPr>
            <a:xfrm flipV="1">
              <a:off x="2632320" y="4341960"/>
              <a:ext cx="75960" cy="432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90920" y="431784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cubicBezTo>
                    <a:pt x="13" y="8"/>
                    <a:pt x="0" y="15"/>
                    <a:pt x="2" y="24"/>
                  </a:cubicBezTo>
                  <a:cubicBezTo>
                    <a:pt x="4" y="32"/>
                    <a:pt x="18" y="36"/>
                    <a:pt x="26" y="32"/>
                  </a:cubicBezTo>
                  <a:cubicBezTo>
                    <a:pt x="34" y="28"/>
                    <a:pt x="36" y="16"/>
                    <a:pt x="34" y="8"/>
                  </a:cubicBezTo>
                  <a:cubicBezTo>
                    <a:pt x="33" y="2"/>
                    <a:pt x="23" y="3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520" bIns="11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7580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华文彩云"/>
              </a:rPr>
              <a:t>看一看，数一数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活动要求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先观察，再讨论：长方体中有多少个角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任意标出其中几个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弄清楚这几个角的顶点和边在哪里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活动要求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、猜一猜：剪去一个角，还剩几个角？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、剪一剪，看有几种不同的结果？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、同组交流，准备汇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00200" y="304920"/>
            <a:ext cx="5943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华文彩云"/>
              </a:rPr>
              <a:t>猜一猜，剪一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31960" y="4343400"/>
            <a:ext cx="3886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90920" y="4317840"/>
            <a:ext cx="117360" cy="57240"/>
            <a:chOff x="2590920" y="4317840"/>
            <a:chExt cx="117360" cy="57240"/>
          </a:xfrm>
        </p:grpSpPr>
        <p:sp>
          <p:nvSpPr>
            <p:cNvPr id="109" name=""/>
            <p:cNvSpPr/>
            <p:nvPr/>
          </p:nvSpPr>
          <p:spPr>
            <a:xfrm flipV="1">
              <a:off x="2632320" y="4341960"/>
              <a:ext cx="75960" cy="4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90920" y="431784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cubicBezTo>
                    <a:pt x="13" y="8"/>
                    <a:pt x="0" y="15"/>
                    <a:pt x="2" y="24"/>
                  </a:cubicBezTo>
                  <a:cubicBezTo>
                    <a:pt x="4" y="32"/>
                    <a:pt x="18" y="36"/>
                    <a:pt x="26" y="32"/>
                  </a:cubicBezTo>
                  <a:cubicBezTo>
                    <a:pt x="34" y="28"/>
                    <a:pt x="36" y="16"/>
                    <a:pt x="34" y="8"/>
                  </a:cubicBezTo>
                  <a:cubicBezTo>
                    <a:pt x="33" y="2"/>
                    <a:pt x="23" y="3"/>
                    <a:pt x="18" y="0"/>
                  </a:cubicBezTo>
                  <a:close/>
                </a:path>
              </a:pathLst>
            </a:custGeom>
            <a:solidFill>
              <a:srgbClr val="ff0033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520" bIns="11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286000" y="4419720"/>
            <a:ext cx="5045040" cy="380880"/>
            <a:chOff x="2286000" y="4419720"/>
            <a:chExt cx="5045040" cy="380880"/>
          </a:xfrm>
        </p:grpSpPr>
        <p:grpSp>
          <p:nvGrpSpPr>
            <p:cNvPr id="112" name=""/>
            <p:cNvGrpSpPr/>
            <p:nvPr/>
          </p:nvGrpSpPr>
          <p:grpSpPr>
            <a:xfrm>
              <a:off x="2301840" y="4419720"/>
              <a:ext cx="4952880" cy="380880"/>
              <a:chOff x="2301840" y="4419720"/>
              <a:chExt cx="495288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301840" y="4419720"/>
                <a:ext cx="495288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778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064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8350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636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494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208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922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352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066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9780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638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924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210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3496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782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212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926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640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354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068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784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949800" y="4419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286000" y="45720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14600" y="45720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43200" y="45720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45720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00400" y="45720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29000" y="45720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57600" y="45720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200" y="45720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14800" y="45720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82920" y="4572000"/>
              <a:ext cx="32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115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401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687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973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259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545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831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117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03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689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975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26120" y="4572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631960" y="4343400"/>
            <a:ext cx="3886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631960" y="1676520"/>
            <a:ext cx="2895840" cy="266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590920" y="4317840"/>
            <a:ext cx="117360" cy="57240"/>
            <a:chOff x="2590920" y="4317840"/>
            <a:chExt cx="117360" cy="57240"/>
          </a:xfrm>
        </p:grpSpPr>
        <p:sp>
          <p:nvSpPr>
            <p:cNvPr id="161" name=""/>
            <p:cNvSpPr/>
            <p:nvPr/>
          </p:nvSpPr>
          <p:spPr>
            <a:xfrm flipV="1">
              <a:off x="2632320" y="4341960"/>
              <a:ext cx="75960" cy="4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431784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cubicBezTo>
                    <a:pt x="13" y="8"/>
                    <a:pt x="0" y="15"/>
                    <a:pt x="2" y="24"/>
                  </a:cubicBezTo>
                  <a:cubicBezTo>
                    <a:pt x="4" y="32"/>
                    <a:pt x="18" y="36"/>
                    <a:pt x="26" y="32"/>
                  </a:cubicBezTo>
                  <a:cubicBezTo>
                    <a:pt x="34" y="28"/>
                    <a:pt x="36" y="16"/>
                    <a:pt x="34" y="8"/>
                  </a:cubicBezTo>
                  <a:cubicBezTo>
                    <a:pt x="33" y="2"/>
                    <a:pt x="23" y="3"/>
                    <a:pt x="18" y="0"/>
                  </a:cubicBezTo>
                  <a:close/>
                </a:path>
              </a:pathLst>
            </a:custGeom>
            <a:solidFill>
              <a:srgbClr val="ff0033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520" bIns="11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452320" y="1215360"/>
            <a:ext cx="3953520" cy="3631320"/>
            <a:chOff x="2452320" y="1215360"/>
            <a:chExt cx="3953520" cy="3631320"/>
          </a:xfrm>
        </p:grpSpPr>
        <p:grpSp>
          <p:nvGrpSpPr>
            <p:cNvPr id="164" name=""/>
            <p:cNvGrpSpPr/>
            <p:nvPr/>
          </p:nvGrpSpPr>
          <p:grpSpPr>
            <a:xfrm>
              <a:off x="2452320" y="1215360"/>
              <a:ext cx="3905640" cy="3630240"/>
              <a:chOff x="2452320" y="1215360"/>
              <a:chExt cx="3905640" cy="3630240"/>
            </a:xfrm>
          </p:grpSpPr>
          <p:sp>
            <p:nvSpPr>
              <p:cNvPr id="165" name=""/>
              <p:cNvSpPr/>
              <p:nvPr/>
            </p:nvSpPr>
            <p:spPr>
              <a:xfrm rot="19046400">
                <a:off x="1928520" y="2839680"/>
                <a:ext cx="495288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08480" y="451368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76960" y="4359240"/>
                <a:ext cx="15408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45080" y="420444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13560" y="405000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18640" y="358596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350160" y="374076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82040" y="389520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23720" y="312228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855600" y="3276720"/>
                <a:ext cx="15408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87120" y="343152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192200" y="296748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60680" y="281304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529160" y="2658240"/>
                <a:ext cx="15408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697280" y="250380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65760" y="234900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07800" y="1576080"/>
                <a:ext cx="15408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39320" y="173052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70840" y="188532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202360" y="203976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34240" y="219456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044400" y="126684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75920" y="1421280"/>
                <a:ext cx="154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rot="19046400">
              <a:off x="2592360" y="459720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9046400">
              <a:off x="2760840" y="444276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9046400">
              <a:off x="2929320" y="428796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9046400">
              <a:off x="3097440" y="413352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9046400">
              <a:off x="3265920" y="397872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9046400">
              <a:off x="3434400" y="382428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9046400">
              <a:off x="3602520" y="366948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9046400">
              <a:off x="3771000" y="351504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046400">
              <a:off x="3939480" y="336024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9046400">
              <a:off x="4045320" y="3200040"/>
              <a:ext cx="32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046400">
              <a:off x="4215960" y="3051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9046400">
              <a:off x="4384080" y="28962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046400">
              <a:off x="4552560" y="274176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9046400">
              <a:off x="4721040" y="258696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9046400">
              <a:off x="4889520" y="243252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046400">
              <a:off x="5057640" y="227772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046400">
              <a:off x="5226120" y="212328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9046400">
              <a:off x="5394600" y="196848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9046400">
              <a:off x="5562720" y="181404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1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9046400">
              <a:off x="5731200" y="16596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9046400">
              <a:off x="5899680" y="15048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9046400">
              <a:off x="6068160" y="135036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Times New Roman"/>
                  <a:ea typeface="方正楷体简体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631960" y="4343400"/>
            <a:ext cx="3886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631960" y="1676520"/>
            <a:ext cx="2895840" cy="266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590920" y="4317840"/>
            <a:ext cx="117360" cy="57240"/>
            <a:chOff x="2590920" y="4317840"/>
            <a:chExt cx="117360" cy="57240"/>
          </a:xfrm>
        </p:grpSpPr>
        <p:sp>
          <p:nvSpPr>
            <p:cNvPr id="213" name=""/>
            <p:cNvSpPr/>
            <p:nvPr/>
          </p:nvSpPr>
          <p:spPr>
            <a:xfrm flipV="1">
              <a:off x="2632320" y="4341960"/>
              <a:ext cx="75960" cy="4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90920" y="431784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cubicBezTo>
                    <a:pt x="13" y="8"/>
                    <a:pt x="0" y="15"/>
                    <a:pt x="2" y="24"/>
                  </a:cubicBezTo>
                  <a:cubicBezTo>
                    <a:pt x="4" y="32"/>
                    <a:pt x="18" y="36"/>
                    <a:pt x="26" y="32"/>
                  </a:cubicBezTo>
                  <a:cubicBezTo>
                    <a:pt x="34" y="28"/>
                    <a:pt x="36" y="16"/>
                    <a:pt x="34" y="8"/>
                  </a:cubicBezTo>
                  <a:cubicBezTo>
                    <a:pt x="33" y="2"/>
                    <a:pt x="23" y="3"/>
                    <a:pt x="18" y="0"/>
                  </a:cubicBezTo>
                  <a:close/>
                </a:path>
              </a:pathLst>
            </a:custGeom>
            <a:solidFill>
              <a:srgbClr val="ff0033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520" bIns="11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70020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下列图形中哪些有角？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2971800"/>
            <a:ext cx="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362320" y="2819520"/>
            <a:ext cx="182880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4800600"/>
            <a:ext cx="3200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114800"/>
            <a:ext cx="30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33"/>
                </a:solidFill>
                <a:latin typeface="cajcd fnta0"/>
                <a:ea typeface="cajcd fnta0"/>
              </a:rPr>
              <a:t>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3581280"/>
            <a:ext cx="838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21337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46483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648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800600"/>
            <a:ext cx="7632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4191120"/>
            <a:ext cx="7596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09680" y="2362320"/>
            <a:ext cx="22860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2666880"/>
            <a:ext cx="1371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0"/>
            <a:endCxn id="227" idx="0"/>
          </p:cNvCxnSpPr>
          <p:nvPr/>
        </p:nvCxnSpPr>
        <p:spPr>
          <a:xfrm flipH="1" rot="16200000">
            <a:off x="2666880" y="3809520"/>
            <a:ext cx="534240" cy="991440"/>
          </a:xfrm>
          <a:prstGeom prst="curvedConnector5">
            <a:avLst>
              <a:gd name="adj1" fmla="val 142818"/>
              <a:gd name="adj2" fmla="val 49981"/>
              <a:gd name="adj3" fmla="val 142818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1600200" y="19051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39625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4267080"/>
            <a:ext cx="838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251460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5T09:13:04Z</dcterms:created>
  <dc:creator>ww</dc:creator>
  <dc:description/>
  <dc:language>en-US</dc:language>
  <cp:lastModifiedBy>wang</cp:lastModifiedBy>
  <dcterms:modified xsi:type="dcterms:W3CDTF">2004-02-12T01:15:28Z</dcterms:modified>
  <cp:revision>9</cp:revision>
  <dc:subject/>
  <dc:title>活动一：找一找，议一议</dc:title>
</cp:coreProperties>
</file>