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自定义放映2" id="0">
      <p:sldLst>
        <p:sld r:id="rId8"/>
      </p:sldLst>
    </p:custShow>
    <p:custShow name="自定义放映1" id="1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C51-FBF4-43B4-879E-1CFCF892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960-E91E-4236-BEF4-4FB3698E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C22-4314-48ED-913B-4608EAA0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D51-5A2E-45F8-878C-B54FDC53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DAC-67CE-481B-9EAB-69AC0580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256-B08A-46A4-9A21-53B4843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EC5-8064-430A-8C45-1B47A64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C4-8000-4ACE-AF18-AE7628F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107-B315-4C9F-BD3F-6EFA4F9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4A5-23FA-4ED8-9104-B13B9B32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1D5-C864-4E92-B432-C19AAE9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01E-1EB1-4718-9E81-4E5B508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670-CFAB-4E53-9D64-483E31235F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828800"/>
            <a:ext cx="5562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直线、射线、线段和角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DD01352_" descr=""/>
          <p:cNvPicPr/>
          <p:nvPr/>
        </p:nvPicPr>
        <p:blipFill>
          <a:blip r:embed="rId2"/>
          <a:stretch/>
        </p:blipFill>
        <p:spPr>
          <a:xfrm flipH="1">
            <a:off x="685440" y="2743200"/>
            <a:ext cx="685800" cy="660240"/>
          </a:xfrm>
          <a:prstGeom prst="rect">
            <a:avLst/>
          </a:prstGeom>
          <a:ln w="0">
            <a:noFill/>
          </a:ln>
        </p:spPr>
      </p:pic>
      <p:pic>
        <p:nvPicPr>
          <p:cNvPr id="43" name="BD00028_" descr=""/>
          <p:cNvPicPr/>
          <p:nvPr/>
        </p:nvPicPr>
        <p:blipFill>
          <a:blip r:embed="rId3"/>
          <a:stretch/>
        </p:blipFill>
        <p:spPr>
          <a:xfrm>
            <a:off x="7772400" y="2666880"/>
            <a:ext cx="5335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352680" y="2437920"/>
            <a:ext cx="1447920" cy="686160"/>
            <a:chOff x="3352680" y="2437920"/>
            <a:chExt cx="1447920" cy="686160"/>
          </a:xfrm>
        </p:grpSpPr>
        <p:sp>
          <p:nvSpPr>
            <p:cNvPr id="195" name=""/>
            <p:cNvSpPr/>
            <p:nvPr/>
          </p:nvSpPr>
          <p:spPr>
            <a:xfrm>
              <a:off x="3352680" y="312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124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352680" y="243792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V="1">
            <a:off x="3352680" y="2437920"/>
            <a:ext cx="1219320" cy="685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124080"/>
            <a:ext cx="1524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2286000"/>
            <a:ext cx="990720" cy="838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124080"/>
            <a:ext cx="1524240" cy="45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52680" y="2133360"/>
            <a:ext cx="685800" cy="990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52680" y="1828800"/>
            <a:ext cx="457200" cy="1295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124080"/>
            <a:ext cx="1295640" cy="914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762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角的大小与什么有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6483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的大小与两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叉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大小有关，叉开大、角就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叉开小、角就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：下面三个角，谁最大，谁最小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2057040"/>
            <a:ext cx="1523880" cy="765000"/>
            <a:chOff x="914400" y="2057040"/>
            <a:chExt cx="1523880" cy="765000"/>
          </a:xfrm>
        </p:grpSpPr>
        <p:sp>
          <p:nvSpPr>
            <p:cNvPr id="209" name=""/>
            <p:cNvSpPr/>
            <p:nvPr/>
          </p:nvSpPr>
          <p:spPr>
            <a:xfrm>
              <a:off x="914400" y="2743200"/>
              <a:ext cx="759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914400" y="2057040"/>
              <a:ext cx="990360" cy="685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400" y="2743200"/>
              <a:ext cx="1523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14600"/>
              <a:ext cx="7596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cubicBezTo>
                    <a:pt x="20" y="60"/>
                    <a:pt x="40" y="120"/>
                    <a:pt x="48" y="1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23623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733920" y="4800240"/>
            <a:ext cx="1523880" cy="765000"/>
            <a:chOff x="3733920" y="4800240"/>
            <a:chExt cx="1523880" cy="765000"/>
          </a:xfrm>
        </p:grpSpPr>
        <p:sp>
          <p:nvSpPr>
            <p:cNvPr id="215" name=""/>
            <p:cNvSpPr/>
            <p:nvPr/>
          </p:nvSpPr>
          <p:spPr>
            <a:xfrm>
              <a:off x="3733920" y="5486400"/>
              <a:ext cx="759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733920" y="4800240"/>
              <a:ext cx="990360" cy="685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5486400"/>
              <a:ext cx="1523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5257800"/>
              <a:ext cx="7596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cubicBezTo>
                    <a:pt x="20" y="60"/>
                    <a:pt x="40" y="120"/>
                    <a:pt x="48" y="1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1055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505680" y="1599840"/>
            <a:ext cx="1523160" cy="1371600"/>
            <a:chOff x="3505680" y="1599840"/>
            <a:chExt cx="1523160" cy="1371600"/>
          </a:xfrm>
        </p:grpSpPr>
        <p:grpSp>
          <p:nvGrpSpPr>
            <p:cNvPr id="221" name=""/>
            <p:cNvGrpSpPr/>
            <p:nvPr/>
          </p:nvGrpSpPr>
          <p:grpSpPr>
            <a:xfrm>
              <a:off x="3809880" y="1599840"/>
              <a:ext cx="1218960" cy="1143360"/>
              <a:chOff x="3809880" y="1599840"/>
              <a:chExt cx="1218960" cy="1143360"/>
            </a:xfrm>
          </p:grpSpPr>
          <p:sp>
            <p:nvSpPr>
              <p:cNvPr id="222" name=""/>
              <p:cNvSpPr/>
              <p:nvPr/>
            </p:nvSpPr>
            <p:spPr>
              <a:xfrm>
                <a:off x="3809880" y="2743200"/>
                <a:ext cx="75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9880" y="2743200"/>
                <a:ext cx="1218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809880" y="1599840"/>
                <a:ext cx="0" cy="1143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505680" y="25146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5840" y="22860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715000" y="1599840"/>
            <a:ext cx="2286000" cy="1295280"/>
            <a:chOff x="5715000" y="1599840"/>
            <a:chExt cx="2286000" cy="1295280"/>
          </a:xfrm>
        </p:grpSpPr>
        <p:grpSp>
          <p:nvGrpSpPr>
            <p:cNvPr id="228" name=""/>
            <p:cNvGrpSpPr/>
            <p:nvPr/>
          </p:nvGrpSpPr>
          <p:grpSpPr>
            <a:xfrm>
              <a:off x="5715000" y="1599840"/>
              <a:ext cx="2286000" cy="1295280"/>
              <a:chOff x="5715000" y="1599840"/>
              <a:chExt cx="2286000" cy="129528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9400" y="2666880"/>
                <a:ext cx="1522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9400" y="2666880"/>
                <a:ext cx="13716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715000" y="1599840"/>
                <a:ext cx="914400" cy="106668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96600" y="2438280"/>
                <a:ext cx="7610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8580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430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820240" y="4343040"/>
            <a:ext cx="2132640" cy="1676520"/>
            <a:chOff x="2820240" y="4343040"/>
            <a:chExt cx="2132640" cy="1676520"/>
          </a:xfrm>
        </p:grpSpPr>
        <p:grpSp>
          <p:nvGrpSpPr>
            <p:cNvPr id="237" name=""/>
            <p:cNvGrpSpPr/>
            <p:nvPr/>
          </p:nvGrpSpPr>
          <p:grpSpPr>
            <a:xfrm>
              <a:off x="3733920" y="4343040"/>
              <a:ext cx="1218960" cy="1143360"/>
              <a:chOff x="3733920" y="4343040"/>
              <a:chExt cx="1218960" cy="1143360"/>
            </a:xfrm>
          </p:grpSpPr>
          <p:sp>
            <p:nvSpPr>
              <p:cNvPr id="238" name=""/>
              <p:cNvSpPr/>
              <p:nvPr/>
            </p:nvSpPr>
            <p:spPr>
              <a:xfrm>
                <a:off x="3733920" y="5486400"/>
                <a:ext cx="75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33920" y="5486400"/>
                <a:ext cx="1218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733920" y="4343040"/>
                <a:ext cx="0" cy="1143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419360" y="49528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33920" y="49528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0240" y="4952880"/>
              <a:ext cx="182736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8440" y="4419360"/>
            <a:ext cx="4952880" cy="1904760"/>
            <a:chOff x="838440" y="4419360"/>
            <a:chExt cx="4952880" cy="1904760"/>
          </a:xfrm>
        </p:grpSpPr>
        <p:grpSp>
          <p:nvGrpSpPr>
            <p:cNvPr id="245" name=""/>
            <p:cNvGrpSpPr/>
            <p:nvPr/>
          </p:nvGrpSpPr>
          <p:grpSpPr>
            <a:xfrm>
              <a:off x="2819520" y="4419360"/>
              <a:ext cx="2286000" cy="1067040"/>
              <a:chOff x="2819520" y="4419360"/>
              <a:chExt cx="2286000" cy="1067040"/>
            </a:xfrm>
          </p:grpSpPr>
          <p:sp>
            <p:nvSpPr>
              <p:cNvPr id="246" name=""/>
              <p:cNvSpPr/>
              <p:nvPr/>
            </p:nvSpPr>
            <p:spPr>
              <a:xfrm>
                <a:off x="3733920" y="5486400"/>
                <a:ext cx="1522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33920" y="5486400"/>
                <a:ext cx="13716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819520" y="4419360"/>
                <a:ext cx="914400" cy="106668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02920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440" y="4648320"/>
              <a:ext cx="42667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5486400"/>
              <a:ext cx="76212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143000" y="914400"/>
            <a:ext cx="6858000" cy="1015920"/>
            <a:chOff x="1143000" y="914400"/>
            <a:chExt cx="6858000" cy="1015920"/>
          </a:xfrm>
        </p:grpSpPr>
        <p:sp>
          <p:nvSpPr>
            <p:cNvPr id="253" name=""/>
            <p:cNvSpPr/>
            <p:nvPr/>
          </p:nvSpPr>
          <p:spPr>
            <a:xfrm>
              <a:off x="1143000" y="914400"/>
              <a:ext cx="685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小结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直线，线段，射线有什么不同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6600" y="1371600"/>
              <a:ext cx="685800" cy="457200"/>
            </a:xfrm>
            <a:custGeom>
              <a:avLst/>
              <a:gdLst>
                <a:gd name="textAreaLeft" fmla="*/ 29520 w 685800"/>
                <a:gd name="textAreaRight" fmla="*/ 656280 w 6858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32392" h="21600">
                  <a:moveTo>
                    <a:pt x="0" y="0"/>
                  </a:moveTo>
                  <a:lnTo>
                    <a:pt x="32392" y="0"/>
                  </a:lnTo>
                  <a:lnTo>
                    <a:pt x="32392" y="21600"/>
                  </a:lnTo>
                  <a:lnTo>
                    <a:pt x="0" y="21600"/>
                  </a:lnTo>
                  <a:close/>
                </a:path>
                <a:path fill="lightenLess" w="32392" h="21600">
                  <a:moveTo>
                    <a:pt x="0" y="0"/>
                  </a:moveTo>
                  <a:lnTo>
                    <a:pt x="32392" y="0"/>
                  </a:lnTo>
                  <a:lnTo>
                    <a:pt x="30992" y="1400"/>
                  </a:lnTo>
                  <a:lnTo>
                    <a:pt x="1400" y="1400"/>
                  </a:lnTo>
                  <a:close/>
                </a:path>
                <a:path fill="darken" w="32392" h="21600">
                  <a:moveTo>
                    <a:pt x="32392" y="0"/>
                  </a:moveTo>
                  <a:lnTo>
                    <a:pt x="32392" y="21600"/>
                  </a:lnTo>
                  <a:lnTo>
                    <a:pt x="30992" y="20200"/>
                  </a:lnTo>
                  <a:lnTo>
                    <a:pt x="30992" y="1400"/>
                  </a:lnTo>
                  <a:close/>
                </a:path>
                <a:path fill="darkenLess" w="32392" h="21600">
                  <a:moveTo>
                    <a:pt x="323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992" y="20200"/>
                  </a:lnTo>
                  <a:close/>
                </a:path>
                <a:path fill="lighten" w="323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392" h="21600">
                  <a:moveTo>
                    <a:pt x="9189" y="10800"/>
                  </a:moveTo>
                  <a:lnTo>
                    <a:pt x="23202" y="3794"/>
                  </a:lnTo>
                  <a:lnTo>
                    <a:pt x="23202" y="17806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81080" y="2209680"/>
            <a:ext cx="5943600" cy="536040"/>
            <a:chOff x="1981080" y="2209680"/>
            <a:chExt cx="5943600" cy="536040"/>
          </a:xfrm>
        </p:grpSpPr>
        <p:sp>
          <p:nvSpPr>
            <p:cNvPr id="256" name=""/>
            <p:cNvSpPr/>
            <p:nvPr/>
          </p:nvSpPr>
          <p:spPr>
            <a:xfrm>
              <a:off x="1981080" y="22860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怎样的图形叫做角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20968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 rot="10747200">
            <a:off x="7952760" y="5150880"/>
            <a:ext cx="6933960" cy="190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99ff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同学们再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99ff66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1447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哪条线是直线，哪条线是线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666880"/>
            <a:ext cx="24386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743200"/>
            <a:ext cx="2286000" cy="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直线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头、尾，无法量度，是无限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7242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线段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上两点间的一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线段有两个端点，可以量度，是直线的一部分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19810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射线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有一个端点的线称为射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59092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371600"/>
            <a:ext cx="759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371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3716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3716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120" y="3200400"/>
            <a:ext cx="3962880" cy="2895480"/>
            <a:chOff x="609120" y="3200400"/>
            <a:chExt cx="3962880" cy="2895480"/>
          </a:xfrm>
        </p:grpSpPr>
        <p:sp>
          <p:nvSpPr>
            <p:cNvPr id="58" name=""/>
            <p:cNvSpPr/>
            <p:nvPr/>
          </p:nvSpPr>
          <p:spPr>
            <a:xfrm>
              <a:off x="2666880" y="4495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1371240" y="3200400"/>
              <a:ext cx="533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13336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9120" y="3504960"/>
              <a:ext cx="3353040" cy="2590920"/>
              <a:chOff x="609120" y="3504960"/>
              <a:chExt cx="3353040" cy="25909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676160" y="4114800"/>
                <a:ext cx="1036800" cy="932040"/>
                <a:chOff x="1676160" y="4114800"/>
                <a:chExt cx="1036800" cy="9320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76160" y="4114800"/>
                  <a:ext cx="1036800" cy="932040"/>
                </a:xfrm>
                <a:custGeom>
                  <a:avLst/>
                  <a:gdLst/>
                  <a:ahLst/>
                  <a:rect l="l" t="t" r="r" b="b"/>
                  <a:pathLst>
                    <a:path w="1306" h="1175">
                      <a:moveTo>
                        <a:pt x="651" y="1175"/>
                      </a:moveTo>
                      <a:lnTo>
                        <a:pt x="718" y="1171"/>
                      </a:lnTo>
                      <a:lnTo>
                        <a:pt x="782" y="1163"/>
                      </a:lnTo>
                      <a:lnTo>
                        <a:pt x="846" y="1148"/>
                      </a:lnTo>
                      <a:lnTo>
                        <a:pt x="906" y="1129"/>
                      </a:lnTo>
                      <a:lnTo>
                        <a:pt x="962" y="1104"/>
                      </a:lnTo>
                      <a:lnTo>
                        <a:pt x="1016" y="1075"/>
                      </a:lnTo>
                      <a:lnTo>
                        <a:pt x="1067" y="1040"/>
                      </a:lnTo>
                      <a:lnTo>
                        <a:pt x="1113" y="1002"/>
                      </a:lnTo>
                      <a:lnTo>
                        <a:pt x="1156" y="961"/>
                      </a:lnTo>
                      <a:lnTo>
                        <a:pt x="1194" y="916"/>
                      </a:lnTo>
                      <a:lnTo>
                        <a:pt x="1226" y="867"/>
                      </a:lnTo>
                      <a:lnTo>
                        <a:pt x="1254" y="817"/>
                      </a:lnTo>
                      <a:lnTo>
                        <a:pt x="1276" y="763"/>
                      </a:lnTo>
                      <a:lnTo>
                        <a:pt x="1292" y="706"/>
                      </a:lnTo>
                      <a:lnTo>
                        <a:pt x="1302" y="648"/>
                      </a:lnTo>
                      <a:lnTo>
                        <a:pt x="1306" y="589"/>
                      </a:lnTo>
                      <a:lnTo>
                        <a:pt x="1302" y="529"/>
                      </a:lnTo>
                      <a:lnTo>
                        <a:pt x="1292" y="470"/>
                      </a:lnTo>
                      <a:lnTo>
                        <a:pt x="1276" y="413"/>
                      </a:lnTo>
                      <a:lnTo>
                        <a:pt x="1254" y="359"/>
                      </a:lnTo>
                      <a:lnTo>
                        <a:pt x="1226" y="309"/>
                      </a:lnTo>
                      <a:lnTo>
                        <a:pt x="1194" y="259"/>
                      </a:lnTo>
                      <a:lnTo>
                        <a:pt x="1156" y="214"/>
                      </a:lnTo>
                      <a:lnTo>
                        <a:pt x="1113" y="173"/>
                      </a:lnTo>
                      <a:lnTo>
                        <a:pt x="1067" y="135"/>
                      </a:lnTo>
                      <a:lnTo>
                        <a:pt x="1016" y="100"/>
                      </a:lnTo>
                      <a:lnTo>
                        <a:pt x="962" y="71"/>
                      </a:lnTo>
                      <a:lnTo>
                        <a:pt x="906" y="46"/>
                      </a:lnTo>
                      <a:lnTo>
                        <a:pt x="846" y="26"/>
                      </a:lnTo>
                      <a:lnTo>
                        <a:pt x="782" y="11"/>
                      </a:lnTo>
                      <a:lnTo>
                        <a:pt x="718" y="3"/>
                      </a:lnTo>
                      <a:lnTo>
                        <a:pt x="651" y="0"/>
                      </a:lnTo>
                      <a:lnTo>
                        <a:pt x="584" y="3"/>
                      </a:lnTo>
                      <a:lnTo>
                        <a:pt x="520" y="11"/>
                      </a:lnTo>
                      <a:lnTo>
                        <a:pt x="457" y="26"/>
                      </a:lnTo>
                      <a:lnTo>
                        <a:pt x="398" y="46"/>
                      </a:lnTo>
                      <a:lnTo>
                        <a:pt x="341" y="71"/>
                      </a:lnTo>
                      <a:lnTo>
                        <a:pt x="287" y="100"/>
                      </a:lnTo>
                      <a:lnTo>
                        <a:pt x="237" y="135"/>
                      </a:lnTo>
                      <a:lnTo>
                        <a:pt x="191" y="173"/>
                      </a:lnTo>
                      <a:lnTo>
                        <a:pt x="149" y="214"/>
                      </a:lnTo>
                      <a:lnTo>
                        <a:pt x="112" y="259"/>
                      </a:lnTo>
                      <a:lnTo>
                        <a:pt x="78" y="309"/>
                      </a:lnTo>
                      <a:lnTo>
                        <a:pt x="51" y="359"/>
                      </a:lnTo>
                      <a:lnTo>
                        <a:pt x="29" y="413"/>
                      </a:lnTo>
                      <a:lnTo>
                        <a:pt x="13" y="470"/>
                      </a:lnTo>
                      <a:lnTo>
                        <a:pt x="3" y="529"/>
                      </a:lnTo>
                      <a:lnTo>
                        <a:pt x="0" y="589"/>
                      </a:lnTo>
                      <a:lnTo>
                        <a:pt x="3" y="648"/>
                      </a:lnTo>
                      <a:lnTo>
                        <a:pt x="13" y="706"/>
                      </a:lnTo>
                      <a:lnTo>
                        <a:pt x="29" y="763"/>
                      </a:lnTo>
                      <a:lnTo>
                        <a:pt x="51" y="817"/>
                      </a:lnTo>
                      <a:lnTo>
                        <a:pt x="78" y="867"/>
                      </a:lnTo>
                      <a:lnTo>
                        <a:pt x="112" y="916"/>
                      </a:lnTo>
                      <a:lnTo>
                        <a:pt x="149" y="961"/>
                      </a:lnTo>
                      <a:lnTo>
                        <a:pt x="191" y="1002"/>
                      </a:lnTo>
                      <a:lnTo>
                        <a:pt x="237" y="1040"/>
                      </a:lnTo>
                      <a:lnTo>
                        <a:pt x="287" y="1075"/>
                      </a:lnTo>
                      <a:lnTo>
                        <a:pt x="341" y="1104"/>
                      </a:lnTo>
                      <a:lnTo>
                        <a:pt x="398" y="1129"/>
                      </a:lnTo>
                      <a:lnTo>
                        <a:pt x="457" y="1148"/>
                      </a:lnTo>
                      <a:lnTo>
                        <a:pt x="520" y="1163"/>
                      </a:lnTo>
                      <a:lnTo>
                        <a:pt x="584" y="1171"/>
                      </a:lnTo>
                      <a:lnTo>
                        <a:pt x="651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76160" y="4114800"/>
                  <a:ext cx="978120" cy="880920"/>
                </a:xfrm>
                <a:custGeom>
                  <a:avLst/>
                  <a:gdLst/>
                  <a:ahLst/>
                  <a:rect l="l" t="t" r="r" b="b"/>
                  <a:pathLst>
                    <a:path w="1233" h="1111">
                      <a:moveTo>
                        <a:pt x="615" y="1111"/>
                      </a:moveTo>
                      <a:lnTo>
                        <a:pt x="678" y="1108"/>
                      </a:lnTo>
                      <a:lnTo>
                        <a:pt x="740" y="1099"/>
                      </a:lnTo>
                      <a:lnTo>
                        <a:pt x="798" y="1085"/>
                      </a:lnTo>
                      <a:lnTo>
                        <a:pt x="856" y="1067"/>
                      </a:lnTo>
                      <a:lnTo>
                        <a:pt x="909" y="1044"/>
                      </a:lnTo>
                      <a:lnTo>
                        <a:pt x="961" y="1016"/>
                      </a:lnTo>
                      <a:lnTo>
                        <a:pt x="1008" y="984"/>
                      </a:lnTo>
                      <a:lnTo>
                        <a:pt x="1052" y="948"/>
                      </a:lnTo>
                      <a:lnTo>
                        <a:pt x="1092" y="909"/>
                      </a:lnTo>
                      <a:lnTo>
                        <a:pt x="1127" y="866"/>
                      </a:lnTo>
                      <a:lnTo>
                        <a:pt x="1158" y="820"/>
                      </a:lnTo>
                      <a:lnTo>
                        <a:pt x="1184" y="772"/>
                      </a:lnTo>
                      <a:lnTo>
                        <a:pt x="1205" y="721"/>
                      </a:lnTo>
                      <a:lnTo>
                        <a:pt x="1220" y="668"/>
                      </a:lnTo>
                      <a:lnTo>
                        <a:pt x="1229" y="613"/>
                      </a:lnTo>
                      <a:lnTo>
                        <a:pt x="1233" y="557"/>
                      </a:lnTo>
                      <a:lnTo>
                        <a:pt x="1229" y="500"/>
                      </a:lnTo>
                      <a:lnTo>
                        <a:pt x="1220" y="445"/>
                      </a:lnTo>
                      <a:lnTo>
                        <a:pt x="1205" y="391"/>
                      </a:lnTo>
                      <a:lnTo>
                        <a:pt x="1184" y="340"/>
                      </a:lnTo>
                      <a:lnTo>
                        <a:pt x="1158" y="292"/>
                      </a:lnTo>
                      <a:lnTo>
                        <a:pt x="1127" y="246"/>
                      </a:lnTo>
                      <a:lnTo>
                        <a:pt x="1092" y="203"/>
                      </a:lnTo>
                      <a:lnTo>
                        <a:pt x="1052" y="163"/>
                      </a:lnTo>
                      <a:lnTo>
                        <a:pt x="1008" y="127"/>
                      </a:lnTo>
                      <a:lnTo>
                        <a:pt x="961" y="95"/>
                      </a:lnTo>
                      <a:lnTo>
                        <a:pt x="909" y="67"/>
                      </a:lnTo>
                      <a:lnTo>
                        <a:pt x="856" y="44"/>
                      </a:lnTo>
                      <a:lnTo>
                        <a:pt x="798" y="26"/>
                      </a:lnTo>
                      <a:lnTo>
                        <a:pt x="740" y="12"/>
                      </a:lnTo>
                      <a:lnTo>
                        <a:pt x="678" y="2"/>
                      </a:lnTo>
                      <a:lnTo>
                        <a:pt x="615" y="0"/>
                      </a:lnTo>
                      <a:lnTo>
                        <a:pt x="553" y="2"/>
                      </a:lnTo>
                      <a:lnTo>
                        <a:pt x="492" y="12"/>
                      </a:lnTo>
                      <a:lnTo>
                        <a:pt x="433" y="26"/>
                      </a:lnTo>
                      <a:lnTo>
                        <a:pt x="377" y="44"/>
                      </a:lnTo>
                      <a:lnTo>
                        <a:pt x="322" y="67"/>
                      </a:lnTo>
                      <a:lnTo>
                        <a:pt x="272" y="95"/>
                      </a:lnTo>
                      <a:lnTo>
                        <a:pt x="224" y="127"/>
                      </a:lnTo>
                      <a:lnTo>
                        <a:pt x="181" y="163"/>
                      </a:lnTo>
                      <a:lnTo>
                        <a:pt x="140" y="203"/>
                      </a:lnTo>
                      <a:lnTo>
                        <a:pt x="105" y="246"/>
                      </a:lnTo>
                      <a:lnTo>
                        <a:pt x="75" y="292"/>
                      </a:lnTo>
                      <a:lnTo>
                        <a:pt x="48" y="340"/>
                      </a:lnTo>
                      <a:lnTo>
                        <a:pt x="27" y="391"/>
                      </a:lnTo>
                      <a:lnTo>
                        <a:pt x="12" y="445"/>
                      </a:lnTo>
                      <a:lnTo>
                        <a:pt x="3" y="500"/>
                      </a:lnTo>
                      <a:lnTo>
                        <a:pt x="0" y="557"/>
                      </a:lnTo>
                      <a:lnTo>
                        <a:pt x="3" y="613"/>
                      </a:lnTo>
                      <a:lnTo>
                        <a:pt x="12" y="668"/>
                      </a:lnTo>
                      <a:lnTo>
                        <a:pt x="27" y="721"/>
                      </a:lnTo>
                      <a:lnTo>
                        <a:pt x="48" y="772"/>
                      </a:lnTo>
                      <a:lnTo>
                        <a:pt x="75" y="820"/>
                      </a:lnTo>
                      <a:lnTo>
                        <a:pt x="105" y="866"/>
                      </a:lnTo>
                      <a:lnTo>
                        <a:pt x="140" y="909"/>
                      </a:lnTo>
                      <a:lnTo>
                        <a:pt x="181" y="948"/>
                      </a:lnTo>
                      <a:lnTo>
                        <a:pt x="224" y="984"/>
                      </a:lnTo>
                      <a:lnTo>
                        <a:pt x="272" y="1016"/>
                      </a:lnTo>
                      <a:lnTo>
                        <a:pt x="322" y="1044"/>
                      </a:lnTo>
                      <a:lnTo>
                        <a:pt x="377" y="1067"/>
                      </a:lnTo>
                      <a:lnTo>
                        <a:pt x="433" y="1085"/>
                      </a:lnTo>
                      <a:lnTo>
                        <a:pt x="492" y="1099"/>
                      </a:lnTo>
                      <a:lnTo>
                        <a:pt x="553" y="1108"/>
                      </a:lnTo>
                      <a:lnTo>
                        <a:pt x="615" y="111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2666880" y="472428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1960" y="4952880"/>
                <a:ext cx="6858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057040" y="5029200"/>
                <a:ext cx="7596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590560" y="3657240"/>
                <a:ext cx="10670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361960" y="3504960"/>
                <a:ext cx="3812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294920" y="4952880"/>
                <a:ext cx="68580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85440" y="4800600"/>
                <a:ext cx="10666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609120" y="4266720"/>
                <a:ext cx="10666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914400" y="3657240"/>
                <a:ext cx="8380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" name="BD04924_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5" name="BD04924_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6" name="BD04924_" descr=""/>
          <p:cNvPicPr/>
          <p:nvPr/>
        </p:nvPicPr>
        <p:blipFill>
          <a:blip r:embed="rId4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BD04924_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8" name="BD04924_" descr=""/>
          <p:cNvPicPr/>
          <p:nvPr/>
        </p:nvPicPr>
        <p:blipFill>
          <a:blip r:embed="rId6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看下图，指出哪些是直线、线段、射线，并说明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819520"/>
            <a:ext cx="6858000" cy="1904400"/>
            <a:chOff x="914400" y="2819520"/>
            <a:chExt cx="6858000" cy="1904400"/>
          </a:xfrm>
        </p:grpSpPr>
        <p:sp>
          <p:nvSpPr>
            <p:cNvPr id="81" name=""/>
            <p:cNvSpPr/>
            <p:nvPr/>
          </p:nvSpPr>
          <p:spPr>
            <a:xfrm flipH="1">
              <a:off x="914400" y="3276360"/>
              <a:ext cx="9907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2971800"/>
              <a:ext cx="228600" cy="167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39621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5720" y="2819520"/>
              <a:ext cx="10666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352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4191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一点可以引出          条射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724280"/>
            <a:ext cx="106704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04812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130840" y="669240"/>
            <a:ext cx="768600" cy="23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0800" y="1395360"/>
            <a:ext cx="1914840" cy="163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7800" y="3052440"/>
            <a:ext cx="2345400" cy="90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55880" y="2442960"/>
            <a:ext cx="2441520" cy="60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048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2971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1294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53680" y="2177640"/>
            <a:ext cx="1369800" cy="8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0481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91920" y="1662120"/>
            <a:ext cx="923760" cy="139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191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三个角是怎样画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800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先画一点，再引出两条射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3840" y="3241800"/>
            <a:ext cx="4652280" cy="860040"/>
            <a:chOff x="2283840" y="3241800"/>
            <a:chExt cx="4652280" cy="860040"/>
          </a:xfrm>
        </p:grpSpPr>
        <p:sp>
          <p:nvSpPr>
            <p:cNvPr id="110" name=""/>
            <p:cNvSpPr/>
            <p:nvPr/>
          </p:nvSpPr>
          <p:spPr>
            <a:xfrm rot="16251600">
              <a:off x="4457520" y="1104480"/>
              <a:ext cx="304560" cy="4648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0960 h 4648320"/>
                <a:gd name="textAreaBottom" fmla="*/ 4527360 h 46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3581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430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从一点引出两条射线，所组成的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要画一个角，先画什么，再画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1905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905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09680" y="1142640"/>
            <a:ext cx="12956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2133720"/>
            <a:ext cx="1828800" cy="761760"/>
            <a:chOff x="3505320" y="2133720"/>
            <a:chExt cx="1828800" cy="761760"/>
          </a:xfrm>
        </p:grpSpPr>
        <p:sp>
          <p:nvSpPr>
            <p:cNvPr id="119" name=""/>
            <p:cNvSpPr/>
            <p:nvPr/>
          </p:nvSpPr>
          <p:spPr>
            <a:xfrm>
              <a:off x="3505320" y="28954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505320" y="2133720"/>
              <a:ext cx="1295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76920" y="2971800"/>
            <a:ext cx="1828800" cy="761760"/>
            <a:chOff x="4876920" y="2971800"/>
            <a:chExt cx="1828800" cy="761760"/>
          </a:xfrm>
        </p:grpSpPr>
        <p:sp>
          <p:nvSpPr>
            <p:cNvPr id="123" name=""/>
            <p:cNvSpPr/>
            <p:nvPr/>
          </p:nvSpPr>
          <p:spPr>
            <a:xfrm>
              <a:off x="4876920" y="37335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73356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876920" y="2971800"/>
              <a:ext cx="1295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6019920" y="1904760"/>
            <a:ext cx="182880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73392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114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这两条射线不管画多长，所组成的图形还是这个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029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样判断一个图形是不是角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486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它是不是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条射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838080" y="838080"/>
            <a:ext cx="7696440" cy="5404320"/>
            <a:chOff x="838080" y="838080"/>
            <a:chExt cx="7696440" cy="5404320"/>
          </a:xfrm>
        </p:grpSpPr>
        <p:sp>
          <p:nvSpPr>
            <p:cNvPr id="132" name=""/>
            <p:cNvSpPr/>
            <p:nvPr/>
          </p:nvSpPr>
          <p:spPr>
            <a:xfrm>
              <a:off x="838080" y="838080"/>
              <a:ext cx="76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练习：指出下图中哪个是角，哪个不是角，并说明理由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05120" y="1852920"/>
              <a:ext cx="1820880" cy="1730880"/>
              <a:chOff x="1005120" y="1852920"/>
              <a:chExt cx="1820880" cy="17308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005120" y="1852920"/>
                <a:ext cx="1820880" cy="1730880"/>
                <a:chOff x="1005120" y="1852920"/>
                <a:chExt cx="1820880" cy="1730880"/>
              </a:xfrm>
            </p:grpSpPr>
            <p:sp>
              <p:nvSpPr>
                <p:cNvPr id="135" name=""/>
                <p:cNvSpPr/>
                <p:nvPr/>
              </p:nvSpPr>
              <p:spPr>
                <a:xfrm flipV="1" rot="11272200">
                  <a:off x="1101240" y="1956960"/>
                  <a:ext cx="1627920" cy="152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066680" y="25822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447920" y="25909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581280" y="1600200"/>
              <a:ext cx="1371600" cy="1755000"/>
              <a:chOff x="3581280" y="1600200"/>
              <a:chExt cx="1371600" cy="17550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581280" y="1600200"/>
                <a:ext cx="1371600" cy="1295280"/>
                <a:chOff x="3581280" y="1600200"/>
                <a:chExt cx="1371600" cy="1295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81280" y="1600200"/>
                  <a:ext cx="0" cy="1295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81280" y="1676160"/>
                  <a:ext cx="1371600" cy="106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038480" y="28954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019920" y="1523520"/>
              <a:ext cx="2057400" cy="1816200"/>
              <a:chOff x="6019920" y="1523520"/>
              <a:chExt cx="2057400" cy="181620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6019920" y="1523520"/>
                <a:ext cx="2057400" cy="1143360"/>
                <a:chOff x="6019920" y="1523520"/>
                <a:chExt cx="2057400" cy="1143360"/>
              </a:xfrm>
            </p:grpSpPr>
            <p:sp>
              <p:nvSpPr>
                <p:cNvPr id="145" name=""/>
                <p:cNvSpPr/>
                <p:nvPr/>
              </p:nvSpPr>
              <p:spPr>
                <a:xfrm flipV="1">
                  <a:off x="6019920" y="1523520"/>
                  <a:ext cx="137160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2666880"/>
                  <a:ext cx="198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705720" y="28191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066680" y="4114800"/>
              <a:ext cx="1600200" cy="1679040"/>
              <a:chOff x="1066680" y="4114800"/>
              <a:chExt cx="1600200" cy="167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066680" y="411480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4114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3880" y="5334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869720" y="2584440"/>
              <a:ext cx="3176280" cy="3657960"/>
              <a:chOff x="4869720" y="2584440"/>
              <a:chExt cx="3176280" cy="36579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4869720" y="2584440"/>
                <a:ext cx="3176280" cy="3657960"/>
                <a:chOff x="4869720" y="2584440"/>
                <a:chExt cx="3176280" cy="3657960"/>
              </a:xfrm>
            </p:grpSpPr>
            <p:sp>
              <p:nvSpPr>
                <p:cNvPr id="154" name=""/>
                <p:cNvSpPr/>
                <p:nvPr/>
              </p:nvSpPr>
              <p:spPr>
                <a:xfrm flipV="1" rot="11682600">
                  <a:off x="5546520" y="4003200"/>
                  <a:ext cx="228528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3135000">
                  <a:off x="5209560" y="3103560"/>
                  <a:ext cx="228564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172200" y="5257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14479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角的各部份名称及角的表示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286000"/>
            <a:ext cx="1828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429000" y="1295280"/>
            <a:ext cx="1447920" cy="99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295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07200" y="2819520"/>
            <a:ext cx="3364200" cy="520560"/>
            <a:chOff x="907200" y="2819520"/>
            <a:chExt cx="3364200" cy="520560"/>
          </a:xfrm>
        </p:grpSpPr>
        <p:sp>
          <p:nvSpPr>
            <p:cNvPr id="171" name=""/>
            <p:cNvSpPr/>
            <p:nvPr/>
          </p:nvSpPr>
          <p:spPr>
            <a:xfrm>
              <a:off x="213372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7200" y="2819520"/>
              <a:ext cx="33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角通常用符号“    ”表示，读作</a:t>
              </a: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---</a:t>
              </a: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3505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几个角，可分别编上号（在角内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52480" y="4495320"/>
            <a:ext cx="1295640" cy="990720"/>
            <a:chOff x="1752480" y="4495320"/>
            <a:chExt cx="1295640" cy="990720"/>
          </a:xfrm>
        </p:grpSpPr>
        <p:sp>
          <p:nvSpPr>
            <p:cNvPr id="175" name=""/>
            <p:cNvSpPr/>
            <p:nvPr/>
          </p:nvSpPr>
          <p:spPr>
            <a:xfrm>
              <a:off x="1752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2480" y="5257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752480" y="4495320"/>
              <a:ext cx="10670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440" y="5029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4876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57240" y="4723920"/>
            <a:ext cx="2134080" cy="1023120"/>
            <a:chOff x="3657240" y="4723920"/>
            <a:chExt cx="2134080" cy="1023120"/>
          </a:xfrm>
        </p:grpSpPr>
        <p:sp>
          <p:nvSpPr>
            <p:cNvPr id="181" name=""/>
            <p:cNvSpPr/>
            <p:nvPr/>
          </p:nvSpPr>
          <p:spPr>
            <a:xfrm rot="20676600">
              <a:off x="4150800" y="52174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6040" y="5333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657240" y="4723920"/>
              <a:ext cx="83844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6040" y="5333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80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48520" y="4038480"/>
            <a:ext cx="1904760" cy="1676160"/>
            <a:chOff x="6248520" y="4038480"/>
            <a:chExt cx="1904760" cy="1676160"/>
          </a:xfrm>
        </p:grpSpPr>
        <p:sp>
          <p:nvSpPr>
            <p:cNvPr id="187" name=""/>
            <p:cNvSpPr/>
            <p:nvPr/>
          </p:nvSpPr>
          <p:spPr>
            <a:xfrm>
              <a:off x="6248520" y="525780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3080" y="54864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53080" y="40384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752480" y="5486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记作：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注意与小于号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的分别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55:08Z</dcterms:created>
  <dc:creator>ww</dc:creator>
  <dc:description/>
  <dc:language>en-US</dc:language>
  <cp:lastModifiedBy>wang</cp:lastModifiedBy>
  <dcterms:modified xsi:type="dcterms:W3CDTF">2004-02-01T09:27:34Z</dcterms:modified>
  <cp:revision>17</cp:revision>
  <dc:subject/>
  <dc:title>直线、射线、线段和角的认识</dc:title>
</cp:coreProperties>
</file>