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wmf" ContentType="image/x-wmf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4BE1-364A-458C-8801-A2C5B70EFB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9BB-7D28-4B6C-9CE3-4A8EA182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228-8F61-4BE8-B301-A00CF7A2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78E-D044-4E65-8CC8-AE15C137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5C3-097A-43DF-B00C-052627FC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372-B06A-4A80-8859-5E011A7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DD1-80F1-4636-BC42-6B2C4EB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AE2-0515-42F2-B6A8-283B911C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2FC-64B1-431B-A4E7-94A5EFDD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B2A-AFD0-4FDA-A266-0D05412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14F-D97A-43D5-A419-46ED40F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FDC-6600-406D-8DA5-C6FBE8F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7A0-9AC2-452C-8B91-01F94D7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98E-2DDB-47FB-99EA-9BC506C0E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2421000"/>
            <a:ext cx="576108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角的初步认识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98100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16200" y="83664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那些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514600"/>
            <a:ext cx="38124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914400" y="365724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514600"/>
            <a:ext cx="76212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34340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590920"/>
            <a:ext cx="1359000" cy="1866960"/>
          </a:xfrm>
          <a:custGeom>
            <a:avLst/>
            <a:gdLst/>
            <a:ahLst/>
            <a:rect l="l" t="t" r="r" b="b"/>
            <a:pathLst>
              <a:path w="856" h="1176">
                <a:moveTo>
                  <a:pt x="616" y="0"/>
                </a:moveTo>
                <a:cubicBezTo>
                  <a:pt x="308" y="420"/>
                  <a:pt x="0" y="840"/>
                  <a:pt x="40" y="1008"/>
                </a:cubicBezTo>
                <a:cubicBezTo>
                  <a:pt x="80" y="1176"/>
                  <a:pt x="720" y="1008"/>
                  <a:pt x="856" y="100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438280"/>
            <a:ext cx="11430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352680"/>
            <a:ext cx="16761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7242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cc00"/>
                </a:solidFill>
                <a:latin typeface="隶书"/>
                <a:ea typeface="隶书"/>
              </a:rPr>
              <a:t>是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不是</a:t>
            </a:r>
            <a:r>
              <a:rPr b="0" lang="zh-CN" sz="4800" spc="-1" strike="noStrike">
                <a:solidFill>
                  <a:srgbClr val="00cc00"/>
                </a:solidFill>
                <a:latin typeface="隶书"/>
                <a:ea typeface="隶书"/>
              </a:rPr>
              <a:t>    是     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838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仔细看看，下面的图形有几个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2-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49528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有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个角，你答对了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81280"/>
            <a:ext cx="68580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2286000"/>
            <a:ext cx="762120" cy="76212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657600"/>
            <a:ext cx="76212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838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仔细看看，下面的图形有几个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18148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有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个角，你答对了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581280"/>
            <a:ext cx="68580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133720"/>
            <a:ext cx="762120" cy="76176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657600"/>
            <a:ext cx="76212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438280"/>
            <a:ext cx="762120" cy="76212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j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743200"/>
            <a:ext cx="2519640" cy="1917720"/>
          </a:xfrm>
          <a:prstGeom prst="rect">
            <a:avLst/>
          </a:prstGeom>
          <a:ln w="0">
            <a:noFill/>
          </a:ln>
        </p:spPr>
      </p:pic>
      <p:pic>
        <p:nvPicPr>
          <p:cNvPr id="96" name="sj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624720" y="2666880"/>
            <a:ext cx="2519280" cy="191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066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  <a:ea typeface="黑体"/>
              </a:rPr>
              <a:t>下面两个角，哪个大，哪个小？用三角板比比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294920" y="327672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19112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029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这两个角是一样大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762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4-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3657600"/>
            <a:ext cx="380880" cy="457200"/>
          </a:xfrm>
          <a:custGeom>
            <a:avLst/>
            <a:gdLst>
              <a:gd name="textAreaLeft" fmla="*/ 0 w 380880"/>
              <a:gd name="textAreaRight" fmla="*/ 381240 w 380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38862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4886" y="8743"/>
                </a:moveTo>
                <a:arcTo wR="-6261" hR="-6261" stAng="-9649283" swAng="-10135349"/>
                <a:lnTo>
                  <a:pt x="1471" y="5358"/>
                </a:lnTo>
                <a:arcTo wR="10800" hR="10800" stAng="-8984632" swAng="10135349"/>
                <a:lnTo>
                  <a:pt x="23551" y="15235"/>
                </a:lnTo>
                <a:lnTo>
                  <a:pt x="17224" y="18296"/>
                </a:lnTo>
                <a:lnTo>
                  <a:pt x="14163" y="1197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276720"/>
            <a:ext cx="1447920" cy="12952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2606" y="6565"/>
                </a:moveTo>
                <a:arcTo wR="-9224" hR="-9224" stAng="-9160263" swAng="-11092566"/>
                <a:lnTo>
                  <a:pt x="819" y="6675"/>
                </a:lnTo>
                <a:arcTo wR="10800" hR="10800" stAng="-9452829" swAng="11092566"/>
                <a:lnTo>
                  <a:pt x="22793" y="16998"/>
                </a:lnTo>
                <a:lnTo>
                  <a:pt x="18093" y="18495"/>
                </a:lnTo>
                <a:lnTo>
                  <a:pt x="16596" y="1379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4-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40384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0292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7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里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038480"/>
            <a:ext cx="228600" cy="30492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7432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743200"/>
            <a:ext cx="304560" cy="38088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1447920" cy="38124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0384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038480"/>
            <a:ext cx="304920" cy="38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4-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9520" y="426708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3341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里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9810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412" y="3600"/>
                </a:moveTo>
                <a:arcTo wR="-8550" hR="-8550" stAng="-3441491" swAng="-18158509"/>
                <a:lnTo>
                  <a:pt x="0" y="10800"/>
                </a:lnTo>
                <a:arcTo wR="10800" hR="10800" stAng="10800000" swAng="18158509"/>
                <a:lnTo>
                  <a:pt x="3518" y="22168"/>
                </a:lnTo>
                <a:lnTo>
                  <a:pt x="2361" y="16884"/>
                </a:lnTo>
                <a:lnTo>
                  <a:pt x="7645" y="15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057400"/>
            <a:ext cx="304560" cy="38088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666880"/>
            <a:ext cx="381240" cy="381240"/>
          </a:xfrm>
          <a:custGeom>
            <a:avLst/>
            <a:gdLst>
              <a:gd name="textAreaLeft" fmla="*/ 51120 w 381240"/>
              <a:gd name="textAreaRight" fmla="*/ 330120 w 38124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43434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00400"/>
            <a:ext cx="381240" cy="380880"/>
          </a:xfrm>
          <a:custGeom>
            <a:avLst/>
            <a:gdLst>
              <a:gd name="textAreaLeft" fmla="*/ 51120 w 381240"/>
              <a:gd name="textAreaRight" fmla="*/ 330120 w 38124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8954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8954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5-1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5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lockX001" descr=""/>
          <p:cNvPicPr/>
          <p:nvPr/>
        </p:nvPicPr>
        <p:blipFill>
          <a:blip r:embed="rId1"/>
          <a:stretch/>
        </p:blipFill>
        <p:spPr>
          <a:xfrm>
            <a:off x="3081240" y="1938240"/>
            <a:ext cx="2981520" cy="298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an1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5053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3809880"/>
            <a:ext cx="35053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828800"/>
            <a:ext cx="1600200" cy="243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49528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2767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7304_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-3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E01832_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-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5053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E01832_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5:19:00Z</dcterms:created>
  <dc:creator>ww</dc:creator>
  <dc:description/>
  <dc:language>en-US</dc:language>
  <cp:lastModifiedBy>wang</cp:lastModifiedBy>
  <dcterms:modified xsi:type="dcterms:W3CDTF">2004-02-02T02:55:49Z</dcterms:modified>
  <cp:revision>27</cp:revision>
  <dc:subject/>
  <dc:title>PowerPoint 演示文稿</dc:title>
</cp:coreProperties>
</file>