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laser.wav" ContentType="audio/x-wav"/>
  <Override PartName="/ppt/media/chimes.wav" ContentType="audio/x-wav"/>
  <Override PartName="/ppt/media/image2.png" ContentType="image/png"/>
  <Override PartName="/ppt/media/drumroll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AAC6-36DD-402A-97E6-49F6D6D3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F24D-270C-400A-BDCC-540C0E0F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6D8D-8040-46A5-8DD1-8157BAD2C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E9D7-1F01-48D5-B22D-8AFB9BE4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50D4-471B-47E2-8913-B664651F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F8B6-2E7F-439F-A216-9E216EA3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BD38-76D3-4BCC-B282-363B4AEE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1430-3424-447E-A2BE-1AACB2A5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0D75-6A95-41D8-842D-035E99AE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D996-C303-4B73-B3FD-4C96FEB4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8F86-AFC6-4B77-946C-317DD82A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9FC3-1D6B-4FA4-BE24-16975485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C103-56CD-4397-AD54-AFC9B9A7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A584-4F0F-40D6-ADB4-FA9D3CD9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7D04-126E-454C-82AD-F390DD16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8433-D28F-476F-8733-AC97AD53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B011-0103-4DE1-B146-198B2EDB6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AE00-BEDA-4C35-AB80-E2C67D31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C402-2E10-48E1-A97B-5E0A33CC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A2F9-879C-41BC-B93E-9F5E1D71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E452-2532-45F5-B12B-AE20FD41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8904-04B1-43FA-815C-470724F5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45F5-F6C2-45DC-8DDD-09C44F7C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84A9-5F07-4AB9-9272-5B9D2748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3D85-02DF-472E-A658-353C7EE2B84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2002-C19B-4890-8111-24CEDACB78C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24050;&#24405;&#19979;&#30340;&#22768;&#38899;" TargetMode="External"/><Relationship Id="rId2" Type="http://schemas.microsoft.com/office/2007/relationships/media" Target="file:///tmp/home/.config/libreoffice/4/user/gallery/&#24050;&#24405;&#19979;&#30340;&#22768;&#38899;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24050;&#24405;&#19979;&#30340;&#22768;&#38899;" TargetMode="External"/><Relationship Id="rId2" Type="http://schemas.microsoft.com/office/2007/relationships/media" Target="file:///tmp/home/.config/libreoffice/4/user/gallery/&#24050;&#24405;&#19979;&#30340;&#22768;&#38899;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24050;&#24405;&#19979;&#30340;&#22768;&#38899;" TargetMode="External"/><Relationship Id="rId2" Type="http://schemas.microsoft.com/office/2007/relationships/media" Target="file:///tmp/home/.config/libreoffice/4/user/gallery/&#24050;&#24405;&#19979;&#30340;&#22768;&#38899;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24050;&#24405;&#19979;&#30340;&#22768;&#38899;" TargetMode="External"/><Relationship Id="rId2" Type="http://schemas.microsoft.com/office/2007/relationships/media" Target="file:///tmp/home/.config/libreoffice/4/user/gallery/&#24050;&#24405;&#19979;&#30340;&#22768;&#38899;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24050;&#24405;&#19979;&#30340;&#22768;&#38899;" TargetMode="External"/><Relationship Id="rId2" Type="http://schemas.microsoft.com/office/2007/relationships/media" Target="file:///tmp/home/.config/libreoffice/4/user/gallery/&#24050;&#24405;&#19979;&#30340;&#22768;&#38899;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24050;&#24405;&#19979;&#30340;&#22768;&#38899;" TargetMode="External"/><Relationship Id="rId2" Type="http://schemas.microsoft.com/office/2007/relationships/media" Target="file:///tmp/home/.config/libreoffice/4/user/gallery/&#24050;&#24405;&#19979;&#30340;&#22768;&#38899;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304920" y="3809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215800" y="35892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215800" y="389412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19320" y="1905120"/>
            <a:ext cx="7391160" cy="2306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角的认识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50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 flipH="1">
            <a:off x="2133360" y="2514600"/>
            <a:ext cx="236196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657600" y="2514600"/>
            <a:ext cx="838080" cy="3505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3809880"/>
            <a:ext cx="838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91120" y="1828800"/>
            <a:ext cx="838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81280" y="5486400"/>
            <a:ext cx="838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600200" y="510552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4648320"/>
            <a:ext cx="838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96080" y="4343400"/>
            <a:ext cx="838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8" idx="0"/>
          </p:cNvCxnSpPr>
          <p:nvPr/>
        </p:nvCxnSpPr>
        <p:spPr>
          <a:xfrm flipV="1" rot="16200000">
            <a:off x="3694320" y="1257480"/>
            <a:ext cx="1905840" cy="5790600"/>
          </a:xfrm>
          <a:prstGeom prst="curved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1219320" y="2590920"/>
            <a:ext cx="838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d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657600" y="1143000"/>
            <a:ext cx="1143000" cy="4648320"/>
          </a:xfrm>
          <a:prstGeom prst="flowChartDelay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038480" y="5638680"/>
            <a:ext cx="838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533520"/>
            <a:ext cx="838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71800" y="5638680"/>
            <a:ext cx="838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71800" y="609480"/>
            <a:ext cx="838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d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438280" y="4724280"/>
            <a:ext cx="3886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438280" y="3048120"/>
            <a:ext cx="4038840" cy="1676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438280" y="1828440"/>
            <a:ext cx="2514600" cy="2895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4419720"/>
            <a:ext cx="838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00600" y="1295280"/>
            <a:ext cx="838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324480" y="2590920"/>
            <a:ext cx="838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48520" y="4495680"/>
            <a:ext cx="838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438280" y="4724280"/>
            <a:ext cx="3886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2438280" y="1447560"/>
            <a:ext cx="1600200" cy="32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1219320" y="1600200"/>
            <a:ext cx="1218960" cy="312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76520" y="4419720"/>
            <a:ext cx="838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066680"/>
            <a:ext cx="838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914400"/>
            <a:ext cx="838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38680" y="2362320"/>
            <a:ext cx="838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438280" y="2819160"/>
            <a:ext cx="3276720" cy="1904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72200" y="4267080"/>
            <a:ext cx="838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6386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386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386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6386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-304920" y="4343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386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4495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386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386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386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3962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386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4114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活动要求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在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号信封里找出有角的图形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看一看，摸一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小组成员互相说一说角的特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457200"/>
            <a:ext cx="525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华文彩云"/>
              </a:rPr>
              <a:t>找一找，议一议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386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386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386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6386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386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386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6386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4267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386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3962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386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100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814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4832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34340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384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65760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71600" y="4343400"/>
            <a:ext cx="3886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371600" y="1143000"/>
            <a:ext cx="3429000" cy="3200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295280" y="4343400"/>
            <a:ext cx="117360" cy="57240"/>
            <a:chOff x="1295280" y="4343400"/>
            <a:chExt cx="117360" cy="57240"/>
          </a:xfrm>
        </p:grpSpPr>
        <p:sp>
          <p:nvSpPr>
            <p:cNvPr id="96" name=""/>
            <p:cNvSpPr/>
            <p:nvPr/>
          </p:nvSpPr>
          <p:spPr>
            <a:xfrm flipV="1">
              <a:off x="1336680" y="4367520"/>
              <a:ext cx="75960" cy="432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95280" y="434340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cubicBezTo>
                    <a:pt x="13" y="8"/>
                    <a:pt x="0" y="15"/>
                    <a:pt x="2" y="24"/>
                  </a:cubicBezTo>
                  <a:cubicBezTo>
                    <a:pt x="4" y="32"/>
                    <a:pt x="18" y="36"/>
                    <a:pt x="26" y="32"/>
                  </a:cubicBezTo>
                  <a:cubicBezTo>
                    <a:pt x="34" y="28"/>
                    <a:pt x="36" y="16"/>
                    <a:pt x="34" y="8"/>
                  </a:cubicBezTo>
                  <a:cubicBezTo>
                    <a:pt x="33" y="2"/>
                    <a:pt x="23" y="3"/>
                    <a:pt x="18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1520" bIns="11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962520" y="4343400"/>
            <a:ext cx="5715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657600" y="-533520"/>
            <a:ext cx="2971800" cy="2743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480060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从一点沿一个方向无限延长的线叫＿＿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4267080"/>
            <a:ext cx="17524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彩云"/>
              </a:rPr>
              <a:t>射线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0040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81952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4382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05740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67652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99072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9072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6386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1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3429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角的大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与两边叉开的大小有关系，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叉开越大，角就越大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叉开越小，角就越小；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与边画的长度没有关系。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1" name="drumroll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631960" y="4343400"/>
            <a:ext cx="3886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631960" y="1676520"/>
            <a:ext cx="2895840" cy="266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590920" y="4317840"/>
            <a:ext cx="117360" cy="57240"/>
            <a:chOff x="2590920" y="4317840"/>
            <a:chExt cx="117360" cy="57240"/>
          </a:xfrm>
        </p:grpSpPr>
        <p:sp>
          <p:nvSpPr>
            <p:cNvPr id="105" name=""/>
            <p:cNvSpPr/>
            <p:nvPr/>
          </p:nvSpPr>
          <p:spPr>
            <a:xfrm flipV="1">
              <a:off x="2632320" y="4341960"/>
              <a:ext cx="75960" cy="432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90920" y="431784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cubicBezTo>
                    <a:pt x="13" y="8"/>
                    <a:pt x="0" y="15"/>
                    <a:pt x="2" y="24"/>
                  </a:cubicBezTo>
                  <a:cubicBezTo>
                    <a:pt x="4" y="32"/>
                    <a:pt x="18" y="36"/>
                    <a:pt x="26" y="32"/>
                  </a:cubicBezTo>
                  <a:cubicBezTo>
                    <a:pt x="34" y="28"/>
                    <a:pt x="36" y="16"/>
                    <a:pt x="34" y="8"/>
                  </a:cubicBezTo>
                  <a:cubicBezTo>
                    <a:pt x="33" y="2"/>
                    <a:pt x="23" y="3"/>
                    <a:pt x="18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1520" bIns="11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77580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华文彩云"/>
              </a:rPr>
              <a:t>看一看，数一数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活动要求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先观察，再讨论：长方体中有多少个角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任意标出其中几个角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弄清楚这几个角的顶点和边在哪里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活动要求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5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500" spc="-1" strike="noStrike">
                <a:solidFill>
                  <a:srgbClr val="ffffff"/>
                </a:solidFill>
                <a:latin typeface="宋体"/>
              </a:rPr>
              <a:t>、猜一猜：剪去一个角，还剩几个角？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5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500" spc="-1" strike="noStrike">
                <a:solidFill>
                  <a:srgbClr val="ffffff"/>
                </a:solidFill>
                <a:latin typeface="宋体"/>
              </a:rPr>
              <a:t>、剪一剪，看有几种不同的结果？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5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500" spc="-1" strike="noStrike">
                <a:solidFill>
                  <a:srgbClr val="ffffff"/>
                </a:solidFill>
                <a:latin typeface="宋体"/>
              </a:rPr>
              <a:t>、同组交流，准备汇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00200" y="304920"/>
            <a:ext cx="5943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华文彩云"/>
              </a:rPr>
              <a:t>猜一猜，剪一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631960" y="4343400"/>
            <a:ext cx="3886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90920" y="4317840"/>
            <a:ext cx="117360" cy="57240"/>
            <a:chOff x="2590920" y="4317840"/>
            <a:chExt cx="117360" cy="57240"/>
          </a:xfrm>
        </p:grpSpPr>
        <p:sp>
          <p:nvSpPr>
            <p:cNvPr id="109" name=""/>
            <p:cNvSpPr/>
            <p:nvPr/>
          </p:nvSpPr>
          <p:spPr>
            <a:xfrm flipV="1">
              <a:off x="2632320" y="4341960"/>
              <a:ext cx="75960" cy="4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90920" y="431784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cubicBezTo>
                    <a:pt x="13" y="8"/>
                    <a:pt x="0" y="15"/>
                    <a:pt x="2" y="24"/>
                  </a:cubicBezTo>
                  <a:cubicBezTo>
                    <a:pt x="4" y="32"/>
                    <a:pt x="18" y="36"/>
                    <a:pt x="26" y="32"/>
                  </a:cubicBezTo>
                  <a:cubicBezTo>
                    <a:pt x="34" y="28"/>
                    <a:pt x="36" y="16"/>
                    <a:pt x="34" y="8"/>
                  </a:cubicBezTo>
                  <a:cubicBezTo>
                    <a:pt x="33" y="2"/>
                    <a:pt x="23" y="3"/>
                    <a:pt x="18" y="0"/>
                  </a:cubicBezTo>
                  <a:close/>
                </a:path>
              </a:pathLst>
            </a:custGeom>
            <a:solidFill>
              <a:srgbClr val="ff0033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1520" bIns="11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286000" y="4419720"/>
            <a:ext cx="5045040" cy="380880"/>
            <a:chOff x="2286000" y="4419720"/>
            <a:chExt cx="5045040" cy="380880"/>
          </a:xfrm>
        </p:grpSpPr>
        <p:grpSp>
          <p:nvGrpSpPr>
            <p:cNvPr id="112" name=""/>
            <p:cNvGrpSpPr/>
            <p:nvPr/>
          </p:nvGrpSpPr>
          <p:grpSpPr>
            <a:xfrm>
              <a:off x="2301840" y="4419720"/>
              <a:ext cx="4952880" cy="380880"/>
              <a:chOff x="2301840" y="4419720"/>
              <a:chExt cx="495288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2301840" y="4419720"/>
                <a:ext cx="4952880" cy="3808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3778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6064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8350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0636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7494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5208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922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4352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2066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9780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638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924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1210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3496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5782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212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926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2640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0354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068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1784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9498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2286000" y="4572000"/>
              <a:ext cx="18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14600" y="4572000"/>
              <a:ext cx="18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43200" y="4572000"/>
              <a:ext cx="18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71800" y="4572000"/>
              <a:ext cx="18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00400" y="4572000"/>
              <a:ext cx="18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29000" y="4572000"/>
              <a:ext cx="18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57600" y="4572000"/>
              <a:ext cx="18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86200" y="4572000"/>
              <a:ext cx="18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14800" y="4572000"/>
              <a:ext cx="18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82920" y="4572000"/>
              <a:ext cx="32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11520" y="457200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40120" y="457200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68720" y="457200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97320" y="457200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25920" y="457200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54520" y="457200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83120" y="457200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11720" y="457200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40320" y="457200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68920" y="457200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2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97520" y="457200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2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26120" y="457200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631960" y="4343400"/>
            <a:ext cx="3886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631960" y="1676520"/>
            <a:ext cx="2895840" cy="266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590920" y="4317840"/>
            <a:ext cx="117360" cy="57240"/>
            <a:chOff x="2590920" y="4317840"/>
            <a:chExt cx="117360" cy="57240"/>
          </a:xfrm>
        </p:grpSpPr>
        <p:sp>
          <p:nvSpPr>
            <p:cNvPr id="161" name=""/>
            <p:cNvSpPr/>
            <p:nvPr/>
          </p:nvSpPr>
          <p:spPr>
            <a:xfrm flipV="1">
              <a:off x="2632320" y="4341960"/>
              <a:ext cx="75960" cy="4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90920" y="431784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cubicBezTo>
                    <a:pt x="13" y="8"/>
                    <a:pt x="0" y="15"/>
                    <a:pt x="2" y="24"/>
                  </a:cubicBezTo>
                  <a:cubicBezTo>
                    <a:pt x="4" y="32"/>
                    <a:pt x="18" y="36"/>
                    <a:pt x="26" y="32"/>
                  </a:cubicBezTo>
                  <a:cubicBezTo>
                    <a:pt x="34" y="28"/>
                    <a:pt x="36" y="16"/>
                    <a:pt x="34" y="8"/>
                  </a:cubicBezTo>
                  <a:cubicBezTo>
                    <a:pt x="33" y="2"/>
                    <a:pt x="23" y="3"/>
                    <a:pt x="18" y="0"/>
                  </a:cubicBezTo>
                  <a:close/>
                </a:path>
              </a:pathLst>
            </a:custGeom>
            <a:solidFill>
              <a:srgbClr val="ff0033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1520" bIns="11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452320" y="1215360"/>
            <a:ext cx="3953520" cy="3631320"/>
            <a:chOff x="2452320" y="1215360"/>
            <a:chExt cx="3953520" cy="3631320"/>
          </a:xfrm>
        </p:grpSpPr>
        <p:grpSp>
          <p:nvGrpSpPr>
            <p:cNvPr id="164" name=""/>
            <p:cNvGrpSpPr/>
            <p:nvPr/>
          </p:nvGrpSpPr>
          <p:grpSpPr>
            <a:xfrm>
              <a:off x="2452320" y="1215360"/>
              <a:ext cx="3905640" cy="3630240"/>
              <a:chOff x="2452320" y="1215360"/>
              <a:chExt cx="3905640" cy="3630240"/>
            </a:xfrm>
          </p:grpSpPr>
          <p:sp>
            <p:nvSpPr>
              <p:cNvPr id="165" name=""/>
              <p:cNvSpPr/>
              <p:nvPr/>
            </p:nvSpPr>
            <p:spPr>
              <a:xfrm rot="19046400">
                <a:off x="1928520" y="2839680"/>
                <a:ext cx="4952880" cy="3808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08480" y="4513680"/>
                <a:ext cx="15444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676960" y="4359240"/>
                <a:ext cx="15408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845080" y="4204440"/>
                <a:ext cx="15444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013560" y="4050000"/>
                <a:ext cx="15444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518640" y="3585960"/>
                <a:ext cx="15444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350160" y="3740760"/>
                <a:ext cx="15444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182040" y="3895200"/>
                <a:ext cx="15444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023720" y="3122280"/>
                <a:ext cx="15444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855600" y="3276720"/>
                <a:ext cx="15408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687120" y="3431520"/>
                <a:ext cx="15444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192200" y="2967480"/>
                <a:ext cx="15444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60680" y="2813040"/>
                <a:ext cx="15444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529160" y="2658240"/>
                <a:ext cx="15408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697280" y="2503800"/>
                <a:ext cx="15444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865760" y="2349000"/>
                <a:ext cx="15444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07800" y="1576080"/>
                <a:ext cx="15408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539320" y="1730520"/>
                <a:ext cx="15444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370840" y="1885320"/>
                <a:ext cx="15444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202360" y="2039760"/>
                <a:ext cx="15444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034240" y="2194560"/>
                <a:ext cx="15444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044400" y="1266840"/>
                <a:ext cx="15444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875920" y="1421280"/>
                <a:ext cx="15444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 rot="19046400">
              <a:off x="2592360" y="4597200"/>
              <a:ext cx="18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9046400">
              <a:off x="2760840" y="4442760"/>
              <a:ext cx="18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9046400">
              <a:off x="2929320" y="4287960"/>
              <a:ext cx="18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9046400">
              <a:off x="3097440" y="4133520"/>
              <a:ext cx="18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9046400">
              <a:off x="3265920" y="3978720"/>
              <a:ext cx="18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9046400">
              <a:off x="3434400" y="3824280"/>
              <a:ext cx="18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9046400">
              <a:off x="3602520" y="3669480"/>
              <a:ext cx="18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9046400">
              <a:off x="3771000" y="3515040"/>
              <a:ext cx="18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9046400">
              <a:off x="3939480" y="3360240"/>
              <a:ext cx="18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9046400">
              <a:off x="4045320" y="3200040"/>
              <a:ext cx="32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9046400">
              <a:off x="4215960" y="305100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9046400">
              <a:off x="4384080" y="289620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9046400">
              <a:off x="4552560" y="274176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9046400">
              <a:off x="4721040" y="258696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9046400">
              <a:off x="4889520" y="243252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9046400">
              <a:off x="5057640" y="227772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9046400">
              <a:off x="5226120" y="212328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9046400">
              <a:off x="5394600" y="196848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9046400">
              <a:off x="5562720" y="181404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9046400">
              <a:off x="5731200" y="165960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2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9046400">
              <a:off x="5899680" y="150480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2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9046400">
              <a:off x="6068160" y="135036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631960" y="4343400"/>
            <a:ext cx="3886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631960" y="1676520"/>
            <a:ext cx="2895840" cy="266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590920" y="4317840"/>
            <a:ext cx="117360" cy="57240"/>
            <a:chOff x="2590920" y="4317840"/>
            <a:chExt cx="117360" cy="57240"/>
          </a:xfrm>
        </p:grpSpPr>
        <p:sp>
          <p:nvSpPr>
            <p:cNvPr id="213" name=""/>
            <p:cNvSpPr/>
            <p:nvPr/>
          </p:nvSpPr>
          <p:spPr>
            <a:xfrm flipV="1">
              <a:off x="2632320" y="4341960"/>
              <a:ext cx="75960" cy="4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90920" y="431784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cubicBezTo>
                    <a:pt x="13" y="8"/>
                    <a:pt x="0" y="15"/>
                    <a:pt x="2" y="24"/>
                  </a:cubicBezTo>
                  <a:cubicBezTo>
                    <a:pt x="4" y="32"/>
                    <a:pt x="18" y="36"/>
                    <a:pt x="26" y="32"/>
                  </a:cubicBezTo>
                  <a:cubicBezTo>
                    <a:pt x="34" y="28"/>
                    <a:pt x="36" y="16"/>
                    <a:pt x="34" y="8"/>
                  </a:cubicBezTo>
                  <a:cubicBezTo>
                    <a:pt x="33" y="2"/>
                    <a:pt x="23" y="3"/>
                    <a:pt x="18" y="0"/>
                  </a:cubicBezTo>
                  <a:close/>
                </a:path>
              </a:pathLst>
            </a:custGeom>
            <a:solidFill>
              <a:srgbClr val="ff0033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1520" bIns="11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70020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下列图形中哪些有角？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362320" y="2971800"/>
            <a:ext cx="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362320" y="2819520"/>
            <a:ext cx="1828800" cy="13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4800600"/>
            <a:ext cx="3200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114800"/>
            <a:ext cx="30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33"/>
                </a:solidFill>
                <a:latin typeface="cajcd fnta0"/>
                <a:ea typeface="cajcd fnta0"/>
              </a:rPr>
              <a:t>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3581280"/>
            <a:ext cx="838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2133720"/>
            <a:ext cx="838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4648320"/>
            <a:ext cx="838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4648320"/>
            <a:ext cx="838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0" y="4800600"/>
            <a:ext cx="76320" cy="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62320" y="4191120"/>
            <a:ext cx="75960" cy="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209680" y="2362320"/>
            <a:ext cx="228600" cy="1676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29000" y="2666880"/>
            <a:ext cx="137160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6" idx="0"/>
            <a:endCxn id="227" idx="0"/>
          </p:cNvCxnSpPr>
          <p:nvPr/>
        </p:nvCxnSpPr>
        <p:spPr>
          <a:xfrm flipH="1" rot="16200000">
            <a:off x="2666880" y="3809520"/>
            <a:ext cx="534240" cy="991440"/>
          </a:xfrm>
          <a:prstGeom prst="curvedConnector5">
            <a:avLst>
              <a:gd name="adj1" fmla="val 142818"/>
              <a:gd name="adj2" fmla="val 49981"/>
              <a:gd name="adj3" fmla="val 142818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229" name=""/>
          <p:cNvSpPr/>
          <p:nvPr/>
        </p:nvSpPr>
        <p:spPr>
          <a:xfrm>
            <a:off x="1600200" y="1905120"/>
            <a:ext cx="838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3962520"/>
            <a:ext cx="838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52680" y="4267080"/>
            <a:ext cx="838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24280" y="2514600"/>
            <a:ext cx="838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5T09:13:04Z</dcterms:created>
  <dc:creator>ww</dc:creator>
  <dc:description/>
  <dc:language>en-US</dc:language>
  <cp:lastModifiedBy>wang</cp:lastModifiedBy>
  <dcterms:modified xsi:type="dcterms:W3CDTF">2004-02-12T01:15:28Z</dcterms:modified>
  <cp:revision>9</cp:revision>
  <dc:subject/>
  <dc:title>活动一：找一找，议一议</dc:title>
</cp:coreProperties>
</file>