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翻书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7772400" y="6400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610480" y="4343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533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228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362320" y="2205000"/>
            <a:ext cx="46479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隶书"/>
              </a:rPr>
              <a:t>轴对称图形</a:t>
            </a:r>
            <a:endParaRPr b="0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95840" y="114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观察下面的图形。这些图形有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111" descr=""/>
          <p:cNvPicPr/>
          <p:nvPr/>
        </p:nvPicPr>
        <p:blipFill>
          <a:blip r:embed="rId1"/>
          <a:srcRect l="0" t="24708" r="0" b="0"/>
          <a:stretch/>
        </p:blipFill>
        <p:spPr>
          <a:xfrm>
            <a:off x="1143000" y="2438280"/>
            <a:ext cx="7086600" cy="24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72680" y="91440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把一张纸对折，在折好的一侧画出图形，用剪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剪下来，再把纸打开，看一看能得到一个什么样的图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1080" y="806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2" descr=""/>
          <p:cNvPicPr/>
          <p:nvPr/>
        </p:nvPicPr>
        <p:blipFill>
          <a:blip r:embed="rId1"/>
          <a:srcRect l="10883" t="29587" r="10204" b="32953"/>
          <a:stretch/>
        </p:blipFill>
        <p:spPr>
          <a:xfrm>
            <a:off x="762120" y="3090960"/>
            <a:ext cx="7543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68680" y="762120"/>
            <a:ext cx="3774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图形沿着一条直线对折，两侧的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够完全重合，这个图形就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轴对称图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230040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痕所在的这条直线叫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对称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2" descr=""/>
          <p:cNvPicPr/>
          <p:nvPr/>
        </p:nvPicPr>
        <p:blipFill>
          <a:blip r:embed="rId1"/>
          <a:srcRect l="70675" t="29587" r="10204" b="32953"/>
          <a:stretch/>
        </p:blipFill>
        <p:spPr>
          <a:xfrm>
            <a:off x="3124080" y="3352680"/>
            <a:ext cx="203040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2428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4120" y="474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36576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4880" y="33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1066680"/>
            <a:ext cx="1143000" cy="53352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062080" y="1062000"/>
            <a:ext cx="524160" cy="5335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6600" y="20574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图形是不是轴对称图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22" descr=""/>
          <p:cNvPicPr/>
          <p:nvPr/>
        </p:nvPicPr>
        <p:blipFill>
          <a:blip r:embed="rId1"/>
          <a:srcRect l="6445" t="19843" r="0" b="4792"/>
          <a:stretch/>
        </p:blipFill>
        <p:spPr>
          <a:xfrm>
            <a:off x="1600200" y="3048120"/>
            <a:ext cx="6248520" cy="204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1520" y="533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55240" y="533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60360" y="533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8:38:46Z</dcterms:created>
  <dc:creator/>
  <dc:description/>
  <dc:language>en-US</dc:language>
  <cp:lastModifiedBy>lhy</cp:lastModifiedBy>
  <dcterms:modified xsi:type="dcterms:W3CDTF">2004-02-09T01:41:22Z</dcterms:modified>
  <cp:revision>220</cp:revision>
  <dc:subject/>
  <dc:title>PowerPoint 演示文稿</dc:title>
</cp:coreProperties>
</file>