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B31-C10A-425C-ACEA-9C297203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F5E-070B-4DEC-BEF5-B39EC205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105-2BD2-4398-9318-E0B95036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4F3-4CCA-4790-A108-ECA2E09F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E57-F7E2-41E9-B44E-83F74ABC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A9B-7889-4283-9A7E-1F29624F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DA6-E2E2-4441-B305-2D72D08D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A7A-7ACD-41E0-A67F-02B32A69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207-3F31-4EE1-8219-BE32865B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A54-B4F1-4319-AFF6-78DF9AA2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36A-8692-4ADD-8838-06F57158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C89-E6AC-4A34-BC8E-FED890A2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9D2B-0CE5-405F-8595-093A99E680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  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990720"/>
            <a:ext cx="792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华统计一个停车场里各种机动车的数量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她数出有摩托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小汽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大客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载重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你帮助她完成下面的统计表和条形统计图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086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3657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229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5372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9436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5146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0800" y="252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机动车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0920" y="252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146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83640" y="362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39000" y="4235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39000" y="4768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39000" y="5378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02000" y="3724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0120" y="4281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6708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67080" y="5424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6600" y="3114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8088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522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  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9480" y="5119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794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128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1280" y="1690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1280" y="623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63880" y="838080"/>
            <a:ext cx="6172200" cy="4572000"/>
            <a:chOff x="2063880" y="838080"/>
            <a:chExt cx="6172200" cy="4572000"/>
          </a:xfrm>
        </p:grpSpPr>
        <p:grpSp>
          <p:nvGrpSpPr>
            <p:cNvPr id="104" name=""/>
            <p:cNvGrpSpPr/>
            <p:nvPr/>
          </p:nvGrpSpPr>
          <p:grpSpPr>
            <a:xfrm>
              <a:off x="2063880" y="838080"/>
              <a:ext cx="6172200" cy="4572000"/>
              <a:chOff x="2063880" y="838080"/>
              <a:chExt cx="6172200" cy="4572000"/>
            </a:xfrm>
          </p:grpSpPr>
          <p:sp>
            <p:nvSpPr>
              <p:cNvPr id="105" name=""/>
              <p:cNvSpPr/>
              <p:nvPr/>
            </p:nvSpPr>
            <p:spPr>
              <a:xfrm>
                <a:off x="2063880" y="838080"/>
                <a:ext cx="6172200" cy="45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63880" y="5181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63880" y="4724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63880" y="4952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63880" y="4495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63880" y="4267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63880" y="4038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63880" y="3809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63880" y="3581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063880" y="3352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63880" y="3124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63880" y="2895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63880" y="2666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63880" y="2438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63880" y="2209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63880" y="1981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63880" y="1752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63880" y="1523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63880" y="1295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63880" y="1066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7496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4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12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70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928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86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644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02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23120" y="533160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900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060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792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1600" y="92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96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96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212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212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212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212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212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21280" y="3809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21280" y="3581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280" y="3352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1280" y="3124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21280" y="2895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21280" y="2666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2438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21280" y="2209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21280" y="1981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928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928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928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928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928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928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92880" y="3809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2880" y="3581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644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644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644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644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644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644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9680" y="4724280"/>
            <a:ext cx="685800" cy="228600"/>
          </a:xfrm>
          <a:prstGeom prst="rect">
            <a:avLst/>
          </a:prstGeom>
          <a:solidFill>
            <a:srgbClr val="ff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华统计一个路口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钟那各种机动车通过的数量，并制成统计表和条形统计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009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3581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4152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724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295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8672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24382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4382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60800" y="2452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机动车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0920" y="24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3070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83640" y="3549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9000" y="4159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39000" y="469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9000" y="530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0200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0120" y="42051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0120" y="4800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0120" y="5334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0120" y="3048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77920" y="48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9720" y="3719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99720" y="257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9720" y="1447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62320" y="519120"/>
            <a:ext cx="6095880" cy="4572000"/>
            <a:chOff x="2362320" y="519120"/>
            <a:chExt cx="6095880" cy="4572000"/>
          </a:xfrm>
        </p:grpSpPr>
        <p:sp>
          <p:nvSpPr>
            <p:cNvPr id="213" name=""/>
            <p:cNvSpPr/>
            <p:nvPr/>
          </p:nvSpPr>
          <p:spPr>
            <a:xfrm>
              <a:off x="2362320" y="519120"/>
              <a:ext cx="6095880" cy="45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2320" y="4862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2320" y="4633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62320" y="4405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2320" y="4176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2320" y="3948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633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2320" y="3719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2320" y="3490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62320" y="3033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62320" y="3262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2320" y="2805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62320" y="2576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2347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2320" y="2119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62320" y="1890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1662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2320" y="1433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62320" y="1204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976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62320" y="747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481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55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13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771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629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487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339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899720" y="228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4840" y="53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3490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262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3033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2805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2576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347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119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1890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1662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1554120"/>
            <a:ext cx="685800" cy="1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13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13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913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629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29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629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62920" y="3490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62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3033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2805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2576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2468520"/>
            <a:ext cx="685800" cy="1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804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92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71240" y="493632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4284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0224" descr=""/>
          <p:cNvPicPr/>
          <p:nvPr/>
        </p:nvPicPr>
        <p:blipFill>
          <a:blip r:embed="rId2"/>
          <a:stretch/>
        </p:blipFill>
        <p:spPr>
          <a:xfrm>
            <a:off x="571680" y="5334120"/>
            <a:ext cx="2628720" cy="1143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795400" y="630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在上面的条形统计图中，一个格代表几辆车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1371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控制人口过快增长是我国的一项基本国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从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，全国每年增加的人口数依次是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3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7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6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完成  下面的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09480" y="3581280"/>
            <a:ext cx="7543800" cy="1600200"/>
            <a:chOff x="609480" y="3581280"/>
            <a:chExt cx="7543800" cy="1600200"/>
          </a:xfrm>
        </p:grpSpPr>
        <p:sp>
          <p:nvSpPr>
            <p:cNvPr id="299" name=""/>
            <p:cNvSpPr/>
            <p:nvPr/>
          </p:nvSpPr>
          <p:spPr>
            <a:xfrm>
              <a:off x="609480" y="35812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5740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7672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500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3432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41911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5181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05840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948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4880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812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800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06400" y="3657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4235400"/>
            <a:ext cx="176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增加人口数（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9456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4880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6812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87080" y="4510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7320" y="4510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91520" y="762120"/>
            <a:ext cx="137160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总  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57280" y="152388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画“正”字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6680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先写出要统计的数量名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64600" y="313848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依次画“正”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79680" y="397656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数出各种题目，按需要分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/>
  <dc:description/>
  <dc:language>en-US</dc:language>
  <cp:lastModifiedBy>a</cp:lastModifiedBy>
  <dcterms:modified xsi:type="dcterms:W3CDTF">2003-04-18T05:58:00Z</dcterms:modified>
  <cp:revision>65</cp:revision>
  <dc:subject/>
  <dc:title>PowerPoint 演示文稿</dc:title>
</cp:coreProperties>
</file>