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AEB-CFF6-44D2-A39F-8329E57B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709-8852-4408-A847-4BC08B4B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D48-6FFD-4D4B-B148-8F11042D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B36-31EF-4408-AE96-1B1CAAF7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A32-0D85-46C2-9764-1A87AD4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BC6-55F3-4B05-85FF-AF626597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101-FA42-4CD8-9004-4EE7F8F5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407-32FB-4BE0-A19C-80B05C1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48B-25BE-4376-9401-1B5389BF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E50-C4B9-4120-ACCF-E7BD79F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7DF-E2C1-48FC-A324-9525A47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AC1-34C4-4438-994B-E1083118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07CE-BE23-4037-ADF4-006E306B32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960" y="10126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一班女同学测量身高的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1676520"/>
            <a:ext cx="6858000" cy="3827520"/>
            <a:chOff x="1600200" y="1676520"/>
            <a:chExt cx="6858000" cy="3827520"/>
          </a:xfrm>
        </p:grpSpPr>
        <p:grpSp>
          <p:nvGrpSpPr>
            <p:cNvPr id="70" name=""/>
            <p:cNvGrpSpPr/>
            <p:nvPr/>
          </p:nvGrpSpPr>
          <p:grpSpPr>
            <a:xfrm>
              <a:off x="1600200" y="1676520"/>
              <a:ext cx="6858000" cy="3809880"/>
              <a:chOff x="1600200" y="1676520"/>
              <a:chExt cx="6858000" cy="3809880"/>
            </a:xfrm>
          </p:grpSpPr>
          <p:sp>
            <p:nvSpPr>
              <p:cNvPr id="71" name=""/>
              <p:cNvSpPr/>
              <p:nvPr/>
            </p:nvSpPr>
            <p:spPr>
              <a:xfrm>
                <a:off x="1600200" y="1676520"/>
                <a:ext cx="6858000" cy="38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00200" y="5105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0200" y="4724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0200" y="4343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00200" y="3962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00200" y="3581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00200" y="3200400"/>
                <a:ext cx="685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00200" y="281952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2438640"/>
                <a:ext cx="6858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43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29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86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5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72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1520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9880" y="1676520"/>
                <a:ext cx="1440" cy="38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80828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30600" y="2422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秀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75520" y="2836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    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98920" y="3200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李娟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60760" y="35812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张   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98920" y="3962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静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9892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王丽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76600" y="43275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宋   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30600" y="4721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桂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2176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176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2422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84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84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840" y="3565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380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63800" y="43574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63800" y="47386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0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4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4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6760" y="19047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00240" y="1736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身 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00240" y="20415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厘 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6600" y="2438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蔡雅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1520" y="2820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秦    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6600" y="316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顾伟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6600" y="3563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牛爱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9840" y="3962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钱    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29840" y="4327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    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29840" y="4724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40280" y="5087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小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2600" y="2420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冯淑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2600" y="2803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杜小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14760" y="320184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许     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46800" y="35827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     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2600" y="3946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竞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3760" y="43275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杨宁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7520" y="4725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夏    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2600" y="5089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武星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612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172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9588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588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84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1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6744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7440" y="51004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438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3800" y="2819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31845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3800" y="3581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3962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48840" y="43434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4724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4040" y="5105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91400" y="1676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五年级一班女同学身高情况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52920" y="213372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0481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1148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952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25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2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172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6104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5400" y="3413160"/>
            <a:ext cx="12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8120" y="3038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身  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7720" y="35956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厘  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57200" y="42814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3240" y="428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6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0" y="4267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360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9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1160" y="4648320"/>
            <a:ext cx="587520" cy="581400"/>
          </a:xfrm>
          <a:prstGeom prst="rect">
            <a:avLst/>
          </a:prstGeom>
          <a:solidFill>
            <a:srgbClr val="6699ff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7320" y="50292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如果要计算这个班女同学的平均身高，应该怎样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872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身高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8560" y="1981080"/>
            <a:ext cx="31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～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44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厘米范围内人数最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2280" y="243828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个班女同学一共有多少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4880" y="2936880"/>
            <a:ext cx="36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2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33670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整理后的统计表和原始数据记录单相比，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哪些优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9280" y="44928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便于查看，便于分析、比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3760" y="5462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需要根据哪个表计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 一 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2080" y="11793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五年级二班男同学的体重记录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0200" y="1951200"/>
            <a:ext cx="6858000" cy="3461040"/>
            <a:chOff x="1600200" y="1951200"/>
            <a:chExt cx="6858000" cy="3461040"/>
          </a:xfrm>
        </p:grpSpPr>
        <p:sp>
          <p:nvSpPr>
            <p:cNvPr id="206" name=""/>
            <p:cNvSpPr/>
            <p:nvPr/>
          </p:nvSpPr>
          <p:spPr>
            <a:xfrm>
              <a:off x="1600200" y="1951200"/>
              <a:ext cx="6858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4998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0200" y="4618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237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200" y="3855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347508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094200"/>
              <a:ext cx="685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2712960"/>
              <a:ext cx="685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19512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828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0600" y="2697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文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0600" y="3094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文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8560" y="3475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贾庭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0760" y="3855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程   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4560" y="425448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费   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3060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朱荣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5520" y="50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姚    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176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2176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81880" y="2697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96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8188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7840" y="3840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1160" y="4237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4600" y="463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64600" y="5013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00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13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3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86760" y="21798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姓   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9880" y="20113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 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9880" y="23162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千 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1520" y="27306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肖    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16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陆战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16600" y="3441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包天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6600" y="3838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何方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29840" y="4237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陈    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84560" y="4584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任小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29840" y="4998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金    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600" y="271296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凌   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2600" y="3078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天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4760" y="34765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 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6440" y="385776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刘     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2600" y="422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孙克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47520" y="46195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吴    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2600" y="4983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黄国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684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128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6600" y="3475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568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9660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10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2504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44520" y="2712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44520" y="3094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4520" y="3459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452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44520" y="4237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9200" y="4618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4520" y="4998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76520" y="2057400"/>
            <a:ext cx="6629400" cy="1676520"/>
            <a:chOff x="1676520" y="2057400"/>
            <a:chExt cx="6629400" cy="1676520"/>
          </a:xfrm>
        </p:grpSpPr>
        <p:sp>
          <p:nvSpPr>
            <p:cNvPr id="282" name=""/>
            <p:cNvSpPr/>
            <p:nvPr/>
          </p:nvSpPr>
          <p:spPr>
            <a:xfrm>
              <a:off x="1676520" y="20574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76520" y="3733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812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20574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43720" y="2286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体重（千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1640" y="31240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            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126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5064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3760" y="232740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70280" y="2333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以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396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0200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8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56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9440" y="4114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个班男同学体重在哪个范围内的人数最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25240" y="4890960"/>
            <a:ext cx="51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（在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～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千克的范围内的人数最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8800" y="1295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原始数据进行分组整理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20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找出原始数据的范围，最大、最小各是多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28195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根据统计的需要何数据范围的具体情况， 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据的范围分成几组，并按照一定的顺序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列编制成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57840" y="47242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统计各组中的原始数据的数目，填写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/>
  <dc:description/>
  <dc:language>en-US</dc:language>
  <cp:lastModifiedBy>a</cp:lastModifiedBy>
  <dcterms:modified xsi:type="dcterms:W3CDTF">2003-04-18T05:57:11Z</dcterms:modified>
  <cp:revision>47</cp:revision>
  <dc:subject/>
  <dc:title>PowerPoint 演示文稿</dc:title>
</cp:coreProperties>
</file>