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1DFB-5AD9-4B5B-B6A0-750408C69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AECA-A733-4A1A-B7C6-E7839A463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0AF8-ECD9-472E-9F4D-F6AB0C2DF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DB0A-FE96-4B00-B9A4-A55311DC7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40C1-8A92-458A-A3FC-3EFF43797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1A24-88AB-4657-AA4A-D7AAD2923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558C-752B-4724-AF35-2B3C0F020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5D99-BB38-4CDD-9130-184A4678A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9910-5D8F-4832-A9AC-92DD6B011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079D-4CA9-4B25-B43D-CFC5049E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222F-C69E-451E-88EC-5F46C22D7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CB9A-CDEA-4E6E-BFDA-466401F46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2B99A-E260-4C13-9971-0717AD66511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7632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380880"/>
            <a:ext cx="761760" cy="1752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137160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152280"/>
            <a:ext cx="457200" cy="825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99ff"/>
                </a:solidFill>
                <a:latin typeface="Times New Roman"/>
                <a:ea typeface="隶书"/>
              </a:rPr>
              <a:t>数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228600"/>
            <a:ext cx="66294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990720"/>
            <a:ext cx="6400800" cy="75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17520" y="6469200"/>
            <a:ext cx="916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47920" y="4191120"/>
            <a:ext cx="563868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57400" y="3772080"/>
            <a:ext cx="5486400" cy="8236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057400" y="4572000"/>
            <a:ext cx="54864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47920" y="5105520"/>
            <a:ext cx="37335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47920" y="4267080"/>
            <a:ext cx="0" cy="8384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153280" y="685800"/>
            <a:ext cx="228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1880" y="533520"/>
            <a:ext cx="228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924680" y="914400"/>
            <a:ext cx="228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438280" y="2666880"/>
            <a:ext cx="41911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数据的收集和整理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7632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380880"/>
            <a:ext cx="761760" cy="1752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137160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152280"/>
            <a:ext cx="457200" cy="825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99ff"/>
                </a:solidFill>
                <a:latin typeface="Times New Roman"/>
                <a:ea typeface="隶书"/>
              </a:rPr>
              <a:t>数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90720" y="228600"/>
            <a:ext cx="66294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43200" y="685800"/>
            <a:ext cx="6400800" cy="76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91520" y="457200"/>
            <a:ext cx="137160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复   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20600" y="1065240"/>
            <a:ext cx="819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我国运动员在第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3~27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这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届夏季奥运会上各获得奖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枚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枚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枚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枚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9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枚。制成获奖牌的统计表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447920" y="297180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373392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47920" y="449568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29718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95680" y="29718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629400" y="29718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96080" y="29718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562720" y="29718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768320" y="38242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奖牌数（枚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14800" y="3138480"/>
            <a:ext cx="190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届            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652200" y="31384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725360" y="31384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792400" y="31384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9080" y="31240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919640" y="31384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52200" y="38242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725360" y="38242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85920" y="38098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2600" y="38242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849800" y="38242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7632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380880"/>
            <a:ext cx="761760" cy="1752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137160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152280"/>
            <a:ext cx="457200" cy="825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99ff"/>
                </a:solidFill>
                <a:latin typeface="Times New Roman"/>
                <a:ea typeface="隶书"/>
              </a:rPr>
              <a:t>数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90720" y="228600"/>
            <a:ext cx="66294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990720"/>
            <a:ext cx="6400800" cy="75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391520" y="838080"/>
            <a:ext cx="137160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例      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152388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下面是兴农小学活动课程四个小组的学生人数统计表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898560" y="2590920"/>
            <a:ext cx="7559640" cy="3202920"/>
            <a:chOff x="898560" y="2590920"/>
            <a:chExt cx="7559640" cy="3202920"/>
          </a:xfrm>
        </p:grpSpPr>
        <p:grpSp>
          <p:nvGrpSpPr>
            <p:cNvPr id="100" name=""/>
            <p:cNvGrpSpPr/>
            <p:nvPr/>
          </p:nvGrpSpPr>
          <p:grpSpPr>
            <a:xfrm>
              <a:off x="898560" y="2590920"/>
              <a:ext cx="3200400" cy="1432800"/>
              <a:chOff x="898560" y="2590920"/>
              <a:chExt cx="3200400" cy="1432800"/>
            </a:xfrm>
          </p:grpSpPr>
          <p:sp>
            <p:nvSpPr>
              <p:cNvPr id="101" name=""/>
              <p:cNvSpPr/>
              <p:nvPr/>
            </p:nvSpPr>
            <p:spPr>
              <a:xfrm>
                <a:off x="1773720" y="2590920"/>
                <a:ext cx="1113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    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数学小组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8560" y="3106800"/>
                <a:ext cx="320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98560" y="3564000"/>
                <a:ext cx="320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98560" y="4021200"/>
                <a:ext cx="320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812960" y="310680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574720" y="310680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336840" y="310680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006200" y="312732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性别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022040" y="356400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人数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936440" y="310680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合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698200" y="310680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男生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428640" y="310680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女生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966680" y="356400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2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697120" y="356400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1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535560" y="35640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5257800" y="2590920"/>
              <a:ext cx="3200400" cy="1432800"/>
              <a:chOff x="5257800" y="2590920"/>
              <a:chExt cx="3200400" cy="1432800"/>
            </a:xfrm>
          </p:grpSpPr>
          <p:sp>
            <p:nvSpPr>
              <p:cNvPr id="117" name=""/>
              <p:cNvSpPr/>
              <p:nvPr/>
            </p:nvSpPr>
            <p:spPr>
              <a:xfrm>
                <a:off x="6131880" y="2590920"/>
                <a:ext cx="1178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     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生物小组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257800" y="3106800"/>
                <a:ext cx="320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257800" y="3564000"/>
                <a:ext cx="320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257800" y="4021200"/>
                <a:ext cx="320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172200" y="310680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933960" y="310680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7696080" y="310680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365440" y="312732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性别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381280" y="356400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人数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95680" y="310680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合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057440" y="310680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男生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787880" y="310680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女生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325920" y="356400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1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056360" y="356400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 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894800" y="35640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898560" y="4361040"/>
              <a:ext cx="3200400" cy="1432800"/>
              <a:chOff x="898560" y="4361040"/>
              <a:chExt cx="3200400" cy="1432800"/>
            </a:xfrm>
          </p:grpSpPr>
          <p:sp>
            <p:nvSpPr>
              <p:cNvPr id="133" name=""/>
              <p:cNvSpPr/>
              <p:nvPr/>
            </p:nvSpPr>
            <p:spPr>
              <a:xfrm>
                <a:off x="1773720" y="4361040"/>
                <a:ext cx="1113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    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航模小组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898560" y="4876920"/>
                <a:ext cx="320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98560" y="5334120"/>
                <a:ext cx="320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98560" y="5791320"/>
                <a:ext cx="320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812960" y="487692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574720" y="487692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336840" y="487692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006200" y="489744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性别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022040" y="533412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人数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936440" y="487692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合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698200" y="487692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男生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428640" y="487692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女生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966680" y="533412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1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697120" y="533412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1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535560" y="53341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5241960" y="4361040"/>
              <a:ext cx="3200400" cy="1432800"/>
              <a:chOff x="5241960" y="4361040"/>
              <a:chExt cx="3200400" cy="1432800"/>
            </a:xfrm>
          </p:grpSpPr>
          <p:sp>
            <p:nvSpPr>
              <p:cNvPr id="149" name=""/>
              <p:cNvSpPr/>
              <p:nvPr/>
            </p:nvSpPr>
            <p:spPr>
              <a:xfrm>
                <a:off x="6116040" y="4361040"/>
                <a:ext cx="1178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     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美术小组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241960" y="4876920"/>
                <a:ext cx="320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241960" y="5334120"/>
                <a:ext cx="320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241960" y="5791320"/>
                <a:ext cx="320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156360" y="487692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918120" y="487692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680240" y="487692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349600" y="489744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性别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365440" y="533412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人数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279840" y="487692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合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041600" y="487692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男生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772040" y="487692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女生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310080" y="533412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040520" y="533412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878600" y="533412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7632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380880"/>
            <a:ext cx="761760" cy="1752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137160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04920" y="152280"/>
            <a:ext cx="457200" cy="825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99ff"/>
                </a:solidFill>
                <a:latin typeface="Times New Roman"/>
                <a:ea typeface="隶书"/>
              </a:rPr>
              <a:t>数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228600"/>
            <a:ext cx="66294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743200" y="762120"/>
            <a:ext cx="6400800" cy="75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391520" y="609480"/>
            <a:ext cx="137160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例    题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973600" y="121932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兴农小学活动课程小组人数统计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133720" y="251460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133720" y="320040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33720" y="365760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133720" y="411480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133720" y="457200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133720" y="502920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25146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867280" y="25146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2655720"/>
            <a:ext cx="117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男     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292800" y="2655720"/>
            <a:ext cx="117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女     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0" y="320040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数学小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66920" y="365760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生物小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54320" y="411480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航模小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54320" y="457200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美术小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533920" y="1919160"/>
            <a:ext cx="443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年  月    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257800" y="1905120"/>
            <a:ext cx="2647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A662D-3D04-4DAF-B1B1-411768CF5B64}" type="datetime2"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026年7月31日 星期五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83DC03-5D79-4A7D-A984-0AC34920485E}" type="datetime1">
              <a:rPr lang="en-US"/>
              <a:t>07/31/26</a:t>
            </a:fld>
          </a:p>
        </p:txBody>
      </p:sp>
    </p:spTree>
  </p:cSld>
  <p:transition spd="med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" y="7632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2120" y="380880"/>
            <a:ext cx="761760" cy="1752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28600" y="137160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920" y="152280"/>
            <a:ext cx="457200" cy="825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99ff"/>
                </a:solidFill>
                <a:latin typeface="Times New Roman"/>
                <a:ea typeface="隶书"/>
              </a:rPr>
              <a:t>数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90720" y="228600"/>
            <a:ext cx="66294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762120"/>
            <a:ext cx="6400800" cy="75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391520" y="609480"/>
            <a:ext cx="137160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例    题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973600" y="121932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兴农小学活动课程小组人数统计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295280" y="251460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295280" y="320040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95280" y="365760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95280" y="411480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457200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502920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295280" y="548640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124080" y="251460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029200" y="251460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34320" y="251460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29080" y="263196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合     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526000" y="2655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男     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431120" y="2655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女     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3214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总        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93440" y="3678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数学小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74360" y="4129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生物小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661400" y="4592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航模小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661400" y="4987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美术小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057400" y="2514600"/>
            <a:ext cx="10666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95280" y="2666880"/>
            <a:ext cx="18288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371960" y="2876400"/>
            <a:ext cx="69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组     别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2474280" y="2487600"/>
            <a:ext cx="537480" cy="516600"/>
            <a:chOff x="2474280" y="2487600"/>
            <a:chExt cx="537480" cy="516600"/>
          </a:xfrm>
        </p:grpSpPr>
        <p:sp>
          <p:nvSpPr>
            <p:cNvPr id="222" name=""/>
            <p:cNvSpPr/>
            <p:nvPr/>
          </p:nvSpPr>
          <p:spPr>
            <a:xfrm>
              <a:off x="2474280" y="248760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性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709000" y="266688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别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1718640" y="2482920"/>
            <a:ext cx="683640" cy="494280"/>
            <a:chOff x="1718640" y="2482920"/>
            <a:chExt cx="683640" cy="494280"/>
          </a:xfrm>
        </p:grpSpPr>
        <p:sp>
          <p:nvSpPr>
            <p:cNvPr id="225" name=""/>
            <p:cNvSpPr/>
            <p:nvPr/>
          </p:nvSpPr>
          <p:spPr>
            <a:xfrm>
              <a:off x="1718640" y="248292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人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099520" y="263988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5709600" y="36576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811840" y="4114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681160" y="45720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673240" y="50436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716600" y="3672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716600" y="4129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716600" y="4572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21200" y="50436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728520" y="364824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719160" y="410544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714120" y="456264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700080" y="50292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709600" y="32148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4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614720" y="319104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719160" y="32148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7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867280" y="1905120"/>
            <a:ext cx="2876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C7538-65A6-4A5C-BB18-96800B5964B3}" type="datetime2"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026年7月31日 星期五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143760" y="1919160"/>
            <a:ext cx="44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年  月    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28600" y="7632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62120" y="380880"/>
            <a:ext cx="761760" cy="1752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8600" y="137160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04920" y="152280"/>
            <a:ext cx="457200" cy="825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99ff"/>
                </a:solidFill>
                <a:latin typeface="Times New Roman"/>
                <a:ea typeface="隶书"/>
              </a:rPr>
              <a:t>数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228600"/>
            <a:ext cx="66294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743200" y="685800"/>
            <a:ext cx="6400800" cy="76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391520" y="457200"/>
            <a:ext cx="137160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例    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752480" y="114300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这四个小组共有学生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___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人，其中男生有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_____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人，女生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____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人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887560" y="2376360"/>
            <a:ext cx="227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人数最多的是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_____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小组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229200" y="3062160"/>
            <a:ext cx="209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男生人数最多的是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____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小组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196080" y="3824280"/>
            <a:ext cx="209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女生人数最多的是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____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小组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0224" descr=""/>
          <p:cNvPicPr/>
          <p:nvPr/>
        </p:nvPicPr>
        <p:blipFill>
          <a:blip r:embed="rId2"/>
          <a:stretch/>
        </p:blipFill>
        <p:spPr>
          <a:xfrm>
            <a:off x="380880" y="5181480"/>
            <a:ext cx="2629080" cy="11430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2943000" y="4800600"/>
            <a:ext cx="466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还可以看出什么哪些情况呢？你们能告诉我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547960" y="11574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7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66320" y="15238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4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633560" y="15382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658760" y="2300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美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249520" y="37479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美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268600" y="29862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数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28600" y="7632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62120" y="380880"/>
            <a:ext cx="761760" cy="1752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8600" y="137160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04920" y="152280"/>
            <a:ext cx="457200" cy="825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99ff"/>
                </a:solidFill>
                <a:latin typeface="Times New Roman"/>
                <a:ea typeface="隶书"/>
              </a:rPr>
              <a:t>数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990720" y="228600"/>
            <a:ext cx="66294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743200" y="990720"/>
            <a:ext cx="6400800" cy="75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391520" y="838080"/>
            <a:ext cx="137160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做一做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81360" y="1468440"/>
            <a:ext cx="93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一个书店第一季度的售书情况如下，制成统计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60680" y="2154240"/>
            <a:ext cx="7026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一月份售出：文艺书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62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册，科技书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08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册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工具书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5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册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660680" y="3276720"/>
            <a:ext cx="7026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二月份售出：文艺书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476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册，科技书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426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册，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工具书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42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册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660680" y="4557600"/>
            <a:ext cx="7026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三月份售出：文艺书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83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册， 科技书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24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册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工具书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6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册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28600" y="7632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62120" y="380880"/>
            <a:ext cx="761760" cy="1752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28600" y="137160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04920" y="152280"/>
            <a:ext cx="457200" cy="825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99ff"/>
                </a:solidFill>
                <a:latin typeface="Times New Roman"/>
                <a:ea typeface="隶书"/>
              </a:rPr>
              <a:t>数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990720" y="228600"/>
            <a:ext cx="66294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743200" y="762120"/>
            <a:ext cx="6400800" cy="75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217520" y="6469200"/>
            <a:ext cx="916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391520" y="609480"/>
            <a:ext cx="137160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做一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219200" y="1461960"/>
            <a:ext cx="13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00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年第一季度售出图书统计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295280" y="270180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95280" y="338760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295280" y="384480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295280" y="430200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295280" y="475920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295280" y="521640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24080" y="27018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867280" y="27018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495680" y="27018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057400" y="2701800"/>
            <a:ext cx="10666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2854440"/>
            <a:ext cx="18288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377000" y="3063960"/>
            <a:ext cx="47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种 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2474280" y="2674800"/>
            <a:ext cx="537480" cy="516600"/>
            <a:chOff x="2474280" y="2674800"/>
            <a:chExt cx="537480" cy="516600"/>
          </a:xfrm>
        </p:grpSpPr>
        <p:sp>
          <p:nvSpPr>
            <p:cNvPr id="302" name=""/>
            <p:cNvSpPr/>
            <p:nvPr/>
          </p:nvSpPr>
          <p:spPr>
            <a:xfrm>
              <a:off x="2474280" y="267480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月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709000" y="285408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份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1718640" y="2670120"/>
            <a:ext cx="683640" cy="494280"/>
            <a:chOff x="1718640" y="2670120"/>
            <a:chExt cx="683640" cy="494280"/>
          </a:xfrm>
        </p:grpSpPr>
        <p:sp>
          <p:nvSpPr>
            <p:cNvPr id="305" name=""/>
            <p:cNvSpPr/>
            <p:nvPr/>
          </p:nvSpPr>
          <p:spPr>
            <a:xfrm>
              <a:off x="1718640" y="267012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册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099520" y="282708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395880" y="281952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合   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238880" y="27018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692600" y="281952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一 月 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125040" y="2825640"/>
            <a:ext cx="8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二 月 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540920" y="2840040"/>
            <a:ext cx="8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三 月 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701720" y="34084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总    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751400" y="38862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文艺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52840" y="43228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科技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752840" y="4780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工具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710240" y="38448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6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110280" y="38671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476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545600" y="38592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8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694400" y="43164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08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097680" y="43020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426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545600" y="43020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24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786200" y="47592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218280" y="47592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4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589880" y="47592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6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22800" y="38862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92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322800" y="43434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85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398760" y="48006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94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726080" y="33876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8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097680" y="34290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94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545600" y="34290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4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246480" y="34290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87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655960" y="2048040"/>
            <a:ext cx="29725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13D4E-5D79-4790-9543-DFEEDDD24E5C}" type="datetime2"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026年7月31日 星期五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062760" y="2057400"/>
            <a:ext cx="44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年  月    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3T02:21:36Z</dcterms:created>
  <dc:creator/>
  <dc:description/>
  <dc:language>en-US</dc:language>
  <cp:lastModifiedBy>ccw</cp:lastModifiedBy>
  <dcterms:modified xsi:type="dcterms:W3CDTF">2004-03-12T09:36:52Z</dcterms:modified>
  <cp:revision>71</cp:revision>
  <dc:subject/>
  <dc:title>PowerPoint 演示文稿</dc:title>
</cp:coreProperties>
</file>