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E86-0E8D-4AB0-92B6-EB7861C0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EF7-923C-4A33-B86C-5E83FE2D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9DF-02BD-4581-A63B-1D95F257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1DA-71EB-4F05-ADBF-530E2EDE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985-62C7-474B-85D4-4D09DBF6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ED3-CE89-4AC4-8B6E-F3B6EE0F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FA6-C0AF-4E37-8F04-DDABC4C7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775-9396-4133-86DC-B91A8655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039-0270-43DE-B63A-B80C8538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A5A-27EC-48DA-99C6-CD6B1FC4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28D-1912-4046-850A-7963ED3E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F5C-BF41-4CA2-89A2-72636A2C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8882-3E1E-44E4-ACA0-3531755EEA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191120"/>
            <a:ext cx="5638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772080"/>
            <a:ext cx="5486400" cy="823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4572000"/>
            <a:ext cx="5486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105520"/>
            <a:ext cx="37335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26708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6858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53352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914400"/>
            <a:ext cx="228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38280" y="2666880"/>
            <a:ext cx="41911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数据的收集和整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68580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45720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复     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990720"/>
            <a:ext cx="7925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华统计一个停车场里各种机动车的数量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她数出有摩托车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、小汽车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、大客车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、载重车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你帮助她完成下面的统计表和条形统计图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3086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3657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229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4800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5372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59436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25146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25146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60800" y="252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机动车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0920" y="252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辆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3146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  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83640" y="362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摩托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39000" y="4235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汽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39000" y="4768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大客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39000" y="5378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载重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02000" y="3724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0120" y="4281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67080" y="487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67080" y="5424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6600" y="3114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380880"/>
            <a:ext cx="640080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522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复     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79480" y="5119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7948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1280" y="2895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1280" y="16905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1280" y="623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063880" y="838080"/>
            <a:ext cx="6172200" cy="4572000"/>
            <a:chOff x="2063880" y="838080"/>
            <a:chExt cx="6172200" cy="4572000"/>
          </a:xfrm>
        </p:grpSpPr>
        <p:grpSp>
          <p:nvGrpSpPr>
            <p:cNvPr id="104" name=""/>
            <p:cNvGrpSpPr/>
            <p:nvPr/>
          </p:nvGrpSpPr>
          <p:grpSpPr>
            <a:xfrm>
              <a:off x="2063880" y="838080"/>
              <a:ext cx="6172200" cy="4572000"/>
              <a:chOff x="2063880" y="838080"/>
              <a:chExt cx="6172200" cy="4572000"/>
            </a:xfrm>
          </p:grpSpPr>
          <p:sp>
            <p:nvSpPr>
              <p:cNvPr id="105" name=""/>
              <p:cNvSpPr/>
              <p:nvPr/>
            </p:nvSpPr>
            <p:spPr>
              <a:xfrm>
                <a:off x="2063880" y="838080"/>
                <a:ext cx="6172200" cy="45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063880" y="5181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63880" y="47242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63880" y="49528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63880" y="44956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63880" y="42670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063880" y="4038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063880" y="38098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63880" y="35812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063880" y="33526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63880" y="31240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63880" y="2895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63880" y="26668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63880" y="24382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63880" y="22096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63880" y="19810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63880" y="1752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63880" y="15238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63880" y="12952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63880" y="10666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7496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4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212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70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928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86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644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0280" y="8380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823120" y="533160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摩托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39000" y="534744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汽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0600" y="534744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大客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7920" y="534744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载重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1600" y="92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9680" y="5181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9680" y="4952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21280" y="5181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21280" y="4952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21280" y="4724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21280" y="4495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21280" y="4267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21280" y="4038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21280" y="3809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21280" y="3581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1280" y="3352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21280" y="3124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21280" y="2895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21280" y="2666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21280" y="2438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21280" y="2209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21280" y="1981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92880" y="5181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92880" y="4952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92880" y="4724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92880" y="4495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92880" y="4267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92880" y="4038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92880" y="3809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2880" y="3581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64480" y="5181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64480" y="49528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64480" y="47242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64480" y="4495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64480" y="42670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64480" y="40384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9680" y="4724280"/>
            <a:ext cx="685800" cy="228600"/>
          </a:xfrm>
          <a:prstGeom prst="rect">
            <a:avLst/>
          </a:prstGeom>
          <a:solidFill>
            <a:srgbClr val="ff33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   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1371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华统计一个路口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钟那各种机动车通过的数量，并制成统计表和条形统计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30099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3581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41529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4724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2959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586728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243828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4382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60800" y="2452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机动车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0920" y="2452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辆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30700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合     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83640" y="3549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摩托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9000" y="4159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汽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39000" y="4692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大客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9000" y="5302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载重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02000" y="3648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0120" y="42051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0120" y="4800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0120" y="53341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00120" y="30481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7520" y="6469200"/>
            <a:ext cx="916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77920" y="48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99720" y="3719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99720" y="2576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99720" y="1447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362320" y="519120"/>
            <a:ext cx="6095880" cy="4572000"/>
            <a:chOff x="2362320" y="519120"/>
            <a:chExt cx="6095880" cy="4572000"/>
          </a:xfrm>
        </p:grpSpPr>
        <p:sp>
          <p:nvSpPr>
            <p:cNvPr id="213" name=""/>
            <p:cNvSpPr/>
            <p:nvPr/>
          </p:nvSpPr>
          <p:spPr>
            <a:xfrm>
              <a:off x="2362320" y="519120"/>
              <a:ext cx="6095880" cy="457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62320" y="4862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62320" y="4633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62320" y="4405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62320" y="4176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62320" y="39481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633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62320" y="3719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62320" y="3490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62320" y="3033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62320" y="3262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62320" y="28051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62320" y="2576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62320" y="2347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62320" y="2119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62320" y="1890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62320" y="16621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62320" y="1433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62320" y="12049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62320" y="976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62320" y="747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481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197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055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13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771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629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487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33920" y="519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899720" y="228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4840" y="533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4862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4633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4405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4176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4862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4633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4405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4176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3948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3719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3490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262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3033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2805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19720" y="2576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2347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119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1890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1662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1554120"/>
            <a:ext cx="685800" cy="1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91320" y="4862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91320" y="4633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91320" y="4405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4176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91320" y="3948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3719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4862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62920" y="4633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62920" y="4405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62920" y="4176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62920" y="3948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62920" y="3719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62920" y="34909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623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30337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28051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62920" y="257652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2468520"/>
            <a:ext cx="685800" cy="1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28040" y="495216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摩托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16920" y="495216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小汽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71240" y="493632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大客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42840" y="495216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载重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0224" descr=""/>
          <p:cNvPicPr/>
          <p:nvPr/>
        </p:nvPicPr>
        <p:blipFill>
          <a:blip r:embed="rId2"/>
          <a:stretch/>
        </p:blipFill>
        <p:spPr>
          <a:xfrm>
            <a:off x="571680" y="5334120"/>
            <a:ext cx="2628720" cy="1143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795400" y="6308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在上面的条形统计图中，一个格代表几辆车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1520" y="838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1371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控制人口过快增长是我国的一项基本国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从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，全国每年增加的人口数依次是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3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7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6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完成  下面的统计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09480" y="3581280"/>
            <a:ext cx="7543800" cy="1600200"/>
            <a:chOff x="609480" y="3581280"/>
            <a:chExt cx="7543800" cy="1600200"/>
          </a:xfrm>
        </p:grpSpPr>
        <p:sp>
          <p:nvSpPr>
            <p:cNvPr id="299" name=""/>
            <p:cNvSpPr/>
            <p:nvPr/>
          </p:nvSpPr>
          <p:spPr>
            <a:xfrm>
              <a:off x="609480" y="35812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5740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7672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1500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34320" y="358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41911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5181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058400" y="3657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29480" y="3672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48800" y="3672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68120" y="3672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8000" y="3672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06400" y="36576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4235400"/>
            <a:ext cx="176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增加人口数（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94560" y="44956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48800" y="44956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68120" y="44956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3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87080" y="45100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87320" y="45100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7632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380880"/>
            <a:ext cx="761760" cy="1752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1371600"/>
            <a:ext cx="762120" cy="1752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152280"/>
            <a:ext cx="457200" cy="825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99ff"/>
                </a:solidFill>
                <a:latin typeface="Times New Roman"/>
                <a:ea typeface="隶书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228600"/>
            <a:ext cx="66294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990720"/>
            <a:ext cx="640080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91520" y="762120"/>
            <a:ext cx="137160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总  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57280" y="152388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画“正”字的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6680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先写出要统计的数量名称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64600" y="3138480"/>
            <a:ext cx="15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依次画“正”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79680" y="397656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数出各种题目，按需要分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2:21:36Z</dcterms:created>
  <dc:creator/>
  <dc:description/>
  <dc:language>en-US</dc:language>
  <cp:lastModifiedBy>a</cp:lastModifiedBy>
  <dcterms:modified xsi:type="dcterms:W3CDTF">2003-04-18T05:58:00Z</dcterms:modified>
  <cp:revision>65</cp:revision>
  <dc:subject/>
  <dc:title>PowerPoint 演示文稿</dc:title>
</cp:coreProperties>
</file>