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10D-321B-4DD7-80FE-92EC359E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A1B-0218-43FC-B7AD-3E3540A1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993-AC98-4674-9D09-D32EDEA9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D3E-B55A-4489-9D76-FD75DD20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1DC7-E894-4A5B-97BA-91430E61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29D-E8C8-4415-A289-5067465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6BC4-D19B-4F09-B555-F77297DC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83FF-66E3-43AC-9F37-1822C3B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786-C2C4-4281-A872-2FFD3B6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C68-33C2-4E16-BFD9-591DD880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88C1-BC74-4186-ACFD-5B1DBA2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736-F1AE-457A-B51A-966DAF2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1ACE-EFB2-4813-A190-7AE52FE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5269-9B2D-4C21-9451-0AD6E02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A2D3-8EA8-4A83-9429-D43CD01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04AE-9791-4B64-AA0C-F3437CE2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457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32832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7829-77E6-4AF6-BC05-382E658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5E0-5870-4DF3-BB3F-43E52A4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634-F75A-4B91-ABAF-DF7614D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3E8-74A4-46DB-B404-DADDE933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061-CF91-43AF-85BF-F577406D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2D2-D08F-4319-AAD2-FE585D4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3283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6D5-5689-490F-A04B-5F2C97D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4572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2832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1C4-2AF2-478C-BA58-192AAEB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0"/>
            <a:ext cx="9123480" cy="68533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80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001b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0897-98D9-4F0C-A387-CB685BF0BD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01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E84-9FD9-43FC-A962-D7A09A86C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6201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2001bd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5715000"/>
            <a:ext cx="7467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lide0004_image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350532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以内数的大小比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11960" y="1766880"/>
            <a:ext cx="41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9480" y="1752480"/>
            <a:ext cx="41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11960" y="1766880"/>
            <a:ext cx="41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22560" y="1768320"/>
            <a:ext cx="41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09480" y="4572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三、小冬、小明、小华三家离学校的距离如图，一天放学后，小冬和小明都用了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分钟到家，小芳比小冬提前了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分钟到家，通过这些你知道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3809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4240" y="392436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53280" y="4343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64240" y="3924360"/>
            <a:ext cx="417240" cy="266760"/>
          </a:xfrm>
          <a:prstGeom prst="flowChartPunchedTap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62440" y="2557440"/>
            <a:ext cx="2424240" cy="2071800"/>
          </a:xfrm>
          <a:custGeom>
            <a:avLst/>
            <a:gdLst/>
            <a:ahLst/>
            <a:rect l="l" t="t" r="r" b="b"/>
            <a:pathLst>
              <a:path w="1527" h="1305">
                <a:moveTo>
                  <a:pt x="1527" y="0"/>
                </a:moveTo>
                <a:cubicBezTo>
                  <a:pt x="1482" y="6"/>
                  <a:pt x="1414" y="9"/>
                  <a:pt x="1374" y="36"/>
                </a:cubicBezTo>
                <a:cubicBezTo>
                  <a:pt x="1373" y="36"/>
                  <a:pt x="1307" y="81"/>
                  <a:pt x="1293" y="90"/>
                </a:cubicBezTo>
                <a:cubicBezTo>
                  <a:pt x="1284" y="96"/>
                  <a:pt x="1266" y="108"/>
                  <a:pt x="1266" y="108"/>
                </a:cubicBezTo>
                <a:cubicBezTo>
                  <a:pt x="1234" y="156"/>
                  <a:pt x="1182" y="185"/>
                  <a:pt x="1149" y="234"/>
                </a:cubicBezTo>
                <a:cubicBezTo>
                  <a:pt x="1103" y="303"/>
                  <a:pt x="1057" y="394"/>
                  <a:pt x="987" y="441"/>
                </a:cubicBezTo>
                <a:cubicBezTo>
                  <a:pt x="954" y="539"/>
                  <a:pt x="1009" y="393"/>
                  <a:pt x="951" y="486"/>
                </a:cubicBezTo>
                <a:cubicBezTo>
                  <a:pt x="941" y="502"/>
                  <a:pt x="939" y="522"/>
                  <a:pt x="933" y="540"/>
                </a:cubicBezTo>
                <a:cubicBezTo>
                  <a:pt x="921" y="577"/>
                  <a:pt x="869" y="642"/>
                  <a:pt x="834" y="666"/>
                </a:cubicBezTo>
                <a:cubicBezTo>
                  <a:pt x="786" y="738"/>
                  <a:pt x="849" y="651"/>
                  <a:pt x="789" y="711"/>
                </a:cubicBezTo>
                <a:cubicBezTo>
                  <a:pt x="781" y="719"/>
                  <a:pt x="779" y="731"/>
                  <a:pt x="771" y="738"/>
                </a:cubicBezTo>
                <a:cubicBezTo>
                  <a:pt x="755" y="752"/>
                  <a:pt x="735" y="762"/>
                  <a:pt x="717" y="774"/>
                </a:cubicBezTo>
                <a:cubicBezTo>
                  <a:pt x="708" y="780"/>
                  <a:pt x="690" y="792"/>
                  <a:pt x="690" y="792"/>
                </a:cubicBezTo>
                <a:cubicBezTo>
                  <a:pt x="660" y="838"/>
                  <a:pt x="628" y="887"/>
                  <a:pt x="582" y="918"/>
                </a:cubicBezTo>
                <a:cubicBezTo>
                  <a:pt x="531" y="995"/>
                  <a:pt x="615" y="876"/>
                  <a:pt x="510" y="981"/>
                </a:cubicBezTo>
                <a:cubicBezTo>
                  <a:pt x="477" y="1014"/>
                  <a:pt x="438" y="1043"/>
                  <a:pt x="402" y="1071"/>
                </a:cubicBezTo>
                <a:cubicBezTo>
                  <a:pt x="385" y="1084"/>
                  <a:pt x="366" y="1095"/>
                  <a:pt x="348" y="1107"/>
                </a:cubicBezTo>
                <a:cubicBezTo>
                  <a:pt x="339" y="1113"/>
                  <a:pt x="321" y="1125"/>
                  <a:pt x="321" y="1125"/>
                </a:cubicBezTo>
                <a:cubicBezTo>
                  <a:pt x="297" y="1161"/>
                  <a:pt x="260" y="1171"/>
                  <a:pt x="222" y="1197"/>
                </a:cubicBezTo>
                <a:cubicBezTo>
                  <a:pt x="199" y="1213"/>
                  <a:pt x="167" y="1242"/>
                  <a:pt x="141" y="1251"/>
                </a:cubicBezTo>
                <a:cubicBezTo>
                  <a:pt x="96" y="1266"/>
                  <a:pt x="51" y="1281"/>
                  <a:pt x="6" y="1296"/>
                </a:cubicBezTo>
                <a:cubicBezTo>
                  <a:pt x="0" y="1298"/>
                  <a:pt x="18" y="1302"/>
                  <a:pt x="24" y="1305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4920" y="3886200"/>
            <a:ext cx="2295360" cy="743040"/>
          </a:xfrm>
          <a:custGeom>
            <a:avLst/>
            <a:gdLst/>
            <a:ahLst/>
            <a:rect l="l" t="t" r="r" b="b"/>
            <a:pathLst>
              <a:path w="1890" h="574">
                <a:moveTo>
                  <a:pt x="1890" y="34"/>
                </a:moveTo>
                <a:cubicBezTo>
                  <a:pt x="1755" y="0"/>
                  <a:pt x="1590" y="54"/>
                  <a:pt x="1467" y="115"/>
                </a:cubicBezTo>
                <a:cubicBezTo>
                  <a:pt x="1397" y="150"/>
                  <a:pt x="1486" y="114"/>
                  <a:pt x="1413" y="160"/>
                </a:cubicBezTo>
                <a:cubicBezTo>
                  <a:pt x="1375" y="184"/>
                  <a:pt x="1327" y="203"/>
                  <a:pt x="1287" y="223"/>
                </a:cubicBezTo>
                <a:cubicBezTo>
                  <a:pt x="1211" y="261"/>
                  <a:pt x="1133" y="311"/>
                  <a:pt x="1062" y="358"/>
                </a:cubicBezTo>
                <a:cubicBezTo>
                  <a:pt x="991" y="405"/>
                  <a:pt x="828" y="444"/>
                  <a:pt x="738" y="466"/>
                </a:cubicBezTo>
                <a:cubicBezTo>
                  <a:pt x="595" y="502"/>
                  <a:pt x="446" y="557"/>
                  <a:pt x="297" y="565"/>
                </a:cubicBezTo>
                <a:cubicBezTo>
                  <a:pt x="122" y="574"/>
                  <a:pt x="104" y="574"/>
                  <a:pt x="0" y="574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495680"/>
            <a:ext cx="3429000" cy="370080"/>
          </a:xfrm>
          <a:custGeom>
            <a:avLst/>
            <a:gdLst/>
            <a:ahLst/>
            <a:rect l="l" t="t" r="r" b="b"/>
            <a:pathLst>
              <a:path w="1269" h="233">
                <a:moveTo>
                  <a:pt x="1269" y="0"/>
                </a:moveTo>
                <a:cubicBezTo>
                  <a:pt x="1255" y="54"/>
                  <a:pt x="1264" y="24"/>
                  <a:pt x="1242" y="90"/>
                </a:cubicBezTo>
                <a:cubicBezTo>
                  <a:pt x="1235" y="111"/>
                  <a:pt x="1206" y="114"/>
                  <a:pt x="1188" y="126"/>
                </a:cubicBezTo>
                <a:cubicBezTo>
                  <a:pt x="1116" y="174"/>
                  <a:pt x="1039" y="193"/>
                  <a:pt x="954" y="207"/>
                </a:cubicBezTo>
                <a:cubicBezTo>
                  <a:pt x="774" y="204"/>
                  <a:pt x="589" y="233"/>
                  <a:pt x="414" y="189"/>
                </a:cubicBezTo>
                <a:cubicBezTo>
                  <a:pt x="347" y="172"/>
                  <a:pt x="253" y="95"/>
                  <a:pt x="198" y="90"/>
                </a:cubicBezTo>
                <a:cubicBezTo>
                  <a:pt x="135" y="85"/>
                  <a:pt x="72" y="84"/>
                  <a:pt x="9" y="81"/>
                </a:cubicBezTo>
                <a:cubicBezTo>
                  <a:pt x="9" y="81"/>
                  <a:pt x="3" y="81"/>
                  <a:pt x="0" y="81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462924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学 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39600" y="4610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08680" y="380988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2583000"/>
            <a:ext cx="1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145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6640" y="37544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96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20000" y="4897440"/>
            <a:ext cx="11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1490</a:t>
            </a:r>
            <a:r>
              <a:rPr b="1" lang="zh-CN" sz="2400" spc="-1" strike="noStrike">
                <a:solidFill>
                  <a:srgbClr val="0215ca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CD-198W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95444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Chill6" descr=""/>
          <p:cNvPicPr/>
          <p:nvPr/>
        </p:nvPicPr>
        <p:blipFill>
          <a:blip r:embed="rId2"/>
          <a:stretch/>
        </p:blipFill>
        <p:spPr>
          <a:xfrm>
            <a:off x="6248520" y="3352680"/>
            <a:ext cx="1828800" cy="1729080"/>
          </a:xfrm>
          <a:prstGeom prst="rect">
            <a:avLst/>
          </a:prstGeom>
          <a:ln w="0">
            <a:noFill/>
          </a:ln>
        </p:spPr>
      </p:pic>
      <p:pic>
        <p:nvPicPr>
          <p:cNvPr id="98" name="index_20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99" name="LC1560M_x--" descr=""/>
          <p:cNvPicPr/>
          <p:nvPr/>
        </p:nvPicPr>
        <p:blipFill>
          <a:blip r:embed="rId4"/>
          <a:stretch/>
        </p:blipFill>
        <p:spPr>
          <a:xfrm>
            <a:off x="6248520" y="533520"/>
            <a:ext cx="1592280" cy="1299960"/>
          </a:xfrm>
          <a:prstGeom prst="rect">
            <a:avLst/>
          </a:prstGeom>
          <a:ln w="0">
            <a:noFill/>
          </a:ln>
        </p:spPr>
      </p:pic>
      <p:pic>
        <p:nvPicPr>
          <p:cNvPr id="100" name="LR2-5-28L-B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185256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2286000"/>
            <a:ext cx="22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冰箱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5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5334120"/>
            <a:ext cx="171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空调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2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9000" y="3962520"/>
            <a:ext cx="17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饮水机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96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64280" y="1954080"/>
            <a:ext cx="15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彩电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35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8560" y="5334120"/>
            <a:ext cx="18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洗衣机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230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2200" y="7300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5160" y="144792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98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616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27560" y="37418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30160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0320" y="157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5264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3400" y="38289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6640" y="3911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81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2200" y="7300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5160" y="144792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5616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27560" y="37418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9880" y="30160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820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0320" y="157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264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3400" y="38289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6640" y="3911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1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00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2080" y="8683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080" y="3078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2080" y="39164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792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5480" y="1523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2276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05480" y="3048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05480" y="3840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3440" y="6858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08080" y="149220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04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08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7560" y="3614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27560" y="2914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275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600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2960" y="2311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82960" y="3048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37280" y="4300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4441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3741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42680" y="5219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相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8484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796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908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9080" y="30225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1440" y="44197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908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0680" y="30528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1440" y="3733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0680" y="22906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796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03440" y="6858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838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8080" y="149220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0480" y="2209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9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9080" y="29718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6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27560" y="6858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50      1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9600" y="220968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27560" y="3614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12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7560" y="2914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50      2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275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30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00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2960" y="3098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37280" y="43005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125      2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441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741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024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3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585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809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2680" y="5219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相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8484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位数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96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9908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99080" y="30225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1440" y="44197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99080" y="762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99080" y="2286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30528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1440" y="3733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680" y="22906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960" y="155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4800" y="155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76440" y="170172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00      9999                  3864      3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98       402                    8790      87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20       1020                  1500      1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2960" y="1817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2960" y="2898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08160" y="4032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4002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9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1792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6440" y="-136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63240" y="806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一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76440" y="170172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00      9999                  3864      35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98       402                    8790      87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20       1020                  1500      1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2960" y="1817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2960" y="2898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08160" y="40323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4002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29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1792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6440" y="-136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63240" y="806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一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42800" y="5619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二、小窗后面躲着谁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78740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7400" y="1768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26200" y="1766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97600" y="18097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78520" y="1830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188136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13360" y="17953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9360" y="18302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ca"/>
                </a:solidFill>
                <a:latin typeface="宋体"/>
              </a:rPr>
              <a:t>40÷5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75400" y="1857240"/>
            <a:ext cx="449280" cy="4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1440" y="181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15ca"/>
                </a:solidFill>
                <a:latin typeface="宋体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5T01:01:53Z</dcterms:created>
  <dc:creator>tf</dc:creator>
  <dc:description/>
  <dc:language>en-US</dc:language>
  <cp:lastModifiedBy>array</cp:lastModifiedBy>
  <dcterms:modified xsi:type="dcterms:W3CDTF">2004-01-12T09:38:29Z</dcterms:modified>
  <cp:revision>57</cp:revision>
  <dc:subject/>
  <dc:title>化学方程式</dc:title>
</cp:coreProperties>
</file>