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F33-3538-4AD4-921F-92E470A5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2832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9FA-47F1-4D56-A7F1-2648C006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283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20760" y="3283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259-A954-45F8-B544-6AF68417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6080" y="457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3720" y="457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283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6080" y="3283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93720" y="3283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E57-B51B-4E29-AE9E-69B9A628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C1F3-C1C1-47B8-A7A0-224B9796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E26F-7345-46E6-87A6-5DEC4151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A396-F353-480A-9A1C-D6E4D93C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4572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269F-740A-493D-A98F-FF0AB6F8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09CA-334D-4E1B-AF07-9F868F0E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60C7-4BF7-4D41-9D71-02159538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0760" y="4572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283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15CF-DB12-4E22-B75C-E60D0885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514-70DF-442A-9C2A-C1DA9EA0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20760" y="3283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9833-ACBB-4926-8A28-2242EC91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32832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336C-AFAC-43CA-A9B5-B12FA3DB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32832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BD0D-B223-4AF3-8EE8-D280A87C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283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20760" y="3283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5E4D-CB9F-48CA-887C-AE6E40ED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6080" y="457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3720" y="457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3283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6080" y="3283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93720" y="3283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0BF8-99DF-4E19-8396-72D452C3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879-1EE4-4A44-9E4A-96332FB3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4572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A3D-BCDE-4852-B18F-8F1B1D8D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8EE5-D225-467A-B5EE-8A767B55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1A92-9381-4CE8-ADEA-0F13A114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0760" y="4572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283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E5DB-72F4-4322-8344-C6ED16E9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076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20760" y="3283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984-5C2B-41AF-800C-4B4659AF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076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2832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F6E8-852E-4E02-95BE-D83215E4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520" y="0"/>
            <a:ext cx="9123480" cy="68533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3808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SzPct val="75000"/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2001b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488E-0074-48A1-B0E8-7CAF14BFF6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15328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70866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2" action="ppaction://hlinksldjump"/>
          </p:cNvPr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结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4771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7276" y="3837"/>
                </a:moveTo>
                <a:lnTo>
                  <a:pt x="19852" y="6448"/>
                </a:lnTo>
                <a:lnTo>
                  <a:pt x="19852" y="4707"/>
                </a:lnTo>
                <a:lnTo>
                  <a:pt x="21628" y="4707"/>
                </a:lnTo>
                <a:lnTo>
                  <a:pt x="21628" y="8224"/>
                </a:lnTo>
                <a:lnTo>
                  <a:pt x="24239" y="10800"/>
                </a:lnTo>
                <a:lnTo>
                  <a:pt x="22585" y="10800"/>
                </a:lnTo>
                <a:lnTo>
                  <a:pt x="22585" y="17989"/>
                </a:lnTo>
                <a:lnTo>
                  <a:pt x="11967" y="17989"/>
                </a:lnTo>
                <a:lnTo>
                  <a:pt x="11967" y="10800"/>
                </a:lnTo>
                <a:lnTo>
                  <a:pt x="10313" y="10800"/>
                </a:lnTo>
                <a:close/>
              </a:path>
              <a:path fill="darkenLess" w="34552" h="21600">
                <a:moveTo>
                  <a:pt x="19852" y="6448"/>
                </a:moveTo>
                <a:lnTo>
                  <a:pt x="19852" y="4707"/>
                </a:lnTo>
                <a:lnTo>
                  <a:pt x="21628" y="4707"/>
                </a:lnTo>
                <a:lnTo>
                  <a:pt x="21628" y="8224"/>
                </a:lnTo>
                <a:close/>
              </a:path>
              <a:path fill="darkenLess" w="34552" h="21600">
                <a:moveTo>
                  <a:pt x="16353" y="14299"/>
                </a:moveTo>
                <a:lnTo>
                  <a:pt x="18199" y="14299"/>
                </a:lnTo>
                <a:lnTo>
                  <a:pt x="18199" y="17989"/>
                </a:lnTo>
                <a:lnTo>
                  <a:pt x="22585" y="17989"/>
                </a:lnTo>
                <a:lnTo>
                  <a:pt x="22585" y="10800"/>
                </a:lnTo>
                <a:lnTo>
                  <a:pt x="11967" y="10800"/>
                </a:lnTo>
                <a:lnTo>
                  <a:pt x="11967" y="17989"/>
                </a:lnTo>
                <a:lnTo>
                  <a:pt x="16353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previousslide"/>
          </p:cNvPr>
          <p:cNvSpPr/>
          <p:nvPr/>
        </p:nvSpPr>
        <p:spPr>
          <a:xfrm>
            <a:off x="76201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7033-D064-44DC-AFA5-068F6ECCC4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15328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70866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endshow"/>
          </p:cNvPr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结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7276" y="3837"/>
                </a:moveTo>
                <a:lnTo>
                  <a:pt x="19852" y="6448"/>
                </a:lnTo>
                <a:lnTo>
                  <a:pt x="19852" y="4707"/>
                </a:lnTo>
                <a:lnTo>
                  <a:pt x="21628" y="4707"/>
                </a:lnTo>
                <a:lnTo>
                  <a:pt x="21628" y="8224"/>
                </a:lnTo>
                <a:lnTo>
                  <a:pt x="24239" y="10800"/>
                </a:lnTo>
                <a:lnTo>
                  <a:pt x="22585" y="10800"/>
                </a:lnTo>
                <a:lnTo>
                  <a:pt x="22585" y="17989"/>
                </a:lnTo>
                <a:lnTo>
                  <a:pt x="11967" y="17989"/>
                </a:lnTo>
                <a:lnTo>
                  <a:pt x="11967" y="10800"/>
                </a:lnTo>
                <a:lnTo>
                  <a:pt x="10313" y="10800"/>
                </a:lnTo>
                <a:close/>
              </a:path>
              <a:path fill="darkenLess" w="34552" h="21600">
                <a:moveTo>
                  <a:pt x="19852" y="6448"/>
                </a:moveTo>
                <a:lnTo>
                  <a:pt x="19852" y="4707"/>
                </a:lnTo>
                <a:lnTo>
                  <a:pt x="21628" y="4707"/>
                </a:lnTo>
                <a:lnTo>
                  <a:pt x="21628" y="8224"/>
                </a:lnTo>
                <a:close/>
              </a:path>
              <a:path fill="darkenLess" w="34552" h="21600">
                <a:moveTo>
                  <a:pt x="16353" y="14299"/>
                </a:moveTo>
                <a:lnTo>
                  <a:pt x="18199" y="14299"/>
                </a:lnTo>
                <a:lnTo>
                  <a:pt x="18199" y="17989"/>
                </a:lnTo>
                <a:lnTo>
                  <a:pt x="22585" y="17989"/>
                </a:lnTo>
                <a:lnTo>
                  <a:pt x="22585" y="10800"/>
                </a:lnTo>
                <a:lnTo>
                  <a:pt x="11967" y="10800"/>
                </a:lnTo>
                <a:lnTo>
                  <a:pt x="11967" y="17989"/>
                </a:lnTo>
                <a:lnTo>
                  <a:pt x="16353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76201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2001bd"/>
              </a:buClr>
              <a:buSzPct val="7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5715000"/>
            <a:ext cx="7467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slide0004_image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2120" y="3505320"/>
            <a:ext cx="80010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万以内数的大小比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42800" y="56196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二、小窗后面躲着谁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1787400"/>
            <a:ext cx="3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7400" y="176832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5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26200" y="17668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97600" y="180972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78520" y="18302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188136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62320" y="185724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13360" y="1795320"/>
            <a:ext cx="7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9360" y="1830240"/>
            <a:ext cx="14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40÷5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75400" y="185724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31440" y="1814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15ca"/>
                </a:solidFill>
                <a:latin typeface="宋体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09480" y="1752480"/>
            <a:ext cx="41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42800" y="56196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二、小窗后面躲着谁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1787400"/>
            <a:ext cx="3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7400" y="176832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5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26200" y="17668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97600" y="180972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78520" y="18302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188136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185724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13360" y="1795320"/>
            <a:ext cx="7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49360" y="1830240"/>
            <a:ext cx="14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40÷5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475400" y="185724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31440" y="1814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15ca"/>
                </a:solidFill>
                <a:latin typeface="宋体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09480" y="1752480"/>
            <a:ext cx="41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11960" y="1766880"/>
            <a:ext cx="41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242800" y="56196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二、小窗后面躲着谁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1787400"/>
            <a:ext cx="3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7400" y="176832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5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26200" y="17668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97600" y="180972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78520" y="18302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188136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2320" y="185724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13360" y="1795320"/>
            <a:ext cx="7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9360" y="1830240"/>
            <a:ext cx="14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40÷5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75400" y="185724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831440" y="1814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15ca"/>
                </a:solidFill>
                <a:latin typeface="宋体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09480" y="1752480"/>
            <a:ext cx="41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11960" y="1766880"/>
            <a:ext cx="41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522560" y="1768320"/>
            <a:ext cx="41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09480" y="45720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三、小冬、小明、小华三家离学校的距离如图，一天放学后，小冬和小明都用了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分钟到家，小芳比小冬提前了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分钟到家，通过这些你知道了些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0" y="38098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64240" y="392436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153280" y="43434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64240" y="3924360"/>
            <a:ext cx="417240" cy="266760"/>
          </a:xfrm>
          <a:prstGeom prst="flowChartPunchedTap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62440" y="2557440"/>
            <a:ext cx="2424240" cy="2071800"/>
          </a:xfrm>
          <a:custGeom>
            <a:avLst/>
            <a:gdLst/>
            <a:ahLst/>
            <a:rect l="l" t="t" r="r" b="b"/>
            <a:pathLst>
              <a:path w="1527" h="1305">
                <a:moveTo>
                  <a:pt x="1527" y="0"/>
                </a:moveTo>
                <a:cubicBezTo>
                  <a:pt x="1482" y="6"/>
                  <a:pt x="1414" y="9"/>
                  <a:pt x="1374" y="36"/>
                </a:cubicBezTo>
                <a:cubicBezTo>
                  <a:pt x="1373" y="36"/>
                  <a:pt x="1307" y="81"/>
                  <a:pt x="1293" y="90"/>
                </a:cubicBezTo>
                <a:cubicBezTo>
                  <a:pt x="1284" y="96"/>
                  <a:pt x="1266" y="108"/>
                  <a:pt x="1266" y="108"/>
                </a:cubicBezTo>
                <a:cubicBezTo>
                  <a:pt x="1234" y="156"/>
                  <a:pt x="1182" y="185"/>
                  <a:pt x="1149" y="234"/>
                </a:cubicBezTo>
                <a:cubicBezTo>
                  <a:pt x="1103" y="303"/>
                  <a:pt x="1057" y="394"/>
                  <a:pt x="987" y="441"/>
                </a:cubicBezTo>
                <a:cubicBezTo>
                  <a:pt x="954" y="539"/>
                  <a:pt x="1009" y="393"/>
                  <a:pt x="951" y="486"/>
                </a:cubicBezTo>
                <a:cubicBezTo>
                  <a:pt x="941" y="502"/>
                  <a:pt x="939" y="522"/>
                  <a:pt x="933" y="540"/>
                </a:cubicBezTo>
                <a:cubicBezTo>
                  <a:pt x="921" y="577"/>
                  <a:pt x="869" y="642"/>
                  <a:pt x="834" y="666"/>
                </a:cubicBezTo>
                <a:cubicBezTo>
                  <a:pt x="786" y="738"/>
                  <a:pt x="849" y="651"/>
                  <a:pt x="789" y="711"/>
                </a:cubicBezTo>
                <a:cubicBezTo>
                  <a:pt x="781" y="719"/>
                  <a:pt x="779" y="731"/>
                  <a:pt x="771" y="738"/>
                </a:cubicBezTo>
                <a:cubicBezTo>
                  <a:pt x="755" y="752"/>
                  <a:pt x="735" y="762"/>
                  <a:pt x="717" y="774"/>
                </a:cubicBezTo>
                <a:cubicBezTo>
                  <a:pt x="708" y="780"/>
                  <a:pt x="690" y="792"/>
                  <a:pt x="690" y="792"/>
                </a:cubicBezTo>
                <a:cubicBezTo>
                  <a:pt x="660" y="838"/>
                  <a:pt x="628" y="887"/>
                  <a:pt x="582" y="918"/>
                </a:cubicBezTo>
                <a:cubicBezTo>
                  <a:pt x="531" y="995"/>
                  <a:pt x="615" y="876"/>
                  <a:pt x="510" y="981"/>
                </a:cubicBezTo>
                <a:cubicBezTo>
                  <a:pt x="477" y="1014"/>
                  <a:pt x="438" y="1043"/>
                  <a:pt x="402" y="1071"/>
                </a:cubicBezTo>
                <a:cubicBezTo>
                  <a:pt x="385" y="1084"/>
                  <a:pt x="366" y="1095"/>
                  <a:pt x="348" y="1107"/>
                </a:cubicBezTo>
                <a:cubicBezTo>
                  <a:pt x="339" y="1113"/>
                  <a:pt x="321" y="1125"/>
                  <a:pt x="321" y="1125"/>
                </a:cubicBezTo>
                <a:cubicBezTo>
                  <a:pt x="297" y="1161"/>
                  <a:pt x="260" y="1171"/>
                  <a:pt x="222" y="1197"/>
                </a:cubicBezTo>
                <a:cubicBezTo>
                  <a:pt x="199" y="1213"/>
                  <a:pt x="167" y="1242"/>
                  <a:pt x="141" y="1251"/>
                </a:cubicBezTo>
                <a:cubicBezTo>
                  <a:pt x="96" y="1266"/>
                  <a:pt x="51" y="1281"/>
                  <a:pt x="6" y="1296"/>
                </a:cubicBezTo>
                <a:cubicBezTo>
                  <a:pt x="0" y="1298"/>
                  <a:pt x="18" y="1302"/>
                  <a:pt x="24" y="1305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14920" y="3886200"/>
            <a:ext cx="2295360" cy="743040"/>
          </a:xfrm>
          <a:custGeom>
            <a:avLst/>
            <a:gdLst/>
            <a:ahLst/>
            <a:rect l="l" t="t" r="r" b="b"/>
            <a:pathLst>
              <a:path w="1890" h="574">
                <a:moveTo>
                  <a:pt x="1890" y="34"/>
                </a:moveTo>
                <a:cubicBezTo>
                  <a:pt x="1755" y="0"/>
                  <a:pt x="1590" y="54"/>
                  <a:pt x="1467" y="115"/>
                </a:cubicBezTo>
                <a:cubicBezTo>
                  <a:pt x="1397" y="150"/>
                  <a:pt x="1486" y="114"/>
                  <a:pt x="1413" y="160"/>
                </a:cubicBezTo>
                <a:cubicBezTo>
                  <a:pt x="1375" y="184"/>
                  <a:pt x="1327" y="203"/>
                  <a:pt x="1287" y="223"/>
                </a:cubicBezTo>
                <a:cubicBezTo>
                  <a:pt x="1211" y="261"/>
                  <a:pt x="1133" y="311"/>
                  <a:pt x="1062" y="358"/>
                </a:cubicBezTo>
                <a:cubicBezTo>
                  <a:pt x="991" y="405"/>
                  <a:pt x="828" y="444"/>
                  <a:pt x="738" y="466"/>
                </a:cubicBezTo>
                <a:cubicBezTo>
                  <a:pt x="595" y="502"/>
                  <a:pt x="446" y="557"/>
                  <a:pt x="297" y="565"/>
                </a:cubicBezTo>
                <a:cubicBezTo>
                  <a:pt x="122" y="574"/>
                  <a:pt x="104" y="574"/>
                  <a:pt x="0" y="574"/>
                </a:cubicBezTo>
              </a:path>
            </a:pathLst>
          </a:custGeom>
          <a:noFill/>
          <a:ln w="158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00600" y="4495680"/>
            <a:ext cx="3429000" cy="370080"/>
          </a:xfrm>
          <a:custGeom>
            <a:avLst/>
            <a:gdLst/>
            <a:ahLst/>
            <a:rect l="l" t="t" r="r" b="b"/>
            <a:pathLst>
              <a:path w="1269" h="233">
                <a:moveTo>
                  <a:pt x="1269" y="0"/>
                </a:moveTo>
                <a:cubicBezTo>
                  <a:pt x="1255" y="54"/>
                  <a:pt x="1264" y="24"/>
                  <a:pt x="1242" y="90"/>
                </a:cubicBezTo>
                <a:cubicBezTo>
                  <a:pt x="1235" y="111"/>
                  <a:pt x="1206" y="114"/>
                  <a:pt x="1188" y="126"/>
                </a:cubicBezTo>
                <a:cubicBezTo>
                  <a:pt x="1116" y="174"/>
                  <a:pt x="1039" y="193"/>
                  <a:pt x="954" y="207"/>
                </a:cubicBezTo>
                <a:cubicBezTo>
                  <a:pt x="774" y="204"/>
                  <a:pt x="589" y="233"/>
                  <a:pt x="414" y="189"/>
                </a:cubicBezTo>
                <a:cubicBezTo>
                  <a:pt x="347" y="172"/>
                  <a:pt x="253" y="95"/>
                  <a:pt x="198" y="90"/>
                </a:cubicBezTo>
                <a:cubicBezTo>
                  <a:pt x="135" y="85"/>
                  <a:pt x="72" y="84"/>
                  <a:pt x="9" y="81"/>
                </a:cubicBezTo>
                <a:cubicBezTo>
                  <a:pt x="9" y="81"/>
                  <a:pt x="3" y="81"/>
                  <a:pt x="0" y="81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78320" y="4629240"/>
            <a:ext cx="170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学 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139600" y="4610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小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08680" y="380988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小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92920" y="2583000"/>
            <a:ext cx="14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小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971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215ca"/>
                </a:solidFill>
                <a:latin typeface="宋体"/>
              </a:rPr>
              <a:t>1450</a:t>
            </a:r>
            <a:r>
              <a:rPr b="1" lang="zh-CN" sz="2400" spc="-1" strike="noStrike">
                <a:solidFill>
                  <a:srgbClr val="0215ca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96640" y="37544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215ca"/>
                </a:solidFill>
                <a:latin typeface="宋体"/>
              </a:rPr>
              <a:t>960</a:t>
            </a:r>
            <a:r>
              <a:rPr b="1" lang="zh-CN" sz="2400" spc="-1" strike="noStrike">
                <a:solidFill>
                  <a:srgbClr val="0215ca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20000" y="4897440"/>
            <a:ext cx="11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215ca"/>
                </a:solidFill>
                <a:latin typeface="宋体"/>
              </a:rPr>
              <a:t>1490</a:t>
            </a:r>
            <a:r>
              <a:rPr b="1" lang="zh-CN" sz="2400" spc="-1" strike="noStrike">
                <a:solidFill>
                  <a:srgbClr val="0215ca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BCD-198W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1954440" cy="1676520"/>
          </a:xfrm>
          <a:prstGeom prst="rect">
            <a:avLst/>
          </a:prstGeom>
          <a:ln w="0">
            <a:noFill/>
          </a:ln>
        </p:spPr>
      </p:pic>
      <p:pic>
        <p:nvPicPr>
          <p:cNvPr id="97" name="Chill6" descr=""/>
          <p:cNvPicPr/>
          <p:nvPr/>
        </p:nvPicPr>
        <p:blipFill>
          <a:blip r:embed="rId2"/>
          <a:stretch/>
        </p:blipFill>
        <p:spPr>
          <a:xfrm>
            <a:off x="6248520" y="3352680"/>
            <a:ext cx="1828800" cy="1729080"/>
          </a:xfrm>
          <a:prstGeom prst="rect">
            <a:avLst/>
          </a:prstGeom>
          <a:ln w="0">
            <a:noFill/>
          </a:ln>
        </p:spPr>
      </p:pic>
      <p:pic>
        <p:nvPicPr>
          <p:cNvPr id="98" name="index_20" descr=""/>
          <p:cNvPicPr/>
          <p:nvPr/>
        </p:nvPicPr>
        <p:blipFill>
          <a:blip r:embed="rId3"/>
          <a:stretch/>
        </p:blipFill>
        <p:spPr>
          <a:xfrm>
            <a:off x="1295280" y="3962520"/>
            <a:ext cx="1252800" cy="1252440"/>
          </a:xfrm>
          <a:prstGeom prst="rect">
            <a:avLst/>
          </a:prstGeom>
          <a:ln w="0">
            <a:noFill/>
          </a:ln>
        </p:spPr>
      </p:pic>
      <p:pic>
        <p:nvPicPr>
          <p:cNvPr id="99" name="LC1560M_x--" descr=""/>
          <p:cNvPicPr/>
          <p:nvPr/>
        </p:nvPicPr>
        <p:blipFill>
          <a:blip r:embed="rId4"/>
          <a:stretch/>
        </p:blipFill>
        <p:spPr>
          <a:xfrm>
            <a:off x="6248520" y="533520"/>
            <a:ext cx="1592280" cy="1299960"/>
          </a:xfrm>
          <a:prstGeom prst="rect">
            <a:avLst/>
          </a:prstGeom>
          <a:ln w="0">
            <a:noFill/>
          </a:ln>
        </p:spPr>
      </p:pic>
      <p:pic>
        <p:nvPicPr>
          <p:cNvPr id="100" name="LR2-5-28L-B" descr=""/>
          <p:cNvPicPr/>
          <p:nvPr/>
        </p:nvPicPr>
        <p:blipFill>
          <a:blip r:embed="rId5"/>
          <a:stretch/>
        </p:blipFill>
        <p:spPr>
          <a:xfrm>
            <a:off x="3733920" y="1447920"/>
            <a:ext cx="185256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5800" y="2286000"/>
            <a:ext cx="22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电冰箱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150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5334120"/>
            <a:ext cx="171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空调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12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9000" y="3962520"/>
            <a:ext cx="17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饮水机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96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64280" y="1954080"/>
            <a:ext cx="15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彩电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350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78560" y="5334120"/>
            <a:ext cx="18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洗衣机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230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92200" y="73008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50      9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838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75160" y="144792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65      1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9880" y="220968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9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56160" y="297180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65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27560" y="68580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50      1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9600" y="220968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27560" y="374184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350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9880" y="301608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350      21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200" y="144792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230      2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30320" y="157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52640" y="23623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124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3400" y="382896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2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06640" y="39117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817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30243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2347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1585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809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92200" y="73008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50      9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838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75160" y="144792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65      1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9880" y="220968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9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56160" y="297180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65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7560" y="68580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50      1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9600" y="220968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27560" y="374184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350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9880" y="301608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350      21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8200" y="144792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230      2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30320" y="157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52640" y="23623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3124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3400" y="382896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2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06640" y="39117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17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30243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2347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1585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809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1000" y="1554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2080" y="8683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2080" y="22860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080" y="30780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2080" y="391644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22760" y="7920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05480" y="152388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22760" y="22860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05480" y="3048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05480" y="3840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03440" y="6858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50      9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838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08080" y="149220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65      1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0480" y="220968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9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89080" y="297180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65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27560" y="68580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50      1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9600" y="220968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27560" y="361476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350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27560" y="291456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350      21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27560" y="144792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230      2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1600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82960" y="2311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82960" y="3048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37280" y="430056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2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44416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37418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24480" y="30243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2347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1585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809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42680" y="5219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位数相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84840" y="5226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位数不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7960" y="762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99080" y="1554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99080" y="302256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81440" y="44197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99080" y="762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99080" y="22860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0680" y="30528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1440" y="37339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0680" y="229068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7960" y="1554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03440" y="6858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50      9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838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08080" y="149220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65      1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60480" y="220968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9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89080" y="297180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65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27560" y="68580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50      1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9600" y="220968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27560" y="361476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350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27560" y="291456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350      21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27560" y="144792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230      2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1600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82960" y="3098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37280" y="430056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2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44416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37418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30243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2347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585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809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42680" y="5219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位数相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84840" y="5226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位数不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7960" y="762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99080" y="1554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99080" y="302256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81440" y="44197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99080" y="762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99080" y="22860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0680" y="30528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81440" y="37339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0680" y="229068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7960" y="1554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4800" y="1554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76440" y="1701720"/>
            <a:ext cx="768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0000      9999                  3864      352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98       402                    8790      879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020       1020                  1500      1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82960" y="1817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82960" y="2898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08160" y="40323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4002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2924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5720" y="17924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6440" y="-1364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63240" y="80640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一、比一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76440" y="1701720"/>
            <a:ext cx="768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0000      9999                  3864      352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98       402                    8790      879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020       1020                  1500      1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82960" y="1817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82960" y="2898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08160" y="40323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4002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2924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05720" y="17924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6440" y="-1364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63240" y="80640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一、比一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242800" y="56196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二、小窗后面躲着谁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787400"/>
            <a:ext cx="3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97400" y="176832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5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26200" y="17668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97600" y="180972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78520" y="18302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188136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185724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13360" y="1795320"/>
            <a:ext cx="7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9360" y="1830240"/>
            <a:ext cx="14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40÷5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75400" y="185724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31440" y="1814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15ca"/>
                </a:solidFill>
                <a:latin typeface="宋体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5T01:01:53Z</dcterms:created>
  <dc:creator>tf</dc:creator>
  <dc:description/>
  <dc:language>en-US</dc:language>
  <cp:lastModifiedBy>array</cp:lastModifiedBy>
  <dcterms:modified xsi:type="dcterms:W3CDTF">2004-01-12T09:38:29Z</dcterms:modified>
  <cp:revision>57</cp:revision>
  <dc:subject/>
  <dc:title>化学方程式</dc:title>
</cp:coreProperties>
</file>