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0DF-12DE-4AB3-B642-F8AAF43D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6F2-8764-4CF4-9D05-086543D8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201-44D1-42EB-BC9D-71E81019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358-4491-49C4-8C66-ED430159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CDF-A836-46E6-99A9-B56EB4F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D1D-54D5-4437-8DC4-0C6950AA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0B5-E509-4D4E-8679-CB204CB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F52-0121-4D90-B2DE-650CCCE1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2E9-B3BB-44F0-9289-6579BB4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2B7-D421-4D29-B3E3-C8ECC55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912-7F37-4571-95B8-4F62048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79F-5FA7-469F-9D66-F79096A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F8F3-D5A9-481C-A97C-7000869AB0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80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79480" y="3077640"/>
            <a:ext cx="602640" cy="702720"/>
            <a:chOff x="3579480" y="3077640"/>
            <a:chExt cx="602640" cy="702720"/>
          </a:xfrm>
        </p:grpSpPr>
        <p:sp>
          <p:nvSpPr>
            <p:cNvPr id="45" name=""/>
            <p:cNvSpPr/>
            <p:nvPr/>
          </p:nvSpPr>
          <p:spPr>
            <a:xfrm flipH="1">
              <a:off x="3579480" y="3077640"/>
              <a:ext cx="29592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2600" y="3078360"/>
              <a:ext cx="299520" cy="70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31632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41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766760" y="3077640"/>
            <a:ext cx="602280" cy="702720"/>
            <a:chOff x="4766760" y="3077640"/>
            <a:chExt cx="602280" cy="702720"/>
          </a:xfrm>
        </p:grpSpPr>
        <p:sp>
          <p:nvSpPr>
            <p:cNvPr id="50" name=""/>
            <p:cNvSpPr/>
            <p:nvPr/>
          </p:nvSpPr>
          <p:spPr>
            <a:xfrm flipH="1">
              <a:off x="4766760" y="3077640"/>
              <a:ext cx="29556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9880" y="3078720"/>
              <a:ext cx="299160" cy="70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036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214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75160" y="4191120"/>
            <a:ext cx="1218960" cy="304560"/>
            <a:chOff x="3575160" y="4191120"/>
            <a:chExt cx="1218960" cy="304560"/>
          </a:xfrm>
        </p:grpSpPr>
        <p:sp>
          <p:nvSpPr>
            <p:cNvPr id="55" name=""/>
            <p:cNvSpPr/>
            <p:nvPr/>
          </p:nvSpPr>
          <p:spPr>
            <a:xfrm>
              <a:off x="357516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75160" y="4495680"/>
              <a:ext cx="1218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9412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184640" y="4191120"/>
            <a:ext cx="1219320" cy="457200"/>
            <a:chOff x="4184640" y="4191120"/>
            <a:chExt cx="1219320" cy="457200"/>
          </a:xfrm>
        </p:grpSpPr>
        <p:sp>
          <p:nvSpPr>
            <p:cNvPr id="59" name=""/>
            <p:cNvSpPr/>
            <p:nvPr/>
          </p:nvSpPr>
          <p:spPr>
            <a:xfrm>
              <a:off x="4184640" y="41911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84640" y="464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403960" y="41911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353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364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56040" y="4952880"/>
            <a:ext cx="838080" cy="304920"/>
            <a:chOff x="3956040" y="4952880"/>
            <a:chExt cx="838080" cy="304920"/>
          </a:xfrm>
        </p:grpSpPr>
        <p:sp>
          <p:nvSpPr>
            <p:cNvPr id="65" name=""/>
            <p:cNvSpPr/>
            <p:nvPr/>
          </p:nvSpPr>
          <p:spPr>
            <a:xfrm>
              <a:off x="395604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6040" y="525780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94120" y="50288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15440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747680" y="3077640"/>
            <a:ext cx="602280" cy="702720"/>
            <a:chOff x="4747680" y="3077640"/>
            <a:chExt cx="602280" cy="702720"/>
          </a:xfrm>
        </p:grpSpPr>
        <p:sp>
          <p:nvSpPr>
            <p:cNvPr id="74" name=""/>
            <p:cNvSpPr/>
            <p:nvPr/>
          </p:nvSpPr>
          <p:spPr>
            <a:xfrm flipH="1">
              <a:off x="4747680" y="3077640"/>
              <a:ext cx="29556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50800" y="3078720"/>
              <a:ext cx="299160" cy="70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5036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214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62520" y="3124080"/>
            <a:ext cx="831600" cy="1371600"/>
            <a:chOff x="3962520" y="3124080"/>
            <a:chExt cx="831600" cy="1371600"/>
          </a:xfrm>
        </p:grpSpPr>
        <p:sp>
          <p:nvSpPr>
            <p:cNvPr id="79" name=""/>
            <p:cNvSpPr/>
            <p:nvPr/>
          </p:nvSpPr>
          <p:spPr>
            <a:xfrm>
              <a:off x="3962520" y="31240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4495680"/>
              <a:ext cx="83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79412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1608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419720" y="4114440"/>
            <a:ext cx="990360" cy="1143360"/>
            <a:chOff x="4419720" y="4114440"/>
            <a:chExt cx="990360" cy="1143360"/>
          </a:xfrm>
        </p:grpSpPr>
        <p:sp>
          <p:nvSpPr>
            <p:cNvPr id="84" name="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9720" y="5257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391000" y="411444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260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79480" y="3077640"/>
            <a:ext cx="602640" cy="702720"/>
            <a:chOff x="3579480" y="3077640"/>
            <a:chExt cx="602640" cy="702720"/>
          </a:xfrm>
        </p:grpSpPr>
        <p:sp>
          <p:nvSpPr>
            <p:cNvPr id="93" name=""/>
            <p:cNvSpPr/>
            <p:nvPr/>
          </p:nvSpPr>
          <p:spPr>
            <a:xfrm flipH="1">
              <a:off x="3579480" y="3077640"/>
              <a:ext cx="29592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2600" y="3078360"/>
              <a:ext cx="299520" cy="70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31632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41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75160" y="3048120"/>
            <a:ext cx="1454040" cy="1295280"/>
            <a:chOff x="3575160" y="3048120"/>
            <a:chExt cx="1454040" cy="1295280"/>
          </a:xfrm>
        </p:grpSpPr>
        <p:sp>
          <p:nvSpPr>
            <p:cNvPr id="98" name=""/>
            <p:cNvSpPr/>
            <p:nvPr/>
          </p:nvSpPr>
          <p:spPr>
            <a:xfrm>
              <a:off x="3575160" y="41148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5160" y="4343400"/>
              <a:ext cx="1454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029200" y="30481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3684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91120" y="4191120"/>
            <a:ext cx="304560" cy="838080"/>
            <a:chOff x="4191120" y="4191120"/>
            <a:chExt cx="304560" cy="838080"/>
          </a:xfrm>
        </p:grpSpPr>
        <p:sp>
          <p:nvSpPr>
            <p:cNvPr id="103" name=""/>
            <p:cNvSpPr/>
            <p:nvPr/>
          </p:nvSpPr>
          <p:spPr>
            <a:xfrm>
              <a:off x="4191120" y="419112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91120" y="50292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495680" y="48002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11624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61240" y="10666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     6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5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9520" y="2533680"/>
            <a:ext cx="21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＋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7680" y="3077640"/>
            <a:ext cx="602280" cy="702720"/>
            <a:chOff x="4747680" y="3077640"/>
            <a:chExt cx="602280" cy="702720"/>
          </a:xfrm>
        </p:grpSpPr>
        <p:sp>
          <p:nvSpPr>
            <p:cNvPr id="112" name=""/>
            <p:cNvSpPr/>
            <p:nvPr/>
          </p:nvSpPr>
          <p:spPr>
            <a:xfrm flipH="1">
              <a:off x="4747680" y="3077640"/>
              <a:ext cx="295560" cy="70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0800" y="3078720"/>
              <a:ext cx="299160" cy="70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0360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214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62520" y="3124080"/>
            <a:ext cx="1447200" cy="1371600"/>
            <a:chOff x="3962520" y="3124080"/>
            <a:chExt cx="1447200" cy="1371600"/>
          </a:xfrm>
        </p:grpSpPr>
        <p:sp>
          <p:nvSpPr>
            <p:cNvPr id="117" name=""/>
            <p:cNvSpPr/>
            <p:nvPr/>
          </p:nvSpPr>
          <p:spPr>
            <a:xfrm>
              <a:off x="3962520" y="31240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62520" y="4495680"/>
              <a:ext cx="144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409720" y="4191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1608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19720" y="4114440"/>
            <a:ext cx="304560" cy="1143360"/>
            <a:chOff x="4419720" y="4114440"/>
            <a:chExt cx="304560" cy="1143360"/>
          </a:xfrm>
        </p:grpSpPr>
        <p:sp>
          <p:nvSpPr>
            <p:cNvPr id="122" name="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52578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18520" y="411444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34484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5200" y="25448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8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5180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4720" y="3417840"/>
            <a:ext cx="23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9760" y="452592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8160" y="3448080"/>
            <a:ext cx="23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23400" y="4525920"/>
            <a:ext cx="22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68520" y="352440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63840" y="460224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61600" y="106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     7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01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方法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20280" y="368784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64200" y="4602240"/>
            <a:ext cx="22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43200" y="3052800"/>
            <a:ext cx="533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想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4327920" y="106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3:14:32Z</dcterms:created>
  <dc:creator>tf</dc:creator>
  <dc:description/>
  <dc:language>en-US</dc:language>
  <cp:lastModifiedBy>array</cp:lastModifiedBy>
  <dcterms:modified xsi:type="dcterms:W3CDTF">2004-01-08T00:23:33Z</dcterms:modified>
  <cp:revision>40</cp:revision>
  <dc:subject/>
  <dc:title>PowerPoint 演示文稿</dc:title>
</cp:coreProperties>
</file>