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5496-2FA5-46BE-B447-66BC3553C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0285-86C6-48EA-8AEF-5B55C42C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0FE3-500C-4DCC-94E5-1BE84A21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4FDF-C99F-423F-8ADF-DFDF5BF7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8C78-FFD6-4330-9676-0B79F91E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0498-88CD-4F4A-9B49-BB26D5F5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827A-CF5B-4D19-8C38-A7A60BD0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F2D9-5418-4BC0-A279-A43BFB56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9512-53E0-4C28-B315-E919A553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151D-1820-4E5F-8DF4-5F329286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F240-52A1-427C-BE89-4BC3F557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FC9F-F643-433A-98B5-A75C6CA7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D9B5-D2EC-4746-B130-80057B3E55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87000" y="380880"/>
            <a:ext cx="6246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 Unicode MS"/>
                <a:ea typeface="Arial Unicode MS"/>
              </a:rPr>
              <a:t>1</a:t>
            </a:r>
            <a:r>
              <a:rPr b="0" lang="zh-CN" sz="2400" spc="-1" strike="noStrike">
                <a:solidFill>
                  <a:srgbClr val="ff9900"/>
                </a:solidFill>
                <a:latin typeface="宋体"/>
              </a:rPr>
              <a:t>．拆数游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把下面各数拆成整百和整十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　　　　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6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8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52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79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1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6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把下面各数拆成整百和一百几十的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　　　　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6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72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7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5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84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2776680"/>
            <a:ext cx="45208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 Unicode MS"/>
                <a:ea typeface="Arial Unicode MS"/>
              </a:rPr>
              <a:t>2</a:t>
            </a:r>
            <a:r>
              <a:rPr b="0" lang="zh-CN" sz="2400" spc="-1" strike="noStrike">
                <a:solidFill>
                  <a:srgbClr val="ff9900"/>
                </a:solidFill>
                <a:latin typeface="宋体"/>
              </a:rPr>
              <a:t>．口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　　（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2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是由几个百和几个十组成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　　（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2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是由几个十组成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　　（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是由几个十几个一组成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58840" y="4960800"/>
            <a:ext cx="64137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 Unicode MS"/>
                <a:ea typeface="Arial Unicode MS"/>
              </a:rPr>
              <a:t>3</a:t>
            </a:r>
            <a:r>
              <a:rPr b="0" lang="zh-CN" sz="2400" spc="-1" strike="noStrike">
                <a:solidFill>
                  <a:srgbClr val="ff9900"/>
                </a:solidFill>
                <a:latin typeface="宋体"/>
              </a:rPr>
              <a:t>．口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　　（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0+40+300= 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　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00+400+20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60-20+300=  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　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00-200+60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523880" y="2438280"/>
            <a:ext cx="6782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989800"/>
                  </a:outerShdw>
                </a:effectLst>
                <a:latin typeface="宋体"/>
              </a:rPr>
              <a:t>几百几十的加减法（一）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9898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06200" y="1035000"/>
            <a:ext cx="26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20  +  40  =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958680"/>
            <a:ext cx="99072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zgt" descr=""/>
          <p:cNvPicPr/>
          <p:nvPr/>
        </p:nvPicPr>
        <p:blipFill>
          <a:blip r:embed="rId1"/>
          <a:stretch/>
        </p:blipFill>
        <p:spPr>
          <a:xfrm>
            <a:off x="4800600" y="1943280"/>
            <a:ext cx="4103640" cy="171432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1752480" y="1676520"/>
            <a:ext cx="1067040" cy="838080"/>
            <a:chOff x="1752480" y="1676520"/>
            <a:chExt cx="1067040" cy="838080"/>
          </a:xfrm>
        </p:grpSpPr>
        <p:sp>
          <p:nvSpPr>
            <p:cNvPr id="49" name=""/>
            <p:cNvSpPr/>
            <p:nvPr/>
          </p:nvSpPr>
          <p:spPr>
            <a:xfrm flipH="1">
              <a:off x="1752480" y="1676520"/>
              <a:ext cx="533520" cy="838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362320" y="1676520"/>
              <a:ext cx="457200" cy="838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339920" y="251460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34040" y="2514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143160" y="1599840"/>
            <a:ext cx="438120" cy="1219680"/>
            <a:chOff x="3143160" y="1599840"/>
            <a:chExt cx="438120" cy="1219680"/>
          </a:xfrm>
        </p:grpSpPr>
        <p:sp>
          <p:nvSpPr>
            <p:cNvPr id="54" name=""/>
            <p:cNvSpPr/>
            <p:nvPr/>
          </p:nvSpPr>
          <p:spPr>
            <a:xfrm>
              <a:off x="3143160" y="2819520"/>
              <a:ext cx="438120" cy="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581280" y="1599840"/>
              <a:ext cx="0" cy="121932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556160" y="106668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3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19840" y="2076480"/>
            <a:ext cx="213372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teacher" descr=""/>
          <p:cNvPicPr/>
          <p:nvPr/>
        </p:nvPicPr>
        <p:blipFill>
          <a:blip r:embed="rId2"/>
          <a:stretch/>
        </p:blipFill>
        <p:spPr>
          <a:xfrm>
            <a:off x="6629400" y="4457880"/>
            <a:ext cx="1521000" cy="1942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14600" y="4952880"/>
            <a:ext cx="3657600" cy="1219320"/>
          </a:xfrm>
          <a:prstGeom prst="wedgeRoundRectCallout">
            <a:avLst>
              <a:gd name="adj1" fmla="val 63629"/>
              <a:gd name="adj2" fmla="val 2083"/>
              <a:gd name="adj3" fmla="val 16667"/>
            </a:avLst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加上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40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得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300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加上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得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360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219320" y="2971800"/>
            <a:ext cx="4440600" cy="718920"/>
            <a:chOff x="1219320" y="2971800"/>
            <a:chExt cx="4440600" cy="718920"/>
          </a:xfrm>
        </p:grpSpPr>
        <p:sp>
          <p:nvSpPr>
            <p:cNvPr id="61" name=""/>
            <p:cNvSpPr/>
            <p:nvPr/>
          </p:nvSpPr>
          <p:spPr>
            <a:xfrm>
              <a:off x="2776320" y="3048120"/>
              <a:ext cx="288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</a:rPr>
                <a:t>360  </a:t>
              </a: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</a:rPr>
                <a:t>－  </a:t>
              </a: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</a:rPr>
                <a:t>40  =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19320" y="2971800"/>
              <a:ext cx="9903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７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727000" y="3689280"/>
            <a:ext cx="1066680" cy="838080"/>
            <a:chOff x="2727000" y="3689280"/>
            <a:chExt cx="1066680" cy="838080"/>
          </a:xfrm>
        </p:grpSpPr>
        <p:sp>
          <p:nvSpPr>
            <p:cNvPr id="64" name=""/>
            <p:cNvSpPr/>
            <p:nvPr/>
          </p:nvSpPr>
          <p:spPr>
            <a:xfrm flipH="1">
              <a:off x="2727000" y="3689280"/>
              <a:ext cx="533160" cy="838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36840" y="3689280"/>
              <a:ext cx="456840" cy="838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2314440" y="452772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08920" y="4527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118040" y="3613320"/>
            <a:ext cx="605880" cy="1218960"/>
            <a:chOff x="4118040" y="3613320"/>
            <a:chExt cx="605880" cy="1218960"/>
          </a:xfrm>
        </p:grpSpPr>
        <p:sp>
          <p:nvSpPr>
            <p:cNvPr id="69" name=""/>
            <p:cNvSpPr/>
            <p:nvPr/>
          </p:nvSpPr>
          <p:spPr>
            <a:xfrm>
              <a:off x="4118040" y="4832280"/>
              <a:ext cx="605880" cy="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4723920" y="3613320"/>
              <a:ext cx="0" cy="121896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607000" y="307980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3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324160" y="628560"/>
            <a:ext cx="4152960" cy="1809720"/>
            <a:chOff x="2324160" y="628560"/>
            <a:chExt cx="4152960" cy="1809720"/>
          </a:xfrm>
        </p:grpSpPr>
        <p:pic>
          <p:nvPicPr>
            <p:cNvPr id="73" name="zgt" descr=""/>
            <p:cNvPicPr/>
            <p:nvPr/>
          </p:nvPicPr>
          <p:blipFill>
            <a:blip r:embed="rId1"/>
            <a:stretch/>
          </p:blipFill>
          <p:spPr>
            <a:xfrm>
              <a:off x="2324160" y="628560"/>
              <a:ext cx="410364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343400" y="762120"/>
              <a:ext cx="2133720" cy="16761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019880" y="1020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宋体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5600" y="2536920"/>
            <a:ext cx="705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60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＋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0=      230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＋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0=       190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0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70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0=       60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＋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20=      180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60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1219320" y="1143000"/>
            <a:ext cx="4446720" cy="718920"/>
            <a:chOff x="1219320" y="1143000"/>
            <a:chExt cx="4446720" cy="718920"/>
          </a:xfrm>
        </p:grpSpPr>
        <p:sp>
          <p:nvSpPr>
            <p:cNvPr id="78" name=""/>
            <p:cNvSpPr/>
            <p:nvPr/>
          </p:nvSpPr>
          <p:spPr>
            <a:xfrm>
              <a:off x="2798640" y="1219320"/>
              <a:ext cx="286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</a:rPr>
                <a:t>320  +  400  =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9320" y="1143000"/>
              <a:ext cx="9903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666880" y="1860480"/>
            <a:ext cx="1067040" cy="838080"/>
            <a:chOff x="2666880" y="1860480"/>
            <a:chExt cx="1067040" cy="838080"/>
          </a:xfrm>
        </p:grpSpPr>
        <p:sp>
          <p:nvSpPr>
            <p:cNvPr id="81" name=""/>
            <p:cNvSpPr/>
            <p:nvPr/>
          </p:nvSpPr>
          <p:spPr>
            <a:xfrm flipH="1">
              <a:off x="2666880" y="1860480"/>
              <a:ext cx="533520" cy="838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1860480"/>
              <a:ext cx="457200" cy="838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314440" y="269892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08920" y="26989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4160" y="12193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Times New Roman"/>
              </a:rPr>
              <a:t>7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666880" y="1784160"/>
            <a:ext cx="1979640" cy="1720800"/>
            <a:chOff x="2666880" y="1784160"/>
            <a:chExt cx="1979640" cy="1720800"/>
          </a:xfrm>
        </p:grpSpPr>
        <p:grpSp>
          <p:nvGrpSpPr>
            <p:cNvPr id="87" name=""/>
            <p:cNvGrpSpPr/>
            <p:nvPr/>
          </p:nvGrpSpPr>
          <p:grpSpPr>
            <a:xfrm>
              <a:off x="2666880" y="1784160"/>
              <a:ext cx="1979640" cy="1720800"/>
              <a:chOff x="2666880" y="1784160"/>
              <a:chExt cx="1979640" cy="1720800"/>
            </a:xfrm>
          </p:grpSpPr>
          <p:sp>
            <p:nvSpPr>
              <p:cNvPr id="88" name=""/>
              <p:cNvSpPr/>
              <p:nvPr/>
            </p:nvSpPr>
            <p:spPr>
              <a:xfrm>
                <a:off x="2666880" y="3504960"/>
                <a:ext cx="1979640" cy="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4646520" y="1784160"/>
                <a:ext cx="0" cy="172044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 flipV="1">
              <a:off x="2666880" y="3224880"/>
              <a:ext cx="0" cy="28008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2776320" y="4038480"/>
            <a:ext cx="31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720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00  =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666880" y="4680000"/>
            <a:ext cx="1067040" cy="838080"/>
            <a:chOff x="2666880" y="4680000"/>
            <a:chExt cx="1067040" cy="838080"/>
          </a:xfrm>
        </p:grpSpPr>
        <p:sp>
          <p:nvSpPr>
            <p:cNvPr id="93" name=""/>
            <p:cNvSpPr/>
            <p:nvPr/>
          </p:nvSpPr>
          <p:spPr>
            <a:xfrm flipH="1">
              <a:off x="2666880" y="4680000"/>
              <a:ext cx="533520" cy="838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76720" y="4680000"/>
              <a:ext cx="457200" cy="838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508920" y="55180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37400" y="40384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Times New Roman"/>
              </a:rPr>
              <a:t>3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666880" y="4603320"/>
            <a:ext cx="1979640" cy="1720800"/>
            <a:chOff x="2666880" y="4603320"/>
            <a:chExt cx="1979640" cy="1720800"/>
          </a:xfrm>
        </p:grpSpPr>
        <p:grpSp>
          <p:nvGrpSpPr>
            <p:cNvPr id="98" name=""/>
            <p:cNvGrpSpPr/>
            <p:nvPr/>
          </p:nvGrpSpPr>
          <p:grpSpPr>
            <a:xfrm>
              <a:off x="2666880" y="4603320"/>
              <a:ext cx="1979640" cy="1720800"/>
              <a:chOff x="2666880" y="4603320"/>
              <a:chExt cx="1979640" cy="1720800"/>
            </a:xfrm>
          </p:grpSpPr>
          <p:sp>
            <p:nvSpPr>
              <p:cNvPr id="99" name=""/>
              <p:cNvSpPr/>
              <p:nvPr/>
            </p:nvSpPr>
            <p:spPr>
              <a:xfrm>
                <a:off x="2666880" y="6324120"/>
                <a:ext cx="1979640" cy="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4646520" y="4603320"/>
                <a:ext cx="0" cy="172044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 flipV="1">
              <a:off x="2666880" y="6044040"/>
              <a:ext cx="0" cy="28008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254320" y="548640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02280" y="4572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宋体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2680" y="1417680"/>
            <a:ext cx="8456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50+300=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40+400=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50-300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 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640-400=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700+210=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810-700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） 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10+50=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 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770-600=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 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80-60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 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630+200=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00+370=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 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90-80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4240" y="4191120"/>
            <a:ext cx="10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0056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a4_239" descr=""/>
          <p:cNvPicPr/>
          <p:nvPr/>
        </p:nvPicPr>
        <p:blipFill>
          <a:blip r:embed="rId1"/>
          <a:stretch/>
        </p:blipFill>
        <p:spPr>
          <a:xfrm>
            <a:off x="1828800" y="4465800"/>
            <a:ext cx="594360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12680" y="852480"/>
            <a:ext cx="480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．每张卡片上两个数的和是多少？差是多少？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1828800"/>
            <a:ext cx="914400" cy="914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40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4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1828800"/>
            <a:ext cx="914400" cy="914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50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2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1828800"/>
            <a:ext cx="914400" cy="914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40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3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1828800"/>
            <a:ext cx="914400" cy="914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60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3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828800"/>
            <a:ext cx="914400" cy="914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50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4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1828800"/>
            <a:ext cx="914400" cy="914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60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2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1280" y="3164040"/>
            <a:ext cx="847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．看谁算得又对又快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10+80=     360-200=       550-40=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00+450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0+260=     630-200=       620-300=      720+40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0+430=     760-60=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　   </a:t>
            </a:r>
            <a:r>
              <a:rPr b="0" lang="zh-CN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90+200=      890-80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5+47=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00+570=      700-400=       87-75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03:52:29Z</dcterms:created>
  <dc:creator>tf</dc:creator>
  <dc:description/>
  <dc:language>en-US</dc:language>
  <cp:lastModifiedBy>array</cp:lastModifiedBy>
  <dcterms:modified xsi:type="dcterms:W3CDTF">2004-01-08T00:23:20Z</dcterms:modified>
  <cp:revision>41</cp:revision>
  <dc:subject/>
  <dc:title>PowerPoint 演示文稿</dc:title>
</cp:coreProperties>
</file>