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E45-8642-429B-AB0E-8F100566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617-C1A8-49AE-8CEB-FAD04DBE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38B-BB4C-4E33-9D01-457AFB13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6A0-D75A-4D52-8177-E7C2F1FE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D8D-46AB-4405-9BE2-F27DDDD9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E37-4DAD-422C-AFB9-5ECFEA3A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7EC-AE78-4E06-A2BA-78F5C665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9A1-F03D-4576-9A90-0BCD1A9F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B5F-03A1-4152-A226-192F2AC3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818-54A6-43FB-B5EB-BA93F49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805-2834-4F2B-981C-59065214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B116-0127-40A0-91E4-579B321A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0027-B199-4CC3-9484-B17923670C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1240" y="106668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     6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5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1800" y="22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39520" y="2533680"/>
            <a:ext cx="21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5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579480" y="3077640"/>
            <a:ext cx="602640" cy="702720"/>
            <a:chOff x="3579480" y="3077640"/>
            <a:chExt cx="602640" cy="702720"/>
          </a:xfrm>
        </p:grpSpPr>
        <p:sp>
          <p:nvSpPr>
            <p:cNvPr id="45" name=""/>
            <p:cNvSpPr/>
            <p:nvPr/>
          </p:nvSpPr>
          <p:spPr>
            <a:xfrm flipH="1">
              <a:off x="3579480" y="3077640"/>
              <a:ext cx="295920" cy="70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82600" y="3078360"/>
              <a:ext cx="299520" cy="70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31632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416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766760" y="3077640"/>
            <a:ext cx="602280" cy="702720"/>
            <a:chOff x="4766760" y="3077640"/>
            <a:chExt cx="602280" cy="702720"/>
          </a:xfrm>
        </p:grpSpPr>
        <p:sp>
          <p:nvSpPr>
            <p:cNvPr id="50" name=""/>
            <p:cNvSpPr/>
            <p:nvPr/>
          </p:nvSpPr>
          <p:spPr>
            <a:xfrm flipH="1">
              <a:off x="4766760" y="3077640"/>
              <a:ext cx="295560" cy="70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69880" y="3078720"/>
              <a:ext cx="299160" cy="70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50360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2144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575160" y="4191120"/>
            <a:ext cx="1218960" cy="304560"/>
            <a:chOff x="3575160" y="4191120"/>
            <a:chExt cx="1218960" cy="304560"/>
          </a:xfrm>
        </p:grpSpPr>
        <p:sp>
          <p:nvSpPr>
            <p:cNvPr id="55" name=""/>
            <p:cNvSpPr/>
            <p:nvPr/>
          </p:nvSpPr>
          <p:spPr>
            <a:xfrm>
              <a:off x="3575160" y="4191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75160" y="4495680"/>
              <a:ext cx="1218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794120" y="4191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184640" y="4191120"/>
            <a:ext cx="1219320" cy="457200"/>
            <a:chOff x="4184640" y="4191120"/>
            <a:chExt cx="1219320" cy="457200"/>
          </a:xfrm>
        </p:grpSpPr>
        <p:sp>
          <p:nvSpPr>
            <p:cNvPr id="59" name=""/>
            <p:cNvSpPr/>
            <p:nvPr/>
          </p:nvSpPr>
          <p:spPr>
            <a:xfrm>
              <a:off x="4184640" y="41911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84640" y="464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403960" y="41911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7353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364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956040" y="4952880"/>
            <a:ext cx="838080" cy="304920"/>
            <a:chOff x="3956040" y="4952880"/>
            <a:chExt cx="838080" cy="304920"/>
          </a:xfrm>
        </p:grpSpPr>
        <p:sp>
          <p:nvSpPr>
            <p:cNvPr id="65" name=""/>
            <p:cNvSpPr/>
            <p:nvPr/>
          </p:nvSpPr>
          <p:spPr>
            <a:xfrm>
              <a:off x="3956040" y="49528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6040" y="525780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794120" y="50288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15440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85200" y="25448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8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61240" y="106668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     6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5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01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39520" y="2533680"/>
            <a:ext cx="21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5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747680" y="3077640"/>
            <a:ext cx="602280" cy="702720"/>
            <a:chOff x="4747680" y="3077640"/>
            <a:chExt cx="602280" cy="702720"/>
          </a:xfrm>
        </p:grpSpPr>
        <p:sp>
          <p:nvSpPr>
            <p:cNvPr id="74" name=""/>
            <p:cNvSpPr/>
            <p:nvPr/>
          </p:nvSpPr>
          <p:spPr>
            <a:xfrm flipH="1">
              <a:off x="4747680" y="3077640"/>
              <a:ext cx="295560" cy="70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50800" y="3078720"/>
              <a:ext cx="299160" cy="70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50360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2144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962520" y="3124080"/>
            <a:ext cx="831600" cy="1371600"/>
            <a:chOff x="3962520" y="3124080"/>
            <a:chExt cx="831600" cy="1371600"/>
          </a:xfrm>
        </p:grpSpPr>
        <p:sp>
          <p:nvSpPr>
            <p:cNvPr id="79" name=""/>
            <p:cNvSpPr/>
            <p:nvPr/>
          </p:nvSpPr>
          <p:spPr>
            <a:xfrm>
              <a:off x="3962520" y="312408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4495680"/>
              <a:ext cx="83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794120" y="4191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160880" y="449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419720" y="4114440"/>
            <a:ext cx="990360" cy="1143360"/>
            <a:chOff x="4419720" y="4114440"/>
            <a:chExt cx="990360" cy="1143360"/>
          </a:xfrm>
        </p:grpSpPr>
        <p:sp>
          <p:nvSpPr>
            <p:cNvPr id="84" name=""/>
            <p:cNvSpPr/>
            <p:nvPr/>
          </p:nvSpPr>
          <p:spPr>
            <a:xfrm>
              <a:off x="4419720" y="49528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19720" y="525780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391000" y="411444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2608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85200" y="25448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8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61240" y="106668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     6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5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01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39520" y="2533680"/>
            <a:ext cx="21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5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79480" y="3077640"/>
            <a:ext cx="602640" cy="702720"/>
            <a:chOff x="3579480" y="3077640"/>
            <a:chExt cx="602640" cy="702720"/>
          </a:xfrm>
        </p:grpSpPr>
        <p:sp>
          <p:nvSpPr>
            <p:cNvPr id="93" name=""/>
            <p:cNvSpPr/>
            <p:nvPr/>
          </p:nvSpPr>
          <p:spPr>
            <a:xfrm flipH="1">
              <a:off x="3579480" y="3077640"/>
              <a:ext cx="295920" cy="70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2600" y="3078360"/>
              <a:ext cx="299520" cy="70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31632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416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75160" y="3048120"/>
            <a:ext cx="1454040" cy="1295280"/>
            <a:chOff x="3575160" y="3048120"/>
            <a:chExt cx="1454040" cy="1295280"/>
          </a:xfrm>
        </p:grpSpPr>
        <p:sp>
          <p:nvSpPr>
            <p:cNvPr id="98" name=""/>
            <p:cNvSpPr/>
            <p:nvPr/>
          </p:nvSpPr>
          <p:spPr>
            <a:xfrm>
              <a:off x="3575160" y="41148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5160" y="4343400"/>
              <a:ext cx="1454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029200" y="304812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236840" y="434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191120" y="4191120"/>
            <a:ext cx="304560" cy="838080"/>
            <a:chOff x="4191120" y="4191120"/>
            <a:chExt cx="304560" cy="838080"/>
          </a:xfrm>
        </p:grpSpPr>
        <p:sp>
          <p:nvSpPr>
            <p:cNvPr id="103" name=""/>
            <p:cNvSpPr/>
            <p:nvPr/>
          </p:nvSpPr>
          <p:spPr>
            <a:xfrm>
              <a:off x="4191120" y="419112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91120" y="502920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495680" y="48002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11624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5200" y="25448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8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61240" y="106668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     6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5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01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39520" y="2533680"/>
            <a:ext cx="21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5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47680" y="3077640"/>
            <a:ext cx="602280" cy="702720"/>
            <a:chOff x="4747680" y="3077640"/>
            <a:chExt cx="602280" cy="702720"/>
          </a:xfrm>
        </p:grpSpPr>
        <p:sp>
          <p:nvSpPr>
            <p:cNvPr id="112" name=""/>
            <p:cNvSpPr/>
            <p:nvPr/>
          </p:nvSpPr>
          <p:spPr>
            <a:xfrm flipH="1">
              <a:off x="4747680" y="3077640"/>
              <a:ext cx="295560" cy="70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0800" y="3078720"/>
              <a:ext cx="299160" cy="70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0360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2144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62520" y="3124080"/>
            <a:ext cx="1447200" cy="1371600"/>
            <a:chOff x="3962520" y="3124080"/>
            <a:chExt cx="1447200" cy="1371600"/>
          </a:xfrm>
        </p:grpSpPr>
        <p:sp>
          <p:nvSpPr>
            <p:cNvPr id="117" name=""/>
            <p:cNvSpPr/>
            <p:nvPr/>
          </p:nvSpPr>
          <p:spPr>
            <a:xfrm>
              <a:off x="3962520" y="312408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62520" y="4495680"/>
              <a:ext cx="144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409720" y="4191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160880" y="449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19720" y="4114440"/>
            <a:ext cx="304560" cy="1143360"/>
            <a:chOff x="4419720" y="4114440"/>
            <a:chExt cx="304560" cy="1143360"/>
          </a:xfrm>
        </p:grpSpPr>
        <p:sp>
          <p:nvSpPr>
            <p:cNvPr id="122" name=""/>
            <p:cNvSpPr/>
            <p:nvPr/>
          </p:nvSpPr>
          <p:spPr>
            <a:xfrm>
              <a:off x="4419720" y="49528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525780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18520" y="411444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34484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5200" y="25448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8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61600" y="106668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     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51800" y="22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4720" y="3417840"/>
            <a:ext cx="23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9760" y="452592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43200" y="3052800"/>
            <a:ext cx="533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想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4327920" y="1066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61600" y="106668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     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01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48160" y="3448080"/>
            <a:ext cx="23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23400" y="4525920"/>
            <a:ext cx="22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2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743200" y="3052800"/>
            <a:ext cx="533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想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4327920" y="1066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61600" y="106668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     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01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68520" y="3524400"/>
            <a:ext cx="23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63840" y="460224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743200" y="3052800"/>
            <a:ext cx="533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想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"/>
          <p:cNvSpPr/>
          <p:nvPr/>
        </p:nvSpPr>
        <p:spPr>
          <a:xfrm>
            <a:off x="4327920" y="1066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61600" y="106668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     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01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20280" y="368784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64200" y="4602240"/>
            <a:ext cx="22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43200" y="3052800"/>
            <a:ext cx="533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想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4327920" y="1066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3:14:32Z</dcterms:created>
  <dc:creator>tf</dc:creator>
  <dc:description/>
  <dc:language>en-US</dc:language>
  <cp:lastModifiedBy>array</cp:lastModifiedBy>
  <dcterms:modified xsi:type="dcterms:W3CDTF">2004-01-08T00:23:33Z</dcterms:modified>
  <cp:revision>40</cp:revision>
  <dc:subject/>
  <dc:title>PowerPoint 演示文稿</dc:title>
</cp:coreProperties>
</file>