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23A-D7A6-49DB-A9C0-9F85D505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F1D-89A9-4566-8B72-B70748E8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BB5-01D1-4C0F-BD06-E51D6C42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D6D-DA07-4615-818F-0DA79A4E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495-A264-4FFB-B4F2-B7F6B14E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44A-49E9-4399-A5C2-A8740A6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B78-01FF-44FD-BB5E-8FE6B43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D26-1F9D-4720-9D0F-D02885B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3A7-2102-4347-BB60-AAC8CAD7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396-081E-4CAC-8143-E7F33DC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AE6-78E1-4754-9CF5-E98748C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137-98C5-41E3-A1A8-346B632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906-2C8D-47B1-9DC0-A3B9962C63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7000" y="380880"/>
            <a:ext cx="6246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拆数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把下面各数拆成整百和整十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8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9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把下面各数拆成整百和一百几十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7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5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4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776680"/>
            <a:ext cx="4520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口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百和几个十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十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十几个一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8840" y="4960800"/>
            <a:ext cx="6413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口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0+40+300= 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400+2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0-20+300=  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-200+6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3880" y="243828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89800"/>
                  </a:outerShdw>
                </a:effectLst>
                <a:latin typeface="宋体"/>
              </a:rPr>
              <a:t>几百几十的加减法（一）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9898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6200" y="10350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20  +  40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58680"/>
            <a:ext cx="9907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zgt" descr=""/>
          <p:cNvPicPr/>
          <p:nvPr/>
        </p:nvPicPr>
        <p:blipFill>
          <a:blip r:embed="rId1"/>
          <a:stretch/>
        </p:blipFill>
        <p:spPr>
          <a:xfrm>
            <a:off x="4800600" y="1943280"/>
            <a:ext cx="4103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752480" y="1676520"/>
            <a:ext cx="1067040" cy="838080"/>
            <a:chOff x="1752480" y="1676520"/>
            <a:chExt cx="1067040" cy="838080"/>
          </a:xfrm>
        </p:grpSpPr>
        <p:sp>
          <p:nvSpPr>
            <p:cNvPr id="49" name=""/>
            <p:cNvSpPr/>
            <p:nvPr/>
          </p:nvSpPr>
          <p:spPr>
            <a:xfrm flipH="1">
              <a:off x="1752480" y="167652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167652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339920" y="25146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4040" y="2514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3160" y="1599840"/>
            <a:ext cx="438120" cy="1219680"/>
            <a:chOff x="3143160" y="1599840"/>
            <a:chExt cx="438120" cy="1219680"/>
          </a:xfrm>
        </p:grpSpPr>
        <p:sp>
          <p:nvSpPr>
            <p:cNvPr id="54" name=""/>
            <p:cNvSpPr/>
            <p:nvPr/>
          </p:nvSpPr>
          <p:spPr>
            <a:xfrm>
              <a:off x="3143160" y="2819520"/>
              <a:ext cx="43812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81280" y="1599840"/>
              <a:ext cx="0" cy="12193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56160" y="1066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19840" y="2076480"/>
            <a:ext cx="2133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eacher" descr=""/>
          <p:cNvPicPr/>
          <p:nvPr/>
        </p:nvPicPr>
        <p:blipFill>
          <a:blip r:embed="rId2"/>
          <a:stretch/>
        </p:blipFill>
        <p:spPr>
          <a:xfrm>
            <a:off x="6629400" y="4457880"/>
            <a:ext cx="1521000" cy="194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4600" y="4952880"/>
            <a:ext cx="3657600" cy="1219320"/>
          </a:xfrm>
          <a:prstGeom prst="wedgeRoundRectCallout">
            <a:avLst>
              <a:gd name="adj1" fmla="val 63629"/>
              <a:gd name="adj2" fmla="val 2083"/>
              <a:gd name="adj3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加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加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6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219320" y="2971800"/>
            <a:ext cx="4440600" cy="718920"/>
            <a:chOff x="1219320" y="2971800"/>
            <a:chExt cx="4440600" cy="718920"/>
          </a:xfrm>
        </p:grpSpPr>
        <p:sp>
          <p:nvSpPr>
            <p:cNvPr id="61" name=""/>
            <p:cNvSpPr/>
            <p:nvPr/>
          </p:nvSpPr>
          <p:spPr>
            <a:xfrm>
              <a:off x="2776320" y="3048120"/>
              <a:ext cx="288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360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－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40 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2971800"/>
              <a:ext cx="9903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27000" y="3689280"/>
            <a:ext cx="1066680" cy="838080"/>
            <a:chOff x="2727000" y="3689280"/>
            <a:chExt cx="1066680" cy="838080"/>
          </a:xfrm>
        </p:grpSpPr>
        <p:sp>
          <p:nvSpPr>
            <p:cNvPr id="64" name=""/>
            <p:cNvSpPr/>
            <p:nvPr/>
          </p:nvSpPr>
          <p:spPr>
            <a:xfrm flipH="1">
              <a:off x="2727000" y="3689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36840" y="3689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314440" y="4527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8920" y="452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118040" y="3613320"/>
            <a:ext cx="605880" cy="1218960"/>
            <a:chOff x="4118040" y="3613320"/>
            <a:chExt cx="605880" cy="1218960"/>
          </a:xfrm>
        </p:grpSpPr>
        <p:sp>
          <p:nvSpPr>
            <p:cNvPr id="69" name=""/>
            <p:cNvSpPr/>
            <p:nvPr/>
          </p:nvSpPr>
          <p:spPr>
            <a:xfrm>
              <a:off x="4118040" y="4832280"/>
              <a:ext cx="60588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723920" y="3613320"/>
              <a:ext cx="0" cy="1218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07000" y="30798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24160" y="628560"/>
            <a:ext cx="4152960" cy="1809720"/>
            <a:chOff x="2324160" y="628560"/>
            <a:chExt cx="4152960" cy="1809720"/>
          </a:xfrm>
        </p:grpSpPr>
        <p:pic>
          <p:nvPicPr>
            <p:cNvPr id="73" name="zgt" descr=""/>
            <p:cNvPicPr/>
            <p:nvPr/>
          </p:nvPicPr>
          <p:blipFill>
            <a:blip r:embed="rId1"/>
            <a:stretch/>
          </p:blipFill>
          <p:spPr>
            <a:xfrm>
              <a:off x="2324160" y="628560"/>
              <a:ext cx="41036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43400" y="762120"/>
              <a:ext cx="2133720" cy="16761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19880" y="1020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5600" y="2536920"/>
            <a:ext cx="70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6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=      23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=       19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7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=       6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20=      18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219320" y="1143000"/>
            <a:ext cx="4446720" cy="718920"/>
            <a:chOff x="1219320" y="1143000"/>
            <a:chExt cx="4446720" cy="718920"/>
          </a:xfrm>
        </p:grpSpPr>
        <p:sp>
          <p:nvSpPr>
            <p:cNvPr id="78" name=""/>
            <p:cNvSpPr/>
            <p:nvPr/>
          </p:nvSpPr>
          <p:spPr>
            <a:xfrm>
              <a:off x="2798640" y="1219320"/>
              <a:ext cx="286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320  +  400 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143000"/>
              <a:ext cx="9903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666880" y="1860480"/>
            <a:ext cx="1067040" cy="838080"/>
            <a:chOff x="2666880" y="1860480"/>
            <a:chExt cx="1067040" cy="838080"/>
          </a:xfrm>
        </p:grpSpPr>
        <p:sp>
          <p:nvSpPr>
            <p:cNvPr id="81" name=""/>
            <p:cNvSpPr/>
            <p:nvPr/>
          </p:nvSpPr>
          <p:spPr>
            <a:xfrm flipH="1">
              <a:off x="2666880" y="186048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186048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314440" y="26989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8920" y="2698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4160" y="121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7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666880" y="1784160"/>
            <a:ext cx="1979640" cy="1720800"/>
            <a:chOff x="2666880" y="1784160"/>
            <a:chExt cx="1979640" cy="1720800"/>
          </a:xfrm>
        </p:grpSpPr>
        <p:grpSp>
          <p:nvGrpSpPr>
            <p:cNvPr id="87" name=""/>
            <p:cNvGrpSpPr/>
            <p:nvPr/>
          </p:nvGrpSpPr>
          <p:grpSpPr>
            <a:xfrm>
              <a:off x="2666880" y="1784160"/>
              <a:ext cx="1979640" cy="1720800"/>
              <a:chOff x="2666880" y="1784160"/>
              <a:chExt cx="1979640" cy="1720800"/>
            </a:xfrm>
          </p:grpSpPr>
          <p:sp>
            <p:nvSpPr>
              <p:cNvPr id="88" name=""/>
              <p:cNvSpPr/>
              <p:nvPr/>
            </p:nvSpPr>
            <p:spPr>
              <a:xfrm>
                <a:off x="2666880" y="3504960"/>
                <a:ext cx="19796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646520" y="1784160"/>
                <a:ext cx="0" cy="17204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V="1">
              <a:off x="2666880" y="3224880"/>
              <a:ext cx="0" cy="280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776320" y="4038480"/>
            <a:ext cx="31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20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00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666880" y="4680000"/>
            <a:ext cx="1067040" cy="838080"/>
            <a:chOff x="2666880" y="4680000"/>
            <a:chExt cx="1067040" cy="838080"/>
          </a:xfrm>
        </p:grpSpPr>
        <p:sp>
          <p:nvSpPr>
            <p:cNvPr id="93" name=""/>
            <p:cNvSpPr/>
            <p:nvPr/>
          </p:nvSpPr>
          <p:spPr>
            <a:xfrm flipH="1">
              <a:off x="2666880" y="468000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468000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508920" y="5518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7400" y="4038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6880" y="4603320"/>
            <a:ext cx="1979640" cy="1720800"/>
            <a:chOff x="2666880" y="4603320"/>
            <a:chExt cx="1979640" cy="1720800"/>
          </a:xfrm>
        </p:grpSpPr>
        <p:grpSp>
          <p:nvGrpSpPr>
            <p:cNvPr id="98" name=""/>
            <p:cNvGrpSpPr/>
            <p:nvPr/>
          </p:nvGrpSpPr>
          <p:grpSpPr>
            <a:xfrm>
              <a:off x="2666880" y="4603320"/>
              <a:ext cx="1979640" cy="1720800"/>
              <a:chOff x="2666880" y="4603320"/>
              <a:chExt cx="1979640" cy="1720800"/>
            </a:xfrm>
          </p:grpSpPr>
          <p:sp>
            <p:nvSpPr>
              <p:cNvPr id="99" name=""/>
              <p:cNvSpPr/>
              <p:nvPr/>
            </p:nvSpPr>
            <p:spPr>
              <a:xfrm>
                <a:off x="2666880" y="6324120"/>
                <a:ext cx="19796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646520" y="4603320"/>
                <a:ext cx="0" cy="17204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2666880" y="6044040"/>
              <a:ext cx="0" cy="280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254320" y="5486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2280" y="45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2680" y="1417680"/>
            <a:ext cx="845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50+30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40+40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50-3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40-4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00+21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10-7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10+5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70-6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80-6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30+2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37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90-8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4240" y="41911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05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a4_239" descr=""/>
          <p:cNvPicPr/>
          <p:nvPr/>
        </p:nvPicPr>
        <p:blipFill>
          <a:blip r:embed="rId1"/>
          <a:stretch/>
        </p:blipFill>
        <p:spPr>
          <a:xfrm>
            <a:off x="1828800" y="4465800"/>
            <a:ext cx="59436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12680" y="852480"/>
            <a:ext cx="48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．每张卡片上两个数的和是多少？差是多少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4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4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6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5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6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280" y="3164040"/>
            <a:ext cx="847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．看谁算得又对又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10+80=     360-200=       550-40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0+45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+260=     630-200=       620-300=      720+4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+430=     760-60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0+200=      890-8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5+47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570=      700-400=       87-75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3:52:29Z</dcterms:created>
  <dc:creator>tf</dc:creator>
  <dc:description/>
  <dc:language>en-US</dc:language>
  <cp:lastModifiedBy>array</cp:lastModifiedBy>
  <dcterms:modified xsi:type="dcterms:W3CDTF">2004-01-08T00:23:20Z</dcterms:modified>
  <cp:revision>41</cp:revision>
  <dc:subject/>
  <dc:title>PowerPoint 演示文稿</dc:title>
</cp:coreProperties>
</file>