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5EB-4965-440D-B15B-E992C19A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67B-D46C-44D5-A673-B3A3D431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5FE-2F1A-48E3-9D20-78D0A796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CFA-91B9-4EA5-A77C-1ACB3593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CB1-42AD-48A7-A6ED-D0A8E9F3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6B6-2E31-469C-8E87-435CFBA4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744-6AC0-4972-B553-7EA9106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781-77AC-4127-B3D6-5DDCC492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7D3-D192-4C6E-AC9F-CD18205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A9C-5563-488A-8EBA-2415DAD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2C1-3C8D-4052-89D2-6D70C53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C42-983A-44C1-AE7D-E7F7623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E89A-6361-4BAC-BE49-C4F010EB1D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1720" y="609480"/>
            <a:ext cx="4670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十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百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千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里面有（    ）个十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0240" y="4021200"/>
            <a:ext cx="362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里面有（    ）个百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里面有（    ）个十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里面有（    ）个千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828800" y="2286000"/>
            <a:ext cx="6515280" cy="16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</a:rPr>
              <a:t>整 百 整 千 加 减 法 的 口 算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79680" y="6238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cc"/>
                </a:solidFill>
                <a:latin typeface="宋体"/>
              </a:rPr>
              <a:t>巩固练习．</a:t>
            </a:r>
            <a:r>
              <a:rPr b="0" lang="zh-CN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71880" y="1371600"/>
            <a:ext cx="18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口算下面各题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471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．接力赛．看算得又对又快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81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4152960"/>
          <a:ext cx="3886200" cy="24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152960"/>
                    <a:ext cx="388620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730880" y="3505320"/>
            <a:ext cx="28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．接力赛．看算得又对又快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6200" y="1903320"/>
            <a:ext cx="613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0         54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0       29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0     64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       7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3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0     5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         3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7480" y="6238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cc"/>
                </a:solidFill>
                <a:latin typeface="宋体"/>
              </a:rPr>
              <a:t>作业．</a:t>
            </a:r>
            <a:r>
              <a:rPr b="0" lang="zh-CN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471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．接力赛．看算得又对又快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56600" y="1295280"/>
            <a:ext cx="68468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口算（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分钟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        3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0       7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          7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0         4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            9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           3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7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0        1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           3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6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            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           6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7160" y="4343400"/>
            <a:ext cx="7373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直接写出答案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00=       5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7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50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2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65920" y="533520"/>
            <a:ext cx="59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扩展题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（    ）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50        4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（    ）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    ）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0         28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（    ）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菜店有萝卜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5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千克，卖了一些，还剩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千克，卖了多少千克？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240" y="3216240"/>
            <a:ext cx="62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0……8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八个数，分别填在小圆圈里，使每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大圈上五个数的和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1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" descr=""/>
          <p:cNvPicPr/>
          <p:nvPr/>
        </p:nvPicPr>
        <p:blipFill>
          <a:blip r:embed="rId1"/>
          <a:stretch/>
        </p:blipFill>
        <p:spPr>
          <a:xfrm>
            <a:off x="3940200" y="4191120"/>
            <a:ext cx="2227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10400" y="86832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762120"/>
            <a:ext cx="99036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5240" y="1676520"/>
            <a:ext cx="29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想：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个百加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个百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个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83320" y="8683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56480" y="259092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34080" y="2590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4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7920" y="3584520"/>
            <a:ext cx="30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8520" y="35812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04400" y="4614840"/>
            <a:ext cx="30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8520" y="461484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98400" y="5424480"/>
            <a:ext cx="29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千减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千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千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3110760" y="914400"/>
            <a:ext cx="23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868320"/>
            <a:ext cx="99036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131640" y="259092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2957760" y="41148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4332240" y="563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5920" y="13273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46880" y="3429000"/>
            <a:ext cx="59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个百加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个十等于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个百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个十，也就是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30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．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08800" y="13399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031600" y="58816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返 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684760" y="1873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7040" y="1854360"/>
            <a:ext cx="25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3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19160" y="2438280"/>
            <a:ext cx="990360" cy="838080"/>
            <a:chOff x="2819160" y="2438280"/>
            <a:chExt cx="990360" cy="838080"/>
          </a:xfrm>
        </p:grpSpPr>
        <p:sp>
          <p:nvSpPr>
            <p:cNvPr id="66" name=""/>
            <p:cNvSpPr/>
            <p:nvPr/>
          </p:nvSpPr>
          <p:spPr>
            <a:xfrm flipH="1">
              <a:off x="2819160" y="2438280"/>
              <a:ext cx="53316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2438280"/>
              <a:ext cx="45684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332080" y="3276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6760" y="3276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809880" y="2438280"/>
            <a:ext cx="990360" cy="1828800"/>
            <a:chOff x="3809880" y="2438280"/>
            <a:chExt cx="990360" cy="1828800"/>
          </a:xfrm>
        </p:grpSpPr>
        <p:sp>
          <p:nvSpPr>
            <p:cNvPr id="71" name=""/>
            <p:cNvSpPr/>
            <p:nvPr/>
          </p:nvSpPr>
          <p:spPr>
            <a:xfrm>
              <a:off x="3809880" y="3885840"/>
              <a:ext cx="0" cy="381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9880" y="4267080"/>
              <a:ext cx="99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800240" y="24382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8031600" y="58816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返 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837400" y="1873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7040" y="1854360"/>
            <a:ext cx="27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3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819160" y="2438280"/>
            <a:ext cx="990360" cy="838080"/>
            <a:chOff x="2819160" y="2438280"/>
            <a:chExt cx="990360" cy="838080"/>
          </a:xfrm>
        </p:grpSpPr>
        <p:sp>
          <p:nvSpPr>
            <p:cNvPr id="78" name=""/>
            <p:cNvSpPr/>
            <p:nvPr/>
          </p:nvSpPr>
          <p:spPr>
            <a:xfrm flipH="1">
              <a:off x="2819160" y="2438280"/>
              <a:ext cx="53316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2680" y="2438280"/>
              <a:ext cx="45684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332080" y="3276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6760" y="3276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743200" y="2438280"/>
            <a:ext cx="2208960" cy="1828800"/>
            <a:chOff x="2743200" y="2438280"/>
            <a:chExt cx="2208960" cy="1828800"/>
          </a:xfrm>
        </p:grpSpPr>
        <p:sp>
          <p:nvSpPr>
            <p:cNvPr id="83" name=""/>
            <p:cNvSpPr/>
            <p:nvPr/>
          </p:nvSpPr>
          <p:spPr>
            <a:xfrm>
              <a:off x="2743200" y="3885840"/>
              <a:ext cx="0" cy="381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4267080"/>
              <a:ext cx="22089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952160" y="24382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8031600" y="58816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返 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55480" y="1477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cc"/>
                </a:solidFill>
                <a:latin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3960" y="2819520"/>
            <a:ext cx="78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=     30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0=      90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00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5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=      45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0=      34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3111480" y="9144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868320"/>
            <a:ext cx="99036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2903040" y="228600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2952000" y="3505320"/>
            <a:ext cx="23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29680" y="1676520"/>
            <a:ext cx="38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十加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十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十就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9144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1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43520" y="2971800"/>
            <a:ext cx="58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因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，所以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减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就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8160" y="2286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67560" y="419112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因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，所以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减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就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8160" y="3505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7040" y="4971960"/>
            <a:ext cx="282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00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500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3760" y="49528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1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9436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55480" y="1477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cc"/>
                </a:solidFill>
                <a:latin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8840" y="2819520"/>
            <a:ext cx="765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＝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＝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0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40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1:48:00Z</dcterms:created>
  <dc:creator>tf</dc:creator>
  <dc:description/>
  <dc:language>en-US</dc:language>
  <cp:lastModifiedBy>array</cp:lastModifiedBy>
  <dcterms:modified xsi:type="dcterms:W3CDTF">2004-01-08T00:23:12Z</dcterms:modified>
  <cp:revision>65</cp:revision>
  <dc:subject/>
  <dc:title>PowerPoint 演示文稿</dc:title>
</cp:coreProperties>
</file>