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080-D884-4276-8C32-DB96302E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3F9-1B27-4DC7-B3C9-E55EBFF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B94-AA13-4D56-81F3-0646EBC0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CF7-6E69-4411-82CD-1604D879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060-BC23-4C89-8530-861DBE1F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5D1-1DBD-44FF-A84F-5B325A3E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414-7182-4183-B908-99C1648F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F3C-6C62-4644-83D7-48C1E8DF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768-5A77-4856-A00A-22F4450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FE8-E2FC-4771-B7D8-88A2D28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133-D981-411D-8610-9DB92166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90E-0C10-454B-AC91-C239C5C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042C-7DA8-4085-84D5-91CD147970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0600" y="106524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我国运动员在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~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夏季奥运会上各获得奖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。制成获奖牌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956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38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奖牌数（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4800" y="31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         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22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536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908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1964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22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536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920" y="3809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26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98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兴农小学活动课程四个小组的学生人数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98560" y="2590920"/>
            <a:ext cx="7559640" cy="3202920"/>
            <a:chOff x="898560" y="2590920"/>
            <a:chExt cx="7559640" cy="3202920"/>
          </a:xfrm>
        </p:grpSpPr>
        <p:grpSp>
          <p:nvGrpSpPr>
            <p:cNvPr id="100" name=""/>
            <p:cNvGrpSpPr/>
            <p:nvPr/>
          </p:nvGrpSpPr>
          <p:grpSpPr>
            <a:xfrm>
              <a:off x="898560" y="2590920"/>
              <a:ext cx="3200400" cy="1432800"/>
              <a:chOff x="898560" y="2590920"/>
              <a:chExt cx="3200400" cy="143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73720" y="259092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数学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56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856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856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2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7472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684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620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2204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6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20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286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668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71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3556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57800" y="2590920"/>
              <a:ext cx="3200400" cy="1432800"/>
              <a:chOff x="5257800" y="2590920"/>
              <a:chExt cx="3200400" cy="14328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31880" y="259092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生物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780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5780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220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3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9608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6544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8128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956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57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78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59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3564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480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898560" y="4361040"/>
              <a:ext cx="3200400" cy="1432800"/>
              <a:chOff x="898560" y="4361040"/>
              <a:chExt cx="3200400" cy="14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720" y="436104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航模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985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985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129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47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68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062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20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64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2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286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66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971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3556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241960" y="4361040"/>
              <a:ext cx="3200400" cy="1432800"/>
              <a:chOff x="5241960" y="4361040"/>
              <a:chExt cx="3200400" cy="1432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6040" y="436104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美术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419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19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19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563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81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802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96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54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98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416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0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00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405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7860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514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200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114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029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280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2004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3657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4320" y="4114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4320" y="4572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3720" y="181944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9160" y="181440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7038-33FE-4232-9B4D-6A0D3D62EFF4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B01EA-8A3C-4B0F-8363-C5637D78957C}" type="datetime1">
              <a:rPr lang="en-US"/>
              <a:t>07/31/26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14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02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48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9080" y="263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112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344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360" y="41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140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614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514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666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960" y="287640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组     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74280" y="2487600"/>
            <a:ext cx="537480" cy="516600"/>
            <a:chOff x="2474280" y="2487600"/>
            <a:chExt cx="537480" cy="516600"/>
          </a:xfrm>
        </p:grpSpPr>
        <p:sp>
          <p:nvSpPr>
            <p:cNvPr id="222" name=""/>
            <p:cNvSpPr/>
            <p:nvPr/>
          </p:nvSpPr>
          <p:spPr>
            <a:xfrm>
              <a:off x="2474280" y="248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9000" y="2666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18640" y="2482920"/>
            <a:ext cx="683640" cy="494280"/>
            <a:chOff x="1718640" y="2482920"/>
            <a:chExt cx="683640" cy="494280"/>
          </a:xfrm>
        </p:grpSpPr>
        <p:sp>
          <p:nvSpPr>
            <p:cNvPr id="225" name=""/>
            <p:cNvSpPr/>
            <p:nvPr/>
          </p:nvSpPr>
          <p:spPr>
            <a:xfrm>
              <a:off x="1718640" y="2482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9520" y="2639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0960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11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324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6600" y="36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660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1660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8520" y="3648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9160" y="4105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41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080" y="50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960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4720" y="319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916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1400" y="181944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81520" y="181440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29CF-780E-463A-9C8D-BA0367D2B18D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四个小组共有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其中男生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女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560" y="2376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29200" y="30621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男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6080" y="38242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女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0224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43000" y="4800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可以看出什么哪些情况呢？你们能告诉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7960" y="11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6320" y="15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3560" y="15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876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4952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86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1360" y="1468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书店第一季度的售书情况如下，制成统计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0680" y="215424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60680" y="327672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0680" y="455760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9200" y="1461960"/>
            <a:ext cx="13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第一季度售出图书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701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38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84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30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75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1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7018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5444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7000" y="30639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种 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74280" y="2674800"/>
            <a:ext cx="537480" cy="516600"/>
            <a:chOff x="2474280" y="2674800"/>
            <a:chExt cx="537480" cy="516600"/>
          </a:xfrm>
        </p:grpSpPr>
        <p:sp>
          <p:nvSpPr>
            <p:cNvPr id="302" name=""/>
            <p:cNvSpPr/>
            <p:nvPr/>
          </p:nvSpPr>
          <p:spPr>
            <a:xfrm>
              <a:off x="2474280" y="26748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09000" y="2854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18640" y="2670120"/>
            <a:ext cx="683640" cy="494280"/>
            <a:chOff x="1718640" y="2670120"/>
            <a:chExt cx="683640" cy="494280"/>
          </a:xfrm>
        </p:grpSpPr>
        <p:sp>
          <p:nvSpPr>
            <p:cNvPr id="305" name=""/>
            <p:cNvSpPr/>
            <p:nvPr/>
          </p:nvSpPr>
          <p:spPr>
            <a:xfrm>
              <a:off x="1718640" y="26701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9520" y="282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95880" y="2819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92600" y="2819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5040" y="2825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0920" y="28400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1720" y="34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1400" y="388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艺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840" y="432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科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840" y="478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0240" y="384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386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600" y="385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4400" y="431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768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560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620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182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898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2280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9876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6080" y="338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768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560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342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7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5960" y="204804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4C14-ED04-429D-A2C1-CD9F5185F915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>tf</dc:creator>
  <dc:description/>
  <dc:language>en-US</dc:language>
  <cp:lastModifiedBy>ccw</cp:lastModifiedBy>
  <dcterms:modified xsi:type="dcterms:W3CDTF">2004-03-16T02:56:59Z</dcterms:modified>
  <cp:revision>72</cp:revision>
  <dc:subject/>
  <dc:title>PowerPoint 演示文稿</dc:title>
</cp:coreProperties>
</file>