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F54-EFC2-4F2A-8E7D-0E40C843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11E-879C-45C6-AB10-263D1417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03E-39AC-47E5-9AE9-3867DC1D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8D7-713E-4834-98B9-3BEE2392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53B-B4D7-4BB0-8F5E-915F5975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888-8B1C-4F6B-AAC5-9890CB98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D47-7B8D-4869-81F8-9615D99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7A9-3D94-4DF4-B8FC-66F2BAC8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E4E-1A9B-4D68-90FB-153ADC45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A07-AEB5-44D6-8CFB-189461A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71D-5FC9-49BF-A9C8-5EF18648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9FC-D699-4B1E-8F15-E893F00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40C-88D0-4FD0-B200-D1378EAE8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372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916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2BAA-AC9C-48D8-8F22-08768A4C9273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57CE8-F755-4664-8B55-4447AF779863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140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8152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F48-829E-4758-A60C-CCE803D5406F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5960" y="204804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630-C612-4A99-B8CA-AB4381E4E9AE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tf</dc:creator>
  <dc:description/>
  <dc:language>en-US</dc:language>
  <cp:lastModifiedBy>ccw</cp:lastModifiedBy>
  <dcterms:modified xsi:type="dcterms:W3CDTF">2004-03-16T02:56:59Z</dcterms:modified>
  <cp:revision>72</cp:revision>
  <dc:subject/>
  <dc:title>PowerPoint 演示文稿</dc:title>
</cp:coreProperties>
</file>