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1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75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86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133720" y="2133720"/>
            <a:ext cx="4800600" cy="1523880"/>
            <a:chOff x="2133720" y="2133720"/>
            <a:chExt cx="4800600" cy="1523880"/>
          </a:xfrm>
        </p:grpSpPr>
        <p:sp>
          <p:nvSpPr>
            <p:cNvPr id="89" name=""/>
            <p:cNvSpPr/>
            <p:nvPr/>
          </p:nvSpPr>
          <p:spPr>
            <a:xfrm>
              <a:off x="2362320" y="2286000"/>
              <a:ext cx="4419360" cy="1219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3352680"/>
              <a:ext cx="30456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2133720"/>
              <a:ext cx="30456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3352680"/>
              <a:ext cx="304920" cy="30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2133720"/>
              <a:ext cx="304920" cy="3045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22096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358128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800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2443320"/>
            <a:ext cx="3962160" cy="1556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66ffff"/>
            </a:solidFill>
            <a:miter/>
          </a:ln>
          <a:effectLst>
            <a:outerShdw dist="153753" dir="2700000" blurRad="0" rotWithShape="0">
              <a:srgbClr val="3c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求  平  均   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14400" y="533520"/>
            <a:ext cx="914400" cy="533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8480" y="619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3320" y="236232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    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9160" y="30481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÷ 2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3809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×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×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75480" y="3747960"/>
            <a:ext cx="8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汽车从甲地开往乙地，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平均每时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平均每时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辆汽车从甲地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乙地，平均每时行驶多少千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63040" y="302436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0160" y="236232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958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书，小军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书，小明和小军平均每人有多少本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09480"/>
            <a:ext cx="6858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13280" y="2071800"/>
            <a:ext cx="24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+ 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03120" y="2741760"/>
            <a:ext cx="165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2 ÷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2320" y="434340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小明和小军平均每人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32040" y="1143000"/>
            <a:ext cx="55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做好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，五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做好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，平均每个班做好事多少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2680" y="22096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8 + 36) ÷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44480" y="2894040"/>
            <a:ext cx="165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4 ÷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2160" y="443376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每个班做好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609480"/>
            <a:ext cx="6858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9144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一班分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投篮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组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第二组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第三组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每组投中多少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09560" y="3505320"/>
            <a:ext cx="30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 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39360" y="4191120"/>
            <a:ext cx="14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4 ÷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000" y="563868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平均每组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44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360" y="2209680"/>
            <a:ext cx="5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道题的问题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73960" y="2687760"/>
            <a:ext cx="5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平均数必须知道什么条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8120" y="3068640"/>
            <a:ext cx="5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应该怎样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79760" y="299556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投中总个数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09480"/>
            <a:ext cx="6858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946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一班分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投篮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组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共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第二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共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第三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共投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平均每人投中多少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0891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3600" y="213048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要求全班平均每人投中多少个，必须先知道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1840" y="2649600"/>
            <a:ext cx="8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一共投中多少个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22040" y="31082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4760" y="3548160"/>
            <a:ext cx="8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一共有多少人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30680" y="39466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82360" y="4386240"/>
            <a:ext cx="25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平均每人投中多少个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79280" y="4861080"/>
            <a:ext cx="21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4 ÷ 3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7560" y="2587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综合算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8320" y="303228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23320" y="3565440"/>
            <a:ext cx="12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4 ÷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4711680"/>
            <a:ext cx="26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全班平均每人投中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891" descr=""/>
          <p:cNvPicPr/>
          <p:nvPr/>
        </p:nvPicPr>
        <p:blipFill>
          <a:blip r:embed="rId2"/>
          <a:stretch/>
        </p:blipFill>
        <p:spPr>
          <a:xfrm>
            <a:off x="228600" y="1843200"/>
            <a:ext cx="1828800" cy="97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0891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5760" y="1006560"/>
            <a:ext cx="47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五年级二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组投中篮球情况统计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平均每人投中多少个？（得数保留一位小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9051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362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819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5520" y="1905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组人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28960" y="2362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均每人投中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0532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844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716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73640" y="2362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818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10400" y="2362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2800" y="28954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要求全班平均每人投中多少个，需要先求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2880" y="32004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要求全班一共投中多少个该怎样计算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06240" y="3564000"/>
            <a:ext cx="8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一共投中多少个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5000" y="39006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5×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×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2×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79160" y="4233960"/>
            <a:ext cx="8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一共有多少人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32840" y="45720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96760" y="4919760"/>
            <a:ext cx="25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班平均每人投中多少个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48760" y="531828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5÷33≈2.9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28360" y="5757840"/>
            <a:ext cx="26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全班平均每人投中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9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0891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161" name="0891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21720" y="1006560"/>
            <a:ext cx="47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五年级二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组投中篮球情况统计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平均每人投中多少个？（得数保留一位小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9051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362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819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65520" y="1905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组人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28960" y="2362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均每人投中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532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844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716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73640" y="2362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818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10400" y="2362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6560" y="3184560"/>
            <a:ext cx="52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5×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×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2×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1760" y="4876920"/>
            <a:ext cx="26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全班平均每人投中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9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14440" y="5867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综合算式怎么列呢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2440" y="3794040"/>
            <a:ext cx="12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5÷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9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224" descr=""/>
          <p:cNvPicPr/>
          <p:nvPr/>
        </p:nvPicPr>
        <p:blipFill>
          <a:blip r:embed="rId1"/>
          <a:stretch/>
        </p:blipFill>
        <p:spPr>
          <a:xfrm>
            <a:off x="1714680" y="5410080"/>
            <a:ext cx="262872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0224" descr=""/>
          <p:cNvPicPr/>
          <p:nvPr/>
        </p:nvPicPr>
        <p:blipFill>
          <a:blip r:embed="rId2"/>
          <a:stretch/>
        </p:blipFill>
        <p:spPr>
          <a:xfrm>
            <a:off x="1714680" y="5410080"/>
            <a:ext cx="26287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388240" y="108252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亮读一本书，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平均每天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，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每天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亮这一星期平均每天看多少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533520"/>
            <a:ext cx="914400" cy="533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8480" y="619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68440" y="19051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一共看了多少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81960" y="2362320"/>
            <a:ext cx="25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5 × 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84280" y="28195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一共看了多少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97800" y="327672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× 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3360" y="37339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亮这一星期平均每天看多少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99960" y="421164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9 ÷ 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14640" y="4745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亮这一星期平均每天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1062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李加工一批零件，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加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加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每时加工多少个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533520"/>
            <a:ext cx="914400" cy="533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8480" y="619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6800" y="205740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      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819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×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×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65760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÷2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84960" y="1995480"/>
            <a:ext cx="8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5240" y="275760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5240" y="365760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tf</dc:creator>
  <dc:description/>
  <dc:language>en-US</dc:language>
  <cp:lastModifiedBy>array</cp:lastModifiedBy>
  <dcterms:modified xsi:type="dcterms:W3CDTF">2004-01-15T05:39:30Z</dcterms:modified>
  <cp:revision>28</cp:revision>
  <dc:subject/>
  <dc:title>PowerPoint 演示文稿</dc:title>
</cp:coreProperties>
</file>