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gif" ContentType="image/gif"/>
  <Override PartName="/ppt/media/laser.wav" ContentType="audio/x-wav"/>
  <Override PartName="/ppt/media/image1.gif" ContentType="image/gif"/>
  <Override PartName="/ppt/media/breeze.wav" ContentType="audio/x-wav"/>
  <Override PartName="/ppt/media/drumroll.wav" ContentType="audio/x-wav"/>
  <Override PartName="/ppt/media/type.wav" ContentType="audio/x-wav"/>
  <Override PartName="/ppt/media/image9.gif" ContentType="image/gif"/>
  <Override PartName="/ppt/media/bird.WAV" ContentType="audio/x-wav"/>
  <Override PartName="/ppt/media/arrow.wav" ContentType="audio/x-wav"/>
  <Override PartName="/ppt/media/projctor.wav" ContentType="audio/x-wav"/>
  <Override PartName="/ppt/media/image5.gif" ContentType="image/gif"/>
  <Override PartName="/ppt/media/image8.png" ContentType="image/png"/>
  <Override PartName="/ppt/media/chimes.wav" ContentType="audio/x-wav"/>
  <Override PartName="/ppt/media/image4.gif" ContentType="image/gif"/>
  <Override PartName="/ppt/media/image2.gif" ContentType="image/gif"/>
  <Override PartName="/ppt/media/image7.jpeg" ContentType="image/jpeg"/>
  <Override PartName="/ppt/media/click.wav" ContentType="audio/x-wav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669-106C-4BA7-A0C0-F94A0939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689-E423-48D2-87E4-D8560444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3AA-0B3B-451A-9265-E1CCEB1A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9C0-B860-453F-8235-914F1105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27EA-66FE-455B-A000-0FBC8115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154D-2713-438A-AAFF-AA70A023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0F74-3921-4BFB-855B-9791F17D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E1F0-1A41-42B8-A31F-74F55811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66FA-34C1-4CB5-B641-AA551094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0B32-E7CE-47D1-80EB-05932FF1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83E2-3339-45D0-AAE2-70D8E32C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26D-734B-4372-8096-6279DD26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A321-2B52-4D76-BB53-AD4B839B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7AF2-873B-458E-AB8C-E1336DAB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D28A-1144-4984-A5B7-6E356F4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50A9-0892-4D6C-A8B9-C3F14E85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186C-8253-4CAB-A684-63AC6B44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AEA-8F5D-4DFB-8F34-EC37FD62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CC1-99E6-4A3A-BEC9-ECF12842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612-D3B4-4C2B-8F46-410E044A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683-BFEB-4435-8A6A-86E70D4C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B26-61A7-4FB7-BF24-D45E5AD5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DDA-8763-4259-9C26-C64E059E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B22-972F-470D-B7F8-313D7B66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1CB-B0E6-4961-B230-D76FB0AB9AA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F10B-1967-4F69-868C-1C2188E71D5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gif"/><Relationship Id="rId17" Type="http://schemas.openxmlformats.org/officeDocument/2006/relationships/audio" Target="../media/drumroll.wav"/><Relationship Id="rId1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8.png"/><Relationship Id="rId23" Type="http://schemas.openxmlformats.org/officeDocument/2006/relationships/audio" Target="../media/arrow.wav"/><Relationship Id="rId2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bird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3771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zh-CN" sz="9600" spc="-1" strike="noStrike">
                <a:solidFill>
                  <a:srgbClr val="703dff"/>
                </a:solidFill>
                <a:latin typeface="Comic Sans MS"/>
                <a:ea typeface="黑体"/>
              </a:rPr>
              <a:t>看图统计</a:t>
            </a:r>
            <a:endParaRPr b="0" lang="en-US" sz="9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newsflash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90720" cy="12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990360" cy="128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5300640"/>
            <a:ext cx="990720" cy="1285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1908000" y="4005360"/>
            <a:ext cx="990720" cy="128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971640" y="5300640"/>
            <a:ext cx="990360" cy="1285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1042920" y="1413000"/>
            <a:ext cx="990720" cy="1285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1979640" y="2781360"/>
            <a:ext cx="990720" cy="128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0" y="2781360"/>
            <a:ext cx="990720" cy="1285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042920" y="2781360"/>
            <a:ext cx="990720" cy="128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3851280" y="2781360"/>
            <a:ext cx="990720" cy="1285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916360" y="2781360"/>
            <a:ext cx="990360" cy="1285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2"/>
          <a:stretch/>
        </p:blipFill>
        <p:spPr>
          <a:xfrm>
            <a:off x="971640" y="4005360"/>
            <a:ext cx="990360" cy="12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3"/>
          <a:stretch/>
        </p:blipFill>
        <p:spPr>
          <a:xfrm>
            <a:off x="0" y="4005360"/>
            <a:ext cx="990720" cy="12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4"/>
          <a:stretch/>
        </p:blipFill>
        <p:spPr>
          <a:xfrm>
            <a:off x="1908000" y="5300640"/>
            <a:ext cx="990720" cy="12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5"/>
          <a:stretch/>
        </p:blipFill>
        <p:spPr>
          <a:xfrm>
            <a:off x="2843280" y="4005360"/>
            <a:ext cx="990360" cy="1285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00720" y="476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b800"/>
                </a:solidFill>
                <a:latin typeface="Comic Sans MS"/>
              </a:rPr>
              <a:t>表示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12000" y="1989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9bd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0360" y="1484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96360" y="32130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9bd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4692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9bd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12000" y="5877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9bd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19640" y="3284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+2+2+2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19640" y="4653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+2+2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5950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+2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1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24000" y="476280"/>
            <a:ext cx="1152720" cy="10080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2133720"/>
            <a:ext cx="647640" cy="5032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43280" y="9079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564000" y="76500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684360" y="537372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1763640" y="537372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1763640" y="2997360"/>
            <a:ext cx="792360" cy="7189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2843280" y="537372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>
            <a:off x="684360" y="177336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2843280" y="422100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1"/>
          <a:stretch/>
        </p:blipFill>
        <p:spPr>
          <a:xfrm>
            <a:off x="5003640" y="537372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2"/>
          <a:stretch/>
        </p:blipFill>
        <p:spPr>
          <a:xfrm>
            <a:off x="3995640" y="2997360"/>
            <a:ext cx="792360" cy="718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3"/>
          <a:stretch/>
        </p:blipFill>
        <p:spPr>
          <a:xfrm>
            <a:off x="2843280" y="299736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4"/>
          <a:stretch/>
        </p:blipFill>
        <p:spPr>
          <a:xfrm>
            <a:off x="3924360" y="537372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5"/>
          <a:stretch/>
        </p:blipFill>
        <p:spPr>
          <a:xfrm>
            <a:off x="1835280" y="1773360"/>
            <a:ext cx="792000" cy="718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372360" y="198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07280" y="3213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43640" y="4365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3640" y="5516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48360" y="1989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04000" y="31417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04000" y="4365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77080" y="551664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6"/>
          <a:stretch/>
        </p:blipFill>
        <p:spPr>
          <a:xfrm>
            <a:off x="0" y="476280"/>
            <a:ext cx="1255680" cy="1341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042920" y="333360"/>
            <a:ext cx="1728720" cy="79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32000" y="404640"/>
            <a:ext cx="1295280" cy="70344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Comic Sans MS"/>
              </a:rPr>
              <a:t>抢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9640" y="260280"/>
            <a:ext cx="32004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993366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Quickly Answer</a:t>
            </a:r>
            <a:endParaRPr b="0" lang="en-US" sz="1800" spc="1" strike="noStrike">
              <a:ln w="3240">
                <a:solidFill>
                  <a:srgbClr val="993366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dissolve/>
    <p:sndAc>
      <p:stSnd>
        <p:snd r:embed="rId17" name="drumroll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1266840" cy="1390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987640" y="3284640"/>
            <a:ext cx="1266840" cy="13906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835280" y="3284640"/>
            <a:ext cx="1266840" cy="13906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187280" y="26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选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56000" y="2565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 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17840" y="3860640"/>
            <a:ext cx="48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 </a:t>
            </a:r>
            <a:r>
              <a:rPr b="1" lang="zh-CN" sz="4000" spc="-1" strike="noStrike" baseline="-6000">
                <a:solidFill>
                  <a:srgbClr val="000000"/>
                </a:solidFill>
                <a:latin typeface="Comic Sans MS"/>
                <a:ea typeface="黑体"/>
              </a:rPr>
              <a:t>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611280" y="3284640"/>
            <a:ext cx="1266840" cy="13906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258920" y="51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88000" y="3645000"/>
            <a:ext cx="18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00360" y="5157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51640" y="515772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64000" y="39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55640" y="692280"/>
            <a:ext cx="2592360" cy="11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Make choice</a:t>
            </a:r>
            <a:endParaRPr b="1" lang="en-US" sz="1800" spc="1" strike="noStrike">
              <a:ln w="3492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  <p:sndAc>
      <p:stSnd>
        <p:snd r:embed="rId5" name="chimes.wav"/>
      </p:stSnd>
    </p:sndAc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476360" y="3213000"/>
            <a:ext cx="266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76360" y="3500280"/>
            <a:ext cx="165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6000" y="1557360"/>
            <a:ext cx="647640" cy="720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24360" y="1628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26920" y="5300640"/>
            <a:ext cx="6480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3068640"/>
            <a:ext cx="647640" cy="720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48360" y="3068640"/>
            <a:ext cx="647640" cy="720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95640" y="3068640"/>
            <a:ext cx="647640" cy="720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3068640"/>
            <a:ext cx="647640" cy="720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3068640"/>
            <a:ext cx="647640" cy="720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84720" y="3141720"/>
            <a:ext cx="2087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Comic Sans MS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00000" y="486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48000" y="4869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867280" y="4869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48360" y="328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148428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breeze.wav"/>
      </p:stSnd>
    </p:sndAc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16000" y="476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Comic Sans MS"/>
              </a:rPr>
              <a:t>判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11120" y="3035160"/>
            <a:ext cx="189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1280" y="1844640"/>
            <a:ext cx="1079640" cy="865080"/>
          </a:xfrm>
          <a:prstGeom prst="star5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1989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表示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44197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表示的数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0+10+10+10+10=50</a:t>
            </a:r>
            <a:r>
              <a:rPr b="1" lang="zh-CN" sz="4000" spc="-1" strike="noStrike" baseline="30000">
                <a:solidFill>
                  <a:srgbClr val="ffffff"/>
                </a:solidFill>
                <a:latin typeface="Comic Sans MS"/>
              </a:rPr>
              <a:t>………………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28000" y="4797360"/>
            <a:ext cx="11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172360" y="4724280"/>
            <a:ext cx="43200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101080" y="4724280"/>
            <a:ext cx="57456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96360" y="522936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55640" y="98100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Yes or No</a:t>
            </a:r>
            <a:endParaRPr b="0" lang="en-US" sz="1800" spc="1" strike="noStrike">
              <a:ln w="0">
                <a:noFill/>
              </a:ln>
              <a:solidFill>
                <a:srgbClr val="ff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0" name=""/>
          <p:cNvSpPr/>
          <p:nvPr/>
        </p:nvSpPr>
        <p:spPr>
          <a:xfrm>
            <a:off x="611280" y="3213000"/>
            <a:ext cx="763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3141720"/>
            <a:ext cx="1079640" cy="865080"/>
          </a:xfrm>
          <a:prstGeom prst="star5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3141720"/>
            <a:ext cx="1079640" cy="865080"/>
          </a:xfrm>
          <a:prstGeom prst="star5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3141720"/>
            <a:ext cx="1079640" cy="865080"/>
          </a:xfrm>
          <a:prstGeom prst="star5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67280" y="3141720"/>
            <a:ext cx="1079280" cy="865080"/>
          </a:xfrm>
          <a:prstGeom prst="star5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3141720"/>
            <a:ext cx="1079280" cy="865080"/>
          </a:xfrm>
          <a:prstGeom prst="star5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27640" y="3141720"/>
            <a:ext cx="1079640" cy="865080"/>
          </a:xfrm>
          <a:prstGeom prst="star5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486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+10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drumroll.wav"/>
      </p:stSnd>
    </p:sndAc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1138680" y="3141720"/>
            <a:ext cx="8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6680" y="3141720"/>
            <a:ext cx="8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857960" y="1484280"/>
            <a:ext cx="8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177336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3500280"/>
            <a:ext cx="62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表示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6+6+6+6=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19640" y="4653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﹍</a:t>
            </a:r>
            <a:r>
              <a:rPr b="1" lang="zh-CN" sz="3200" spc="-1" strike="noStrike" baseline="30000">
                <a:solidFill>
                  <a:srgbClr val="000000"/>
                </a:solidFill>
                <a:latin typeface="Comic Sans MS"/>
              </a:rPr>
              <a:t>﹍﹍﹍﹍﹍﹍﹍﹍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77080" y="436572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30680" y="3141720"/>
            <a:ext cx="8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94320" y="3141720"/>
            <a:ext cx="8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12000" y="3429000"/>
            <a:ext cx="82872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20000" y="2924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laser.wav"/>
      </p:stSnd>
    </p:sndAc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6870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表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(   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187280" y="299736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867280" y="515772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1116000" y="515772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995640" y="515772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2195640" y="184464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3059280" y="69228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7"/>
          <a:stretch/>
        </p:blipFill>
        <p:spPr>
          <a:xfrm>
            <a:off x="3059280" y="184464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8"/>
          <a:stretch/>
        </p:blipFill>
        <p:spPr>
          <a:xfrm>
            <a:off x="2124000" y="299736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9"/>
          <a:stretch/>
        </p:blipFill>
        <p:spPr>
          <a:xfrm>
            <a:off x="3059280" y="299736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0"/>
          <a:stretch/>
        </p:blipFill>
        <p:spPr>
          <a:xfrm>
            <a:off x="3924360" y="184464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1"/>
          <a:stretch/>
        </p:blipFill>
        <p:spPr>
          <a:xfrm>
            <a:off x="4932360" y="400536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12"/>
          <a:stretch/>
        </p:blipFill>
        <p:spPr>
          <a:xfrm>
            <a:off x="3995640" y="400536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13"/>
          <a:stretch/>
        </p:blipFill>
        <p:spPr>
          <a:xfrm>
            <a:off x="3059280" y="400536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4"/>
          <a:stretch/>
        </p:blipFill>
        <p:spPr>
          <a:xfrm>
            <a:off x="1187280" y="407664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5"/>
          <a:stretch/>
        </p:blipFill>
        <p:spPr>
          <a:xfrm>
            <a:off x="3059280" y="515772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6"/>
          <a:stretch/>
        </p:blipFill>
        <p:spPr>
          <a:xfrm>
            <a:off x="2124000" y="400536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7"/>
          <a:stretch/>
        </p:blipFill>
        <p:spPr>
          <a:xfrm>
            <a:off x="4932360" y="515772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8"/>
          <a:stretch/>
        </p:blipFill>
        <p:spPr>
          <a:xfrm>
            <a:off x="2124000" y="515772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9"/>
          <a:stretch/>
        </p:blipFill>
        <p:spPr>
          <a:xfrm>
            <a:off x="1332000" y="1844640"/>
            <a:ext cx="838080" cy="876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flipV="1">
            <a:off x="7236000" y="2491920"/>
            <a:ext cx="12236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93080" y="2205000"/>
            <a:ext cx="1295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372360" y="2204640"/>
            <a:ext cx="208728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08720" y="2133720"/>
            <a:ext cx="30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2276640"/>
            <a:ext cx="2449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020000" y="1916280"/>
            <a:ext cx="25207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40000">
                <a:solidFill>
                  <a:srgbClr val="000000"/>
                </a:solidFill>
                <a:latin typeface="Comic Sans MS"/>
              </a:rPr>
              <a:t>  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164360" y="5229360"/>
            <a:ext cx="197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40000">
                <a:solidFill>
                  <a:srgbClr val="000000"/>
                </a:solidFill>
                <a:latin typeface="Comic Sans MS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56360" y="3141720"/>
            <a:ext cx="2087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40000">
                <a:solidFill>
                  <a:srgbClr val="000000"/>
                </a:solidFill>
                <a:latin typeface="Comic Sans MS"/>
              </a:rPr>
              <a:t> —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93080" y="4221000"/>
            <a:ext cx="1800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40000">
                <a:solidFill>
                  <a:srgbClr val="000000"/>
                </a:solidFill>
                <a:latin typeface="Comic Sans MS"/>
              </a:rPr>
              <a:t> —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39640" y="333360"/>
            <a:ext cx="1871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宋体"/>
              </a:rPr>
              <a:t>操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2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3" name="arrow.wav"/>
      </p:stSnd>
    </p:sndAc>
  </p:transition>
  <p:timing>
    <p:tnLst>
      <p:par>
        <p:cTn id="585" dur="indefinite" restart="never" nodeType="tmRoot">
          <p:childTnLst>
            <p:seq>
              <p:cTn id="586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39471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5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4176720" cy="3500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771640" y="1268280"/>
            <a:ext cx="2592360" cy="1008360"/>
          </a:xfrm>
          <a:prstGeom prst="cloudCallout">
            <a:avLst>
              <a:gd name="adj1" fmla="val 38671"/>
              <a:gd name="adj2" fmla="val 128740"/>
            </a:avLst>
          </a:prstGeom>
          <a:solidFill>
            <a:srgbClr val="04e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1484280"/>
            <a:ext cx="165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想一想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bird.WAV"/>
      </p:stSnd>
    </p:sndAc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68360" y="260280"/>
            <a:ext cx="2663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00000" y="1484280"/>
            <a:ext cx="1079640" cy="865080"/>
          </a:xfrm>
          <a:prstGeom prst="star5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51280" y="1700280"/>
            <a:ext cx="647640" cy="649080"/>
          </a:xfrm>
          <a:prstGeom prst="rect">
            <a:avLst/>
          </a:prstGeom>
          <a:solidFill>
            <a:srgbClr val="f80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72360" y="1700280"/>
            <a:ext cx="792000" cy="72072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87280" y="3141720"/>
            <a:ext cx="1079640" cy="865080"/>
          </a:xfrm>
          <a:prstGeom prst="star5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88000" y="3141720"/>
            <a:ext cx="1079640" cy="865080"/>
          </a:xfrm>
          <a:prstGeom prst="star5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16360" y="3141720"/>
            <a:ext cx="1079640" cy="865080"/>
          </a:xfrm>
          <a:prstGeom prst="star5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67280" y="3357720"/>
            <a:ext cx="647640" cy="649080"/>
          </a:xfrm>
          <a:prstGeom prst="rect">
            <a:avLst/>
          </a:prstGeom>
          <a:solidFill>
            <a:srgbClr val="f80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9640" y="3357720"/>
            <a:ext cx="647640" cy="649080"/>
          </a:xfrm>
          <a:prstGeom prst="rect">
            <a:avLst/>
          </a:prstGeom>
          <a:solidFill>
            <a:srgbClr val="f80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740720" y="3284640"/>
            <a:ext cx="792000" cy="72072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96000" y="3284640"/>
            <a:ext cx="792000" cy="72072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32000" y="3284640"/>
            <a:ext cx="792360" cy="72072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68360" y="3284640"/>
            <a:ext cx="792360" cy="72072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1773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00720" y="1773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64360" y="1773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530064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表示几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788000" y="5373720"/>
            <a:ext cx="1511280" cy="1008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450864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9+7+10+10+9+7+10+7+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64360" y="4508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68360" y="260280"/>
            <a:ext cx="2663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71640" y="1557360"/>
            <a:ext cx="1079280" cy="865080"/>
          </a:xfrm>
          <a:prstGeom prst="star5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0" y="1773360"/>
            <a:ext cx="647640" cy="649080"/>
          </a:xfrm>
          <a:prstGeom prst="rect">
            <a:avLst/>
          </a:prstGeom>
          <a:solidFill>
            <a:srgbClr val="f80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84720" y="1773360"/>
            <a:ext cx="792360" cy="72072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11280" y="3141720"/>
            <a:ext cx="1079640" cy="865080"/>
          </a:xfrm>
          <a:prstGeom prst="star5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03280" y="3141720"/>
            <a:ext cx="1079640" cy="865080"/>
          </a:xfrm>
          <a:prstGeom prst="star5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3141720"/>
            <a:ext cx="1079640" cy="865080"/>
          </a:xfrm>
          <a:prstGeom prst="star5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56000" y="3284640"/>
            <a:ext cx="647640" cy="649080"/>
          </a:xfrm>
          <a:prstGeom prst="rect">
            <a:avLst/>
          </a:prstGeom>
          <a:solidFill>
            <a:srgbClr val="f80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64000" y="3284640"/>
            <a:ext cx="647640" cy="649080"/>
          </a:xfrm>
          <a:prstGeom prst="rect">
            <a:avLst/>
          </a:prstGeom>
          <a:solidFill>
            <a:srgbClr val="f80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740720" y="3284640"/>
            <a:ext cx="792000" cy="72072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7080" y="3284640"/>
            <a:ext cx="792000" cy="72072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12000" y="3284640"/>
            <a:ext cx="792000" cy="72072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48360" y="3284640"/>
            <a:ext cx="792000" cy="72072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8000" y="1844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1844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77080" y="1844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501336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表示几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2360" y="5084640"/>
            <a:ext cx="1511280" cy="1008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9640" y="4076640"/>
            <a:ext cx="280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19280" y="4149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407664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95640" y="41497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64000" y="4076640"/>
            <a:ext cx="3095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43640" y="414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00240" y="5013360"/>
            <a:ext cx="671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9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826920" cy="1050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865080" cy="1049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95640" y="9079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2492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4076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+3+3+3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57340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+3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7640" y="2492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96360" y="407664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57340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2492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407664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5734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5080" cy="977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042920" y="3789360"/>
            <a:ext cx="865080" cy="977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1835280" y="3789360"/>
            <a:ext cx="865080" cy="977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2627280" y="3789360"/>
            <a:ext cx="865080" cy="977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419640" y="3789360"/>
            <a:ext cx="865080" cy="977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324000" y="5300640"/>
            <a:ext cx="865080" cy="977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1116000" y="5300640"/>
            <a:ext cx="865080" cy="977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1908000" y="5300640"/>
            <a:ext cx="865440" cy="97776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1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9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476360" y="3068640"/>
            <a:ext cx="3527280" cy="1584360"/>
          </a:xfrm>
          <a:custGeom>
            <a:avLst/>
            <a:gdLst>
              <a:gd name="textAreaLeft" fmla="*/ 828720 w 3527280"/>
              <a:gd name="textAreaRight" fmla="*/ 2696040 w 3527280"/>
              <a:gd name="textAreaTop" fmla="*/ 186120 h 1584360"/>
              <a:gd name="textAreaBottom" fmla="*/ 993960 h 1584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708280"/>
            <a:ext cx="1079280" cy="1152360"/>
          </a:xfrm>
          <a:prstGeom prst="star5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84360" y="476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游戏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绕口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47640" y="141300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青蛙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张嘴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眼睛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条腿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47640" y="2060640"/>
            <a:ext cx="7272360" cy="40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青蛙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张嘴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6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眼睛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条腿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47640" y="2781360"/>
            <a:ext cx="792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青蛙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张嘴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眼睛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条腿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47640" y="3500280"/>
            <a:ext cx="6985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青蛙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张嘴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1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眼睛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条腿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47640" y="765000"/>
            <a:ext cx="626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青蛙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张嘴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眼睛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条腿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6453360"/>
            <a:ext cx="2016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99600" y="5516640"/>
            <a:ext cx="6678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935280" cy="1068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64000" y="83664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792360" cy="1068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826920" cy="1068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835280" y="5229360"/>
            <a:ext cx="865080" cy="1068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042920" y="5229360"/>
            <a:ext cx="792360" cy="1068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50920" y="5229360"/>
            <a:ext cx="826920" cy="1068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140360" y="256536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360" y="4076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+5+5+5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589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+5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256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076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=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5589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2565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51640" y="4076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88360" y="551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250920" y="3645000"/>
            <a:ext cx="792000" cy="1068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971640" y="3645000"/>
            <a:ext cx="863640" cy="1068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1763640" y="3645000"/>
            <a:ext cx="863640" cy="1068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0"/>
          <a:stretch/>
        </p:blipFill>
        <p:spPr>
          <a:xfrm>
            <a:off x="2556000" y="3645000"/>
            <a:ext cx="865080" cy="1068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1"/>
          <a:stretch/>
        </p:blipFill>
        <p:spPr>
          <a:xfrm>
            <a:off x="3348000" y="3645000"/>
            <a:ext cx="863640" cy="1068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12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979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Comic Sans MS"/>
                <a:ea typeface="隶书"/>
              </a:rPr>
              <a:t>看图统计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08360" cy="3384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124000" y="436572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1" lang="zh-CN" sz="6000" spc="-1" strike="noStrike">
                <a:solidFill>
                  <a:srgbClr val="fff9bd"/>
                </a:solidFill>
                <a:latin typeface="Comic Sans MS"/>
              </a:rPr>
              <a:t>表示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208240" cy="3095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2374920" cy="3024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003640" y="486900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9bd"/>
                </a:solidFill>
                <a:latin typeface="Comic Sans MS"/>
              </a:rPr>
              <a:t>表示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4869000"/>
            <a:ext cx="9367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494172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2+2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252360" y="333360"/>
            <a:ext cx="2124000" cy="244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419640" y="333360"/>
            <a:ext cx="2162160" cy="2376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2124000" cy="244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219640" y="333360"/>
            <a:ext cx="2160720" cy="2347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1547640" y="404640"/>
            <a:ext cx="2159280" cy="2365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580000" y="4292640"/>
            <a:ext cx="43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9bd"/>
                </a:solidFill>
                <a:latin typeface="Comic Sans MS"/>
              </a:rPr>
              <a:t>表示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36572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2+2+2+2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77080" y="4365720"/>
            <a:ext cx="115092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43657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=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160360" cy="3213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2232000" cy="3286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340000" y="0"/>
            <a:ext cx="2160720" cy="3211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705720" y="0"/>
            <a:ext cx="2214360" cy="3357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71640" y="450864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2+2+2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48360" y="443700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9bd"/>
                </a:solidFill>
                <a:latin typeface="Comic Sans MS"/>
              </a:rPr>
              <a:t>表示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4508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=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43640" y="4508640"/>
            <a:ext cx="129528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2160720" cy="3311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2376360" cy="32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419640" y="0"/>
            <a:ext cx="2304720" cy="3240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508720" y="4581360"/>
            <a:ext cx="42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9bd"/>
                </a:solidFill>
                <a:latin typeface="Comic Sans MS"/>
              </a:rPr>
              <a:t>表示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47640" y="4653000"/>
            <a:ext cx="25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2+2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653000"/>
            <a:ext cx="93672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653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09:16:12Z</dcterms:created>
  <dc:creator>tf</dc:creator>
  <dc:description/>
  <dc:language>en-US</dc:language>
  <cp:lastModifiedBy>array</cp:lastModifiedBy>
  <dcterms:modified xsi:type="dcterms:W3CDTF">2004-02-01T02:52:32Z</dcterms:modified>
  <cp:revision>38</cp:revision>
  <dc:subject/>
  <dc:title>看图</dc:title>
</cp:coreProperties>
</file>