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834-3493-408C-9789-9C624897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8DC-2122-4D4C-AAE6-34CCBA39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A74-7D78-4E07-A1A2-845BA89C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916-C882-4357-A8EE-3EE10B26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7D4-983F-470C-B7A1-CAF0516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E2A-599A-44CA-8BB4-AE239F5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13D-827C-4E9B-87EA-75C6BBB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CF4-F65E-4828-A6A2-7583A99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E56-42ED-48CB-835F-0E32CB6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9A4-3AF1-4622-ADB2-869AF42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1A5-7847-4E0D-8711-774AD503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948-CFA6-45D4-86C6-F0CB9DF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E9C-9066-4F5F-B37A-FF054C6B1E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95480" y="1447920"/>
            <a:ext cx="2743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找规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658160" y="380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11" descr=""/>
          <p:cNvPicPr/>
          <p:nvPr/>
        </p:nvPicPr>
        <p:blipFill>
          <a:blip r:embed="rId1"/>
          <a:stretch/>
        </p:blipFill>
        <p:spPr>
          <a:xfrm>
            <a:off x="-3124080" y="0"/>
            <a:ext cx="13334760" cy="137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111" descr=""/>
          <p:cNvPicPr/>
          <p:nvPr/>
        </p:nvPicPr>
        <p:blipFill>
          <a:blip r:embed="rId1"/>
          <a:stretch/>
        </p:blipFill>
        <p:spPr>
          <a:xfrm>
            <a:off x="-3505320" y="-9524880"/>
            <a:ext cx="14630400" cy="163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7876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99"/>
                </a:solidFill>
                <a:latin typeface="Times New Roman"/>
                <a:ea typeface="华文新魏"/>
              </a:rPr>
              <a:t>摆一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81952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81952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048120"/>
            <a:ext cx="457200" cy="4572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3124080"/>
            <a:ext cx="457200" cy="4572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124080"/>
            <a:ext cx="457200" cy="4572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523880"/>
            <a:ext cx="380880" cy="60984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447920"/>
            <a:ext cx="457200" cy="6094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1447920"/>
            <a:ext cx="380880" cy="6094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1295280"/>
            <a:ext cx="304920" cy="8384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46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87840" y="106668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99ff"/>
                </a:solidFill>
                <a:uFillTx/>
                <a:latin typeface="Times New Roman"/>
                <a:ea typeface="楷体_GB2312"/>
              </a:rPr>
              <a:t>想一想：下一个数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99ff"/>
                </a:solidFill>
                <a:uFillTx/>
                <a:latin typeface="Times New Roman"/>
                <a:ea typeface="楷体_GB2312"/>
              </a:rPr>
              <a:t>你是怎么想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362320"/>
            <a:ext cx="6340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1       5      9     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480" y="3200400"/>
            <a:ext cx="444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2     12     22    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191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华文中宋"/>
              </a:rPr>
              <a:t>11    13     15    1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0292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20    18     16     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D00028_" descr="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f</dc:creator>
  <dc:description/>
  <dc:language>en-US</dc:language>
  <cp:lastModifiedBy>array</cp:lastModifiedBy>
  <dcterms:modified xsi:type="dcterms:W3CDTF">2004-01-09T03:46:35Z</dcterms:modified>
  <cp:revision>12</cp:revision>
  <dc:subject/>
  <dc:title>PowerPoint Presentation</dc:title>
</cp:coreProperties>
</file>