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086-4207-43B5-8D59-EA50F4CE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856-3903-49A2-AA55-00B7D63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A4E-B0E0-4437-AA5F-3EFE3944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3AF-A29F-4F52-B769-6AAF8A5A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CCE-8A8E-4147-B9C2-07EC08A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A3B-5B94-4B6E-9793-79A2744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472-DBBC-4BA9-8723-041D2DC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2FD-B89E-45D5-BB6E-85125F0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862-292A-44EC-8CDA-9C80AAA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03D-95BE-4995-9BE2-76EE1AA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CA0-90C9-4B8B-A751-A60323C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CBC-7E10-4778-8899-2AB92B4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B39-85BA-4EFE-8F81-C9CEC64E30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33760" y="1851120"/>
            <a:ext cx="39909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找规律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014480"/>
            <a:ext cx="8077320" cy="283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题目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平面上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没有两条直线是分别平行的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也没有三条或三条以上的直线是相交于一点的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问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(1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最多有多少个交点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将平面最多分成多少部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最多共能分成多少条线段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含射线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2322360" y="2174400"/>
            <a:ext cx="6450120" cy="314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75200" y="3240000"/>
            <a:ext cx="4057560" cy="2152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6560" y="37576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71680" y="4494240"/>
            <a:ext cx="5997600" cy="45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3720" y="4767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62800" y="4498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6823080" y="2461680"/>
            <a:ext cx="1109520" cy="400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89680" y="2897280"/>
            <a:ext cx="785880" cy="2278080"/>
            <a:chOff x="6889680" y="2897280"/>
            <a:chExt cx="785880" cy="2278080"/>
          </a:xfrm>
        </p:grpSpPr>
        <p:sp>
          <p:nvSpPr>
            <p:cNvPr id="51" name=""/>
            <p:cNvSpPr/>
            <p:nvPr/>
          </p:nvSpPr>
          <p:spPr>
            <a:xfrm>
              <a:off x="6889680" y="289728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80280" y="441504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46960" y="494676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flipV="1">
            <a:off x="7454880" y="1765440"/>
            <a:ext cx="1195560" cy="509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591320" y="2201760"/>
            <a:ext cx="1038240" cy="3679920"/>
            <a:chOff x="7591320" y="2201760"/>
            <a:chExt cx="1038240" cy="3679920"/>
          </a:xfrm>
        </p:grpSpPr>
        <p:sp>
          <p:nvSpPr>
            <p:cNvPr id="56" name=""/>
            <p:cNvSpPr/>
            <p:nvPr/>
          </p:nvSpPr>
          <p:spPr>
            <a:xfrm>
              <a:off x="7591320" y="56530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31000" y="51037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4383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00960" y="220176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5440" y="349200"/>
            <a:ext cx="1282320" cy="2292120"/>
            <a:chOff x="325440" y="349200"/>
            <a:chExt cx="1282320" cy="2292120"/>
          </a:xfrm>
        </p:grpSpPr>
        <p:sp>
          <p:nvSpPr>
            <p:cNvPr id="61" name=""/>
            <p:cNvSpPr/>
            <p:nvPr/>
          </p:nvSpPr>
          <p:spPr>
            <a:xfrm>
              <a:off x="326160" y="349200"/>
              <a:ext cx="128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直线条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440" y="1450080"/>
              <a:ext cx="128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交点增加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052720" y="252360"/>
            <a:ext cx="688680" cy="2278800"/>
            <a:chOff x="2052720" y="252360"/>
            <a:chExt cx="688680" cy="2278800"/>
          </a:xfrm>
        </p:grpSpPr>
        <p:sp>
          <p:nvSpPr>
            <p:cNvPr id="64" name=""/>
            <p:cNvSpPr/>
            <p:nvPr/>
          </p:nvSpPr>
          <p:spPr>
            <a:xfrm>
              <a:off x="2052720" y="2523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720" y="161424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849400" y="220680"/>
            <a:ext cx="689040" cy="2278800"/>
            <a:chOff x="2849400" y="220680"/>
            <a:chExt cx="689040" cy="2278800"/>
          </a:xfrm>
        </p:grpSpPr>
        <p:sp>
          <p:nvSpPr>
            <p:cNvPr id="67" name=""/>
            <p:cNvSpPr/>
            <p:nvPr/>
          </p:nvSpPr>
          <p:spPr>
            <a:xfrm>
              <a:off x="2849400" y="22068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49400" y="15825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70400" y="258840"/>
            <a:ext cx="998280" cy="2264400"/>
            <a:chOff x="3470400" y="258840"/>
            <a:chExt cx="998280" cy="2264400"/>
          </a:xfrm>
        </p:grpSpPr>
        <p:sp>
          <p:nvSpPr>
            <p:cNvPr id="70" name=""/>
            <p:cNvSpPr/>
            <p:nvPr/>
          </p:nvSpPr>
          <p:spPr>
            <a:xfrm>
              <a:off x="3693960" y="25884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606320"/>
              <a:ext cx="99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94160" y="250920"/>
            <a:ext cx="984240" cy="2266200"/>
            <a:chOff x="4394160" y="250920"/>
            <a:chExt cx="984240" cy="2266200"/>
          </a:xfrm>
        </p:grpSpPr>
        <p:sp>
          <p:nvSpPr>
            <p:cNvPr id="73" name=""/>
            <p:cNvSpPr/>
            <p:nvPr/>
          </p:nvSpPr>
          <p:spPr>
            <a:xfrm>
              <a:off x="4576680" y="250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94160" y="160020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72200" y="255600"/>
            <a:ext cx="1224000" cy="2237760"/>
            <a:chOff x="5272200" y="255600"/>
            <a:chExt cx="1224000" cy="2237760"/>
          </a:xfrm>
        </p:grpSpPr>
        <p:sp>
          <p:nvSpPr>
            <p:cNvPr id="76" name=""/>
            <p:cNvSpPr/>
            <p:nvPr/>
          </p:nvSpPr>
          <p:spPr>
            <a:xfrm>
              <a:off x="5419800" y="25560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72200" y="157644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86680" y="619200"/>
            <a:ext cx="685800" cy="1533600"/>
            <a:chOff x="6286680" y="619200"/>
            <a:chExt cx="685800" cy="1533600"/>
          </a:xfrm>
        </p:grpSpPr>
        <p:sp>
          <p:nvSpPr>
            <p:cNvPr id="79" name=""/>
            <p:cNvSpPr/>
            <p:nvPr/>
          </p:nvSpPr>
          <p:spPr>
            <a:xfrm>
              <a:off x="6286680" y="62856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24640" y="6382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34160" y="61920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43720" y="197172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198108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0760" y="197172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58579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840" y="582948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这其中的规律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571760" y="877680"/>
            <a:ext cx="6288120" cy="2454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0840" y="1685880"/>
            <a:ext cx="4365720" cy="2308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58960" y="2288880"/>
            <a:ext cx="7497720" cy="98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919840" y="936720"/>
            <a:ext cx="1100160" cy="455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45320" y="792000"/>
            <a:ext cx="934920" cy="438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600" y="363528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条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481824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区域增加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52760" y="3824280"/>
            <a:ext cx="688680" cy="2278800"/>
            <a:chOff x="1652760" y="3824280"/>
            <a:chExt cx="688680" cy="2278800"/>
          </a:xfrm>
        </p:grpSpPr>
        <p:sp>
          <p:nvSpPr>
            <p:cNvPr id="95" name=""/>
            <p:cNvSpPr/>
            <p:nvPr/>
          </p:nvSpPr>
          <p:spPr>
            <a:xfrm>
              <a:off x="1652760" y="38242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760" y="51861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49440" y="3792600"/>
            <a:ext cx="689040" cy="2278800"/>
            <a:chOff x="2449440" y="3792600"/>
            <a:chExt cx="689040" cy="2278800"/>
          </a:xfrm>
        </p:grpSpPr>
        <p:sp>
          <p:nvSpPr>
            <p:cNvPr id="98" name=""/>
            <p:cNvSpPr/>
            <p:nvPr/>
          </p:nvSpPr>
          <p:spPr>
            <a:xfrm>
              <a:off x="2449440" y="379260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49440" y="515448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70080" y="3830760"/>
            <a:ext cx="998640" cy="2264400"/>
            <a:chOff x="3070080" y="3830760"/>
            <a:chExt cx="998640" cy="2264400"/>
          </a:xfrm>
        </p:grpSpPr>
        <p:sp>
          <p:nvSpPr>
            <p:cNvPr id="101" name=""/>
            <p:cNvSpPr/>
            <p:nvPr/>
          </p:nvSpPr>
          <p:spPr>
            <a:xfrm>
              <a:off x="3294000" y="38307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0080" y="51782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94200" y="3822840"/>
            <a:ext cx="984240" cy="2266200"/>
            <a:chOff x="3994200" y="3822840"/>
            <a:chExt cx="984240" cy="2266200"/>
          </a:xfrm>
        </p:grpSpPr>
        <p:sp>
          <p:nvSpPr>
            <p:cNvPr id="104" name=""/>
            <p:cNvSpPr/>
            <p:nvPr/>
          </p:nvSpPr>
          <p:spPr>
            <a:xfrm>
              <a:off x="4176720" y="38228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94200" y="51721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15000" y="3827520"/>
            <a:ext cx="1224000" cy="2237760"/>
            <a:chOff x="4815000" y="3827520"/>
            <a:chExt cx="1224000" cy="2237760"/>
          </a:xfrm>
        </p:grpSpPr>
        <p:sp>
          <p:nvSpPr>
            <p:cNvPr id="107" name=""/>
            <p:cNvSpPr/>
            <p:nvPr/>
          </p:nvSpPr>
          <p:spPr>
            <a:xfrm>
              <a:off x="4962600" y="38275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5000" y="514836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33800" y="2354400"/>
            <a:ext cx="349200" cy="392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18280" y="1938240"/>
            <a:ext cx="349200" cy="39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9840" y="2657520"/>
            <a:ext cx="349200" cy="39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4720" y="3621240"/>
            <a:ext cx="34920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0840" y="1712880"/>
            <a:ext cx="34956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40640" y="2706840"/>
            <a:ext cx="34920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34080" y="4219560"/>
            <a:ext cx="685800" cy="1533600"/>
            <a:chOff x="5734080" y="4219560"/>
            <a:chExt cx="685800" cy="1533600"/>
          </a:xfrm>
        </p:grpSpPr>
        <p:sp>
          <p:nvSpPr>
            <p:cNvPr id="116" name=""/>
            <p:cNvSpPr/>
            <p:nvPr/>
          </p:nvSpPr>
          <p:spPr>
            <a:xfrm>
              <a:off x="57340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720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15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11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18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1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7040" y="2761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8840" y="24768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直线条线与区域增加数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085840" y="1010880"/>
            <a:ext cx="6459840" cy="26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90840" y="1685880"/>
            <a:ext cx="4365720" cy="2308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63520" y="2727000"/>
            <a:ext cx="7535880" cy="49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919840" y="936360"/>
            <a:ext cx="1347840" cy="4289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32720" y="887040"/>
            <a:ext cx="877680" cy="4421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00" y="363528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条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0" y="5165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段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射线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85960" y="3824280"/>
            <a:ext cx="688680" cy="2278800"/>
            <a:chOff x="1785960" y="3824280"/>
            <a:chExt cx="688680" cy="2278800"/>
          </a:xfrm>
        </p:grpSpPr>
        <p:sp>
          <p:nvSpPr>
            <p:cNvPr id="133" name=""/>
            <p:cNvSpPr/>
            <p:nvPr/>
          </p:nvSpPr>
          <p:spPr>
            <a:xfrm>
              <a:off x="1785960" y="38242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85960" y="51861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83000" y="3792600"/>
            <a:ext cx="688680" cy="2278800"/>
            <a:chOff x="2583000" y="3792600"/>
            <a:chExt cx="688680" cy="2278800"/>
          </a:xfrm>
        </p:grpSpPr>
        <p:sp>
          <p:nvSpPr>
            <p:cNvPr id="136" name=""/>
            <p:cNvSpPr/>
            <p:nvPr/>
          </p:nvSpPr>
          <p:spPr>
            <a:xfrm>
              <a:off x="2583000" y="379260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83000" y="51544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03640" y="3830760"/>
            <a:ext cx="998640" cy="2264400"/>
            <a:chOff x="3203640" y="3830760"/>
            <a:chExt cx="998640" cy="2264400"/>
          </a:xfrm>
        </p:grpSpPr>
        <p:sp>
          <p:nvSpPr>
            <p:cNvPr id="139" name=""/>
            <p:cNvSpPr/>
            <p:nvPr/>
          </p:nvSpPr>
          <p:spPr>
            <a:xfrm>
              <a:off x="3427560" y="38307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3640" y="51782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127400" y="3822840"/>
            <a:ext cx="984240" cy="2266200"/>
            <a:chOff x="4127400" y="3822840"/>
            <a:chExt cx="984240" cy="2266200"/>
          </a:xfrm>
        </p:grpSpPr>
        <p:sp>
          <p:nvSpPr>
            <p:cNvPr id="142" name=""/>
            <p:cNvSpPr/>
            <p:nvPr/>
          </p:nvSpPr>
          <p:spPr>
            <a:xfrm>
              <a:off x="4309920" y="38228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7400" y="51721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948200" y="3827520"/>
            <a:ext cx="1224000" cy="2237760"/>
            <a:chOff x="4948200" y="3827520"/>
            <a:chExt cx="1224000" cy="2237760"/>
          </a:xfrm>
        </p:grpSpPr>
        <p:sp>
          <p:nvSpPr>
            <p:cNvPr id="145" name=""/>
            <p:cNvSpPr/>
            <p:nvPr/>
          </p:nvSpPr>
          <p:spPr>
            <a:xfrm>
              <a:off x="5095800" y="38275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8200" y="514836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9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889600" y="1157400"/>
            <a:ext cx="254160" cy="258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5680" y="220032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867280" y="4219560"/>
            <a:ext cx="685800" cy="1533600"/>
            <a:chOff x="5867280" y="4219560"/>
            <a:chExt cx="685800" cy="1533600"/>
          </a:xfrm>
        </p:grpSpPr>
        <p:sp>
          <p:nvSpPr>
            <p:cNvPr id="150" name=""/>
            <p:cNvSpPr/>
            <p:nvPr/>
          </p:nvSpPr>
          <p:spPr>
            <a:xfrm>
              <a:off x="58672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52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147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243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050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813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2761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3600" y="1135080"/>
            <a:ext cx="5645160" cy="2754360"/>
            <a:chOff x="2433600" y="1135080"/>
            <a:chExt cx="5645160" cy="2754360"/>
          </a:xfrm>
        </p:grpSpPr>
        <p:sp>
          <p:nvSpPr>
            <p:cNvPr id="159" name=""/>
            <p:cNvSpPr/>
            <p:nvPr/>
          </p:nvSpPr>
          <p:spPr>
            <a:xfrm>
              <a:off x="2433600" y="3306600"/>
              <a:ext cx="235080" cy="182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6600" y="174456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4200" y="370692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43680" y="113508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89120" y="2550960"/>
            <a:ext cx="6445080" cy="795600"/>
            <a:chOff x="1689120" y="2550960"/>
            <a:chExt cx="6445080" cy="795600"/>
          </a:xfrm>
        </p:grpSpPr>
        <p:sp>
          <p:nvSpPr>
            <p:cNvPr id="164" name=""/>
            <p:cNvSpPr/>
            <p:nvPr/>
          </p:nvSpPr>
          <p:spPr>
            <a:xfrm>
              <a:off x="1689120" y="3030480"/>
              <a:ext cx="272880" cy="316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2520" y="2874960"/>
              <a:ext cx="273240" cy="258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1320" y="2611440"/>
              <a:ext cx="272880" cy="297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6040" y="2668680"/>
              <a:ext cx="291960" cy="239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5120" y="2550960"/>
              <a:ext cx="272880" cy="258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977080" y="2790720"/>
            <a:ext cx="253800" cy="220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24480" y="210492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05600" y="469584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91160" y="3019320"/>
            <a:ext cx="235080" cy="182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48440" y="3114720"/>
            <a:ext cx="216000" cy="20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43800" y="868320"/>
            <a:ext cx="1054080" cy="4221360"/>
            <a:chOff x="6643800" y="868320"/>
            <a:chExt cx="1054080" cy="4221360"/>
          </a:xfrm>
        </p:grpSpPr>
        <p:sp>
          <p:nvSpPr>
            <p:cNvPr id="175" name=""/>
            <p:cNvSpPr/>
            <p:nvPr/>
          </p:nvSpPr>
          <p:spPr>
            <a:xfrm>
              <a:off x="7443720" y="86832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5120" y="187812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4680" y="304020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10560" y="378288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2880" y="486900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43800" y="363060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7000" y="3402000"/>
              <a:ext cx="196920" cy="20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9760" y="275436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8840" y="157320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371600" y="2095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直线条线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线段或射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4360" y="1352520"/>
            <a:ext cx="60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题目：用十条线段最多可以把一个长方形分成几个部分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指长方形的内部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23920" y="2266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题目：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个圆最多将一个平面分成多少个部分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08000" y="3592440"/>
            <a:ext cx="1374840" cy="2401920"/>
            <a:chOff x="108000" y="3592440"/>
            <a:chExt cx="1374840" cy="2401920"/>
          </a:xfrm>
        </p:grpSpPr>
        <p:sp>
          <p:nvSpPr>
            <p:cNvPr id="189" name=""/>
            <p:cNvSpPr/>
            <p:nvPr/>
          </p:nvSpPr>
          <p:spPr>
            <a:xfrm>
              <a:off x="111600" y="3592440"/>
              <a:ext cx="137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圆的个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00" y="4681440"/>
              <a:ext cx="1370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区域增加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376280" y="3809880"/>
            <a:ext cx="688680" cy="2278800"/>
            <a:chOff x="1376280" y="3809880"/>
            <a:chExt cx="688680" cy="2278800"/>
          </a:xfrm>
        </p:grpSpPr>
        <p:sp>
          <p:nvSpPr>
            <p:cNvPr id="192" name=""/>
            <p:cNvSpPr/>
            <p:nvPr/>
          </p:nvSpPr>
          <p:spPr>
            <a:xfrm>
              <a:off x="1376280" y="38098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6280" y="51717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98640" y="3821040"/>
            <a:ext cx="1123560" cy="2278800"/>
            <a:chOff x="1898640" y="3821040"/>
            <a:chExt cx="1123560" cy="2278800"/>
          </a:xfrm>
        </p:grpSpPr>
        <p:sp>
          <p:nvSpPr>
            <p:cNvPr id="195" name=""/>
            <p:cNvSpPr/>
            <p:nvPr/>
          </p:nvSpPr>
          <p:spPr>
            <a:xfrm>
              <a:off x="1898640" y="382104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8640" y="518292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93960" y="3816360"/>
            <a:ext cx="998640" cy="2264400"/>
            <a:chOff x="2793960" y="3816360"/>
            <a:chExt cx="998640" cy="2264400"/>
          </a:xfrm>
        </p:grpSpPr>
        <p:sp>
          <p:nvSpPr>
            <p:cNvPr id="198" name=""/>
            <p:cNvSpPr/>
            <p:nvPr/>
          </p:nvSpPr>
          <p:spPr>
            <a:xfrm>
              <a:off x="3017880" y="38163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93960" y="51638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18080" y="3808440"/>
            <a:ext cx="984240" cy="2266200"/>
            <a:chOff x="3718080" y="3808440"/>
            <a:chExt cx="984240" cy="2266200"/>
          </a:xfrm>
        </p:grpSpPr>
        <p:sp>
          <p:nvSpPr>
            <p:cNvPr id="201" name=""/>
            <p:cNvSpPr/>
            <p:nvPr/>
          </p:nvSpPr>
          <p:spPr>
            <a:xfrm>
              <a:off x="3900600" y="38084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18080" y="51577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24480" y="3841920"/>
            <a:ext cx="1224000" cy="2237400"/>
            <a:chOff x="4524480" y="3841920"/>
            <a:chExt cx="1224000" cy="2237400"/>
          </a:xfrm>
        </p:grpSpPr>
        <p:sp>
          <p:nvSpPr>
            <p:cNvPr id="204" name=""/>
            <p:cNvSpPr/>
            <p:nvPr/>
          </p:nvSpPr>
          <p:spPr>
            <a:xfrm>
              <a:off x="4672080" y="3841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24480" y="516240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ffff00"/>
                  </a:solidFill>
                  <a:latin typeface="Times New Roman"/>
                </a:rPr>
                <a:t>？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54640" y="784080"/>
            <a:ext cx="1960560" cy="1960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3840" y="444600"/>
            <a:ext cx="1960560" cy="1960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22840" y="981000"/>
            <a:ext cx="2976480" cy="2976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2200" y="1198440"/>
            <a:ext cx="4311720" cy="4311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10360" y="654120"/>
            <a:ext cx="3179520" cy="1949400"/>
            <a:chOff x="5310360" y="654120"/>
            <a:chExt cx="3179520" cy="1949400"/>
          </a:xfrm>
        </p:grpSpPr>
        <p:sp>
          <p:nvSpPr>
            <p:cNvPr id="211" name=""/>
            <p:cNvSpPr/>
            <p:nvPr/>
          </p:nvSpPr>
          <p:spPr>
            <a:xfrm>
              <a:off x="5310360" y="2400480"/>
              <a:ext cx="20304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6840" y="654120"/>
              <a:ext cx="20304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805360" y="762120"/>
            <a:ext cx="804960" cy="573120"/>
            <a:chOff x="5805360" y="762120"/>
            <a:chExt cx="804960" cy="573120"/>
          </a:xfrm>
        </p:grpSpPr>
        <p:sp>
          <p:nvSpPr>
            <p:cNvPr id="214" name=""/>
            <p:cNvSpPr/>
            <p:nvPr/>
          </p:nvSpPr>
          <p:spPr>
            <a:xfrm>
              <a:off x="6407280" y="762120"/>
              <a:ext cx="203040" cy="203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05360" y="1131840"/>
              <a:ext cx="20340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10320" y="1501920"/>
            <a:ext cx="2395440" cy="1509480"/>
            <a:chOff x="5710320" y="1501920"/>
            <a:chExt cx="2395440" cy="1509480"/>
          </a:xfrm>
        </p:grpSpPr>
        <p:sp>
          <p:nvSpPr>
            <p:cNvPr id="217" name=""/>
            <p:cNvSpPr/>
            <p:nvPr/>
          </p:nvSpPr>
          <p:spPr>
            <a:xfrm>
              <a:off x="5710320" y="2330280"/>
              <a:ext cx="203040" cy="203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6440" y="1808280"/>
              <a:ext cx="20340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9280" y="1501920"/>
              <a:ext cx="20340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02720" y="2808360"/>
              <a:ext cx="20304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94400" y="965160"/>
            <a:ext cx="1990440" cy="2568600"/>
            <a:chOff x="4694400" y="965160"/>
            <a:chExt cx="1990440" cy="2568600"/>
          </a:xfrm>
        </p:grpSpPr>
        <p:sp>
          <p:nvSpPr>
            <p:cNvPr id="222" name=""/>
            <p:cNvSpPr/>
            <p:nvPr/>
          </p:nvSpPr>
          <p:spPr>
            <a:xfrm>
              <a:off x="6364440" y="2111400"/>
              <a:ext cx="20304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29240" y="1552680"/>
              <a:ext cx="20340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0720" y="965160"/>
              <a:ext cx="20340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94400" y="3330720"/>
              <a:ext cx="20304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81800" y="3084480"/>
              <a:ext cx="20304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02360" y="1400040"/>
              <a:ext cx="20304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232000" y="1739880"/>
            <a:ext cx="5079960" cy="5084640"/>
          </a:xfrm>
          <a:prstGeom prst="ellipse">
            <a:avLst/>
          </a:prstGeom>
          <a:noFill/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27458"/>
              <a:gd name="adj2" fmla="val -660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85840"/>
            <a:ext cx="32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圆的个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区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90520" y="276120"/>
            <a:ext cx="8607240" cy="63118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91960" y="288720"/>
            <a:ext cx="7901280" cy="382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9800" y="291960"/>
            <a:ext cx="8093160" cy="427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1960" y="2230200"/>
            <a:ext cx="8572680" cy="10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14960" y="282240"/>
            <a:ext cx="2835360" cy="6313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954480" y="316080"/>
            <a:ext cx="531720" cy="623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98320" y="3611520"/>
            <a:ext cx="1584360" cy="2391480"/>
            <a:chOff x="598320" y="3611520"/>
            <a:chExt cx="1584360" cy="2391480"/>
          </a:xfrm>
        </p:grpSpPr>
        <p:sp>
          <p:nvSpPr>
            <p:cNvPr id="238" name=""/>
            <p:cNvSpPr/>
            <p:nvPr/>
          </p:nvSpPr>
          <p:spPr>
            <a:xfrm>
              <a:off x="601200" y="3611520"/>
              <a:ext cx="15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直线条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8320" y="4690080"/>
              <a:ext cx="1581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</a:rPr>
                <a:t>区域增加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757520" y="3809880"/>
            <a:ext cx="688680" cy="2278800"/>
            <a:chOff x="1757520" y="3809880"/>
            <a:chExt cx="688680" cy="2278800"/>
          </a:xfrm>
        </p:grpSpPr>
        <p:sp>
          <p:nvSpPr>
            <p:cNvPr id="241" name=""/>
            <p:cNvSpPr/>
            <p:nvPr/>
          </p:nvSpPr>
          <p:spPr>
            <a:xfrm>
              <a:off x="1757520" y="38098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7520" y="51717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279520" y="3821040"/>
            <a:ext cx="1123560" cy="2278800"/>
            <a:chOff x="2279520" y="3821040"/>
            <a:chExt cx="1123560" cy="2278800"/>
          </a:xfrm>
        </p:grpSpPr>
        <p:sp>
          <p:nvSpPr>
            <p:cNvPr id="244" name=""/>
            <p:cNvSpPr/>
            <p:nvPr/>
          </p:nvSpPr>
          <p:spPr>
            <a:xfrm>
              <a:off x="2279520" y="382104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79520" y="518292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74840" y="3816360"/>
            <a:ext cx="998640" cy="2264400"/>
            <a:chOff x="3174840" y="3816360"/>
            <a:chExt cx="998640" cy="2264400"/>
          </a:xfrm>
        </p:grpSpPr>
        <p:sp>
          <p:nvSpPr>
            <p:cNvPr id="247" name=""/>
            <p:cNvSpPr/>
            <p:nvPr/>
          </p:nvSpPr>
          <p:spPr>
            <a:xfrm>
              <a:off x="3398760" y="38163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4840" y="51638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098960" y="3808440"/>
            <a:ext cx="984240" cy="2266200"/>
            <a:chOff x="4098960" y="3808440"/>
            <a:chExt cx="984240" cy="2266200"/>
          </a:xfrm>
        </p:grpSpPr>
        <p:sp>
          <p:nvSpPr>
            <p:cNvPr id="250" name=""/>
            <p:cNvSpPr/>
            <p:nvPr/>
          </p:nvSpPr>
          <p:spPr>
            <a:xfrm>
              <a:off x="4281480" y="38084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98960" y="51577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05360" y="3841920"/>
            <a:ext cx="1224000" cy="2237400"/>
            <a:chOff x="4905360" y="3841920"/>
            <a:chExt cx="1224000" cy="2237400"/>
          </a:xfrm>
        </p:grpSpPr>
        <p:sp>
          <p:nvSpPr>
            <p:cNvPr id="253" name=""/>
            <p:cNvSpPr/>
            <p:nvPr/>
          </p:nvSpPr>
          <p:spPr>
            <a:xfrm>
              <a:off x="5052960" y="3841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5360" y="516240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409840" y="2044800"/>
            <a:ext cx="2547720" cy="1399680"/>
            <a:chOff x="2409840" y="2044800"/>
            <a:chExt cx="2547720" cy="1399680"/>
          </a:xfrm>
        </p:grpSpPr>
        <p:sp>
          <p:nvSpPr>
            <p:cNvPr id="256" name=""/>
            <p:cNvSpPr/>
            <p:nvPr/>
          </p:nvSpPr>
          <p:spPr>
            <a:xfrm>
              <a:off x="2409840" y="2044800"/>
              <a:ext cx="479880" cy="4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78040" y="3034800"/>
              <a:ext cx="479520" cy="4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02280" y="938160"/>
            <a:ext cx="1551960" cy="1288800"/>
            <a:chOff x="4202280" y="938160"/>
            <a:chExt cx="1551960" cy="1288800"/>
          </a:xfrm>
        </p:grpSpPr>
        <p:sp>
          <p:nvSpPr>
            <p:cNvPr id="259" name=""/>
            <p:cNvSpPr/>
            <p:nvPr/>
          </p:nvSpPr>
          <p:spPr>
            <a:xfrm>
              <a:off x="4202280" y="938160"/>
              <a:ext cx="503280" cy="455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0960" y="1771200"/>
              <a:ext cx="503280" cy="455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27200" y="2336760"/>
            <a:ext cx="7191360" cy="1363680"/>
            <a:chOff x="727200" y="2336760"/>
            <a:chExt cx="7191360" cy="1363680"/>
          </a:xfrm>
        </p:grpSpPr>
        <p:sp>
          <p:nvSpPr>
            <p:cNvPr id="262" name=""/>
            <p:cNvSpPr/>
            <p:nvPr/>
          </p:nvSpPr>
          <p:spPr>
            <a:xfrm>
              <a:off x="727200" y="3309840"/>
              <a:ext cx="377640" cy="39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0560" y="2881440"/>
              <a:ext cx="378000" cy="390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2640" y="2336760"/>
              <a:ext cx="378000" cy="39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21200" y="523800"/>
            <a:ext cx="2360520" cy="4736880"/>
            <a:chOff x="5821200" y="523800"/>
            <a:chExt cx="2360520" cy="4736880"/>
          </a:xfrm>
        </p:grpSpPr>
        <p:sp>
          <p:nvSpPr>
            <p:cNvPr id="266" name=""/>
            <p:cNvSpPr/>
            <p:nvPr/>
          </p:nvSpPr>
          <p:spPr>
            <a:xfrm>
              <a:off x="5821200" y="523800"/>
              <a:ext cx="378000" cy="39024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3040" y="154584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38920" y="264132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04080" y="487008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92760" y="334800"/>
            <a:ext cx="1284480" cy="6194520"/>
            <a:chOff x="6692760" y="334800"/>
            <a:chExt cx="1284480" cy="6194520"/>
          </a:xfrm>
        </p:grpSpPr>
        <p:sp>
          <p:nvSpPr>
            <p:cNvPr id="271" name=""/>
            <p:cNvSpPr/>
            <p:nvPr/>
          </p:nvSpPr>
          <p:spPr>
            <a:xfrm>
              <a:off x="7011720" y="33480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99240" y="158904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92760" y="280188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18120" y="385416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05640" y="6138720"/>
              <a:ext cx="37764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315200" y="508644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长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85840"/>
            <a:ext cx="32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直线条线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区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867280" y="4219560"/>
            <a:ext cx="685800" cy="1533600"/>
            <a:chOff x="5867280" y="4219560"/>
            <a:chExt cx="685800" cy="1533600"/>
          </a:xfrm>
        </p:grpSpPr>
        <p:sp>
          <p:nvSpPr>
            <p:cNvPr id="279" name=""/>
            <p:cNvSpPr/>
            <p:nvPr/>
          </p:nvSpPr>
          <p:spPr>
            <a:xfrm>
              <a:off x="58672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052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47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243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050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13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03:10:00Z</dcterms:created>
  <dc:creator>tf</dc:creator>
  <dc:description/>
  <dc:language>en-US</dc:language>
  <cp:lastModifiedBy>wang</cp:lastModifiedBy>
  <dcterms:modified xsi:type="dcterms:W3CDTF">2004-03-19T02:28:51Z</dcterms:modified>
  <cp:revision>54</cp:revision>
  <dc:subject/>
  <dc:title>PowerPoint 演示文稿</dc:title>
</cp:coreProperties>
</file>