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274F-F2DE-4DE2-B8D6-FEE0D6E8D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CA2A-9366-4ED3-A84C-3B1F20551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E68E-A966-4762-9FCF-C7296D071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5136-F1EA-4E2E-A56C-6FD651D80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1BA9-F496-45BA-A2D8-836AB84A7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CFD5-2BE5-4D59-A7E1-6DA489272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F3CA-6A12-44BA-9F01-DEB2EAAC2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E15F-D156-4E42-B121-F495A2BBA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B06F-46FD-4FD7-B9A2-020FD3B33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D16D-48CE-4E5A-A5C3-9AAC68469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551A-EDA1-4A9D-B5B5-5F5E7175D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9765-8BB0-4CF9-8633-615ECD34F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95E49-A830-4A43-A9A1-83171CB7B4B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523880" y="1143000"/>
            <a:ext cx="51055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隶书"/>
              </a:rPr>
              <a:t>找规律</a:t>
            </a:r>
            <a:endParaRPr b="1" lang="en-US" sz="6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42" name="gif028" descr=""/>
          <p:cNvPicPr/>
          <p:nvPr/>
        </p:nvPicPr>
        <p:blipFill>
          <a:blip r:embed="rId2"/>
          <a:stretch/>
        </p:blipFill>
        <p:spPr>
          <a:xfrm>
            <a:off x="4495680" y="2666880"/>
            <a:ext cx="4114800" cy="386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28600" y="1079640"/>
            <a:ext cx="85345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(3) 2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6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18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(   )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(   )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(3)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的规律是：前项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×3=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后项。所以应填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54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162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029200" y="100332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5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934320" y="101772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16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8600" y="1003320"/>
            <a:ext cx="85345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(4) 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</a:rPr>
              <a:t>35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</a:rPr>
              <a:t>，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</a:rPr>
              <a:t>30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</a:rPr>
              <a:t>，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</a:rPr>
              <a:t>25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</a:rPr>
              <a:t>，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</a:rPr>
              <a:t>(   )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</a:rPr>
              <a:t>，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</a:rPr>
              <a:t>(   )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(4)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的规律是：前项 – 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5 = 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后项。所以应填 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20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15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562720" y="100476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2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543800" y="100476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1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04920" y="914400"/>
            <a:ext cx="83055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(5) 1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4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9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16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(    )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(5)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的规律是：数列各项依次为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1=1×1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， 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4=2×2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， 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9=3×3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， 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16=4×4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，所以应填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5×5=25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。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095880" y="85248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2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04920" y="533520"/>
            <a:ext cx="85341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(6) 2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6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12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20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(   )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，    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(    )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(6)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的规律是：数列各项依次    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2=1×2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6=2×3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12=3×4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， 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20=4×5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，所以，应填 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5×6=30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6×7=42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248520" y="53352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3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14400" y="121932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4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04920" y="652320"/>
            <a:ext cx="853416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按其规律在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( )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内填上合适的数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(1)1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(   )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(   )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；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(2)(  )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(  )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，  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14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；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(3) 3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17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27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(  )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；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(4) 1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32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(  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28600" y="668160"/>
            <a:ext cx="84582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(1)1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(   )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(   )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；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把数列每两项分为一组，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1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，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2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2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，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3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3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，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4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，不难发现其规律是：前一组每个数加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得到后一组数，所以应填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010280" y="62388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1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138600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1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380880" y="380880"/>
            <a:ext cx="84582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(2)(   )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(   )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14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；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</a:rPr>
              <a:t>把后面已知的六个数分成三组：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黑体"/>
              </a:rPr>
              <a:t>10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黑体"/>
              </a:rPr>
              <a:t>，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黑体"/>
              </a:rPr>
              <a:t>5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</a:rPr>
              <a:t>，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黑体"/>
              </a:rPr>
              <a:t>12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黑体"/>
              </a:rPr>
              <a:t>，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黑体"/>
              </a:rPr>
              <a:t>6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</a:rPr>
              <a:t>，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黑体"/>
              </a:rPr>
              <a:t>14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黑体"/>
              </a:rPr>
              <a:t>，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黑体"/>
              </a:rPr>
              <a:t>7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</a:rPr>
              <a:t>，每组中两数的商都是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</a:rPr>
              <a:t>，且由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</a:rPr>
              <a:t>5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</a:rPr>
              <a:t>，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</a:rPr>
              <a:t>6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</a:rPr>
              <a:t>，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</a:rPr>
              <a:t>7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</a:rPr>
              <a:t>的次序知，应填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</a:rPr>
              <a:t>8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</a:rPr>
              <a:t>，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676520" y="38088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en-US" sz="4800" spc="-1" strike="noStrike">
                <a:solidFill>
                  <a:srgbClr val="ff0000"/>
                </a:solidFill>
                <a:latin typeface="黑体"/>
                <a:ea typeface="黑体"/>
              </a:rPr>
              <a:t>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733920" y="38088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en-US" sz="4800" spc="-1" strike="noStrike">
                <a:solidFill>
                  <a:srgbClr val="ff0000"/>
                </a:solidFill>
                <a:latin typeface="黑体"/>
                <a:ea typeface="黑体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80880" y="852480"/>
            <a:ext cx="84582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(3) 3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17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27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(   )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；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这个数列的规律是：前面两项的和等于后面一项，故应填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( 17+27=)44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。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238880" y="85248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4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80880" y="852480"/>
            <a:ext cx="83059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(4) 1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32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，  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(     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这个数列的规律是：前面两项的乘积等于后面一项，故应填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8 × 32 = 256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。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614600"/>
            <a:ext cx="198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25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52280" y="927000"/>
            <a:ext cx="87631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</a:rPr>
              <a:t>按其规律在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</a:rPr>
              <a:t>( )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</a:rPr>
              <a:t>内填上合适的数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</a:rPr>
              <a:t>(1)18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</a:rPr>
              <a:t>，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</a:rPr>
              <a:t>20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</a:rPr>
              <a:t>，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</a:rPr>
              <a:t>24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</a:rPr>
              <a:t>，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</a:rPr>
              <a:t>30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</a:rPr>
              <a:t>，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</a:rPr>
              <a:t>(   )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</a:rPr>
              <a:t>；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</a:rPr>
              <a:t>(2)11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</a:rPr>
              <a:t>，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</a:rPr>
              <a:t>12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</a:rPr>
              <a:t>，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</a:rPr>
              <a:t>14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</a:rPr>
              <a:t>，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</a:rPr>
              <a:t>18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</a:rPr>
              <a:t>，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</a:rPr>
              <a:t>26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</a:rPr>
              <a:t>，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</a:rPr>
              <a:t>(  )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</a:rPr>
              <a:t>；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</a:rPr>
              <a:t>(3)2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</a:rPr>
              <a:t>，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</a:rPr>
              <a:t>5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</a:rPr>
              <a:t>，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</a:rPr>
              <a:t>11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</a:rPr>
              <a:t>，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</a:rPr>
              <a:t>23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</a:rPr>
              <a:t>，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</a:rPr>
              <a:t>47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</a:rPr>
              <a:t>，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</a:rPr>
              <a:t>(   )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</a:rPr>
              <a:t>，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</a:rPr>
              <a:t>(   )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04920" y="533520"/>
            <a:ext cx="8534160" cy="58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按一定次序排列的一列数就叫数列。例如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(1) 1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，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(2) 1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16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32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；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(3) 1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0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0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0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0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，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(4) 1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13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80880" y="838080"/>
            <a:ext cx="83059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黑体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18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20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24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30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(    )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；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其规律是“依次多加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2”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，因为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18+2=20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20+4=24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24+6=30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的后面是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，所以，      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30 + 8 = 38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。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477120" y="852480"/>
            <a:ext cx="198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3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80880" y="380880"/>
            <a:ext cx="830592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(2)11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14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18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26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(   )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；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12-11=1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14-12=2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， 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18-14=4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， 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26-18=8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，组成一新数列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，…按此规律，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后面为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16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。因此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26 + 16 = 42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90720" y="1066680"/>
            <a:ext cx="198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4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80880" y="380880"/>
            <a:ext cx="83059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</a:rPr>
              <a:t>(3)2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</a:rPr>
              <a:t>，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</a:rPr>
              <a:t>5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</a:rPr>
              <a:t>，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</a:rPr>
              <a:t>11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</a:rPr>
              <a:t>，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</a:rPr>
              <a:t>23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</a:rPr>
              <a:t>，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</a:rPr>
              <a:t>47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</a:rPr>
              <a:t>，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</a:rPr>
              <a:t>(   )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</a:rPr>
              <a:t>，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</a:rPr>
              <a:t>(   )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</a:rPr>
              <a:t>观察数列前、后项的关系，后项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</a:rPr>
              <a:t>=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</a:rPr>
              <a:t>前项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</a:rPr>
              <a:t>×2+1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</a:rPr>
              <a:t>，所以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</a:rPr>
              <a:t>47×2+1=95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</a:rPr>
              <a:t>，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</a:rPr>
              <a:t>95×2+1=19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34320" y="380880"/>
            <a:ext cx="198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9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38080" y="1066680"/>
            <a:ext cx="198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19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09480" y="533520"/>
            <a:ext cx="701064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304920"/>
            <a:ext cx="8686800" cy="57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黑体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1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2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3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4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5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6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，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黑体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cc"/>
                </a:solidFill>
                <a:latin typeface="黑体"/>
                <a:ea typeface="黑体"/>
              </a:rPr>
              <a:t> </a:t>
            </a:r>
            <a:r>
              <a:rPr b="1" lang="zh-CN" sz="5400" spc="-1" strike="noStrike">
                <a:solidFill>
                  <a:srgbClr val="3333cc"/>
                </a:solidFill>
                <a:latin typeface="黑体"/>
                <a:ea typeface="黑体"/>
              </a:rPr>
              <a:t>数列</a:t>
            </a:r>
            <a:r>
              <a:rPr b="1" lang="zh-CN" sz="5400" spc="-1" strike="noStrike">
                <a:solidFill>
                  <a:srgbClr val="3333cc"/>
                </a:solidFill>
                <a:latin typeface="黑体"/>
                <a:ea typeface="黑体"/>
              </a:rPr>
              <a:t>(1)</a:t>
            </a:r>
            <a:r>
              <a:rPr b="1" lang="zh-CN" sz="5400" spc="-1" strike="noStrike">
                <a:solidFill>
                  <a:srgbClr val="3333cc"/>
                </a:solidFill>
                <a:latin typeface="黑体"/>
                <a:ea typeface="黑体"/>
              </a:rPr>
              <a:t>是按照自然数从小到大的次序排列的，也叫做自然数数列，其规律是：后项</a:t>
            </a:r>
            <a:r>
              <a:rPr b="1" lang="zh-CN" sz="5400" spc="-1" strike="noStrike">
                <a:solidFill>
                  <a:srgbClr val="3333cc"/>
                </a:solidFill>
                <a:latin typeface="黑体"/>
                <a:ea typeface="黑体"/>
              </a:rPr>
              <a:t>=</a:t>
            </a:r>
            <a:r>
              <a:rPr b="1" lang="zh-CN" sz="5400" spc="-1" strike="noStrike">
                <a:solidFill>
                  <a:srgbClr val="3333cc"/>
                </a:solidFill>
                <a:latin typeface="黑体"/>
                <a:ea typeface="黑体"/>
              </a:rPr>
              <a:t>前项</a:t>
            </a:r>
            <a:r>
              <a:rPr b="1" lang="zh-CN" sz="5400" spc="-1" strike="noStrike">
                <a:solidFill>
                  <a:srgbClr val="3333cc"/>
                </a:solidFill>
                <a:latin typeface="黑体"/>
                <a:ea typeface="黑体"/>
              </a:rPr>
              <a:t>+1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914400"/>
            <a:ext cx="8458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(2) 1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2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4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8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16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32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；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 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数列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(2)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的规律是：后项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=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前项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×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914400"/>
            <a:ext cx="8458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(3) 1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0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0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1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0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0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1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，…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 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数列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(3)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的规律是：“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1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0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0”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周而复始地出现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914400"/>
            <a:ext cx="84582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(4) 1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1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2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3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5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8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13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cc"/>
                </a:solidFill>
                <a:latin typeface="黑体"/>
                <a:ea typeface="黑体"/>
              </a:rPr>
              <a:t> </a:t>
            </a:r>
            <a:r>
              <a:rPr b="1" lang="zh-CN" sz="5400" spc="-1" strike="noStrike">
                <a:solidFill>
                  <a:srgbClr val="3333cc"/>
                </a:solidFill>
                <a:latin typeface="黑体"/>
                <a:ea typeface="黑体"/>
              </a:rPr>
              <a:t>数列</a:t>
            </a:r>
            <a:r>
              <a:rPr b="1" lang="zh-CN" sz="5400" spc="-1" strike="noStrike">
                <a:solidFill>
                  <a:srgbClr val="3333cc"/>
                </a:solidFill>
                <a:latin typeface="黑体"/>
                <a:ea typeface="黑体"/>
              </a:rPr>
              <a:t>(4)</a:t>
            </a:r>
            <a:r>
              <a:rPr b="1" lang="zh-CN" sz="5400" spc="-1" strike="noStrike">
                <a:solidFill>
                  <a:srgbClr val="3333cc"/>
                </a:solidFill>
                <a:latin typeface="黑体"/>
                <a:ea typeface="黑体"/>
              </a:rPr>
              <a:t>的规律是：从第三项起，每项等于它前面两项的和，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cc"/>
                </a:solidFill>
                <a:latin typeface="黑体"/>
                <a:ea typeface="黑体"/>
              </a:rPr>
              <a:t>　　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52280" y="762120"/>
            <a:ext cx="861084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按其规律在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( )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内填上合适的数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(1)4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7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10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13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( )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(2)84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72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60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( )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( )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；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(3)2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6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18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( )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( )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黑体"/>
              </a:rPr>
              <a:t>(4)35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</a:rPr>
              <a:t>，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</a:rPr>
              <a:t>30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</a:rPr>
              <a:t>，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</a:rPr>
              <a:t>25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</a:rPr>
              <a:t>，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</a:rPr>
              <a:t>( )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</a:rPr>
              <a:t>，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</a:rPr>
              <a:t>( )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</a:rPr>
              <a:t>；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黑体"/>
              </a:rPr>
              <a:t>(5)1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</a:rPr>
              <a:t>，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</a:rPr>
              <a:t>4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</a:rPr>
              <a:t>，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</a:rPr>
              <a:t>9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</a:rPr>
              <a:t>，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</a:rPr>
              <a:t>16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</a:rPr>
              <a:t>，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</a:rPr>
              <a:t>( )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黑体"/>
              </a:rPr>
              <a:t>(6)2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</a:rPr>
              <a:t>，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</a:rPr>
              <a:t>6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</a:rPr>
              <a:t>，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</a:rPr>
              <a:t>12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</a:rPr>
              <a:t>，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</a:rPr>
              <a:t>20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</a:rPr>
              <a:t>，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</a:rPr>
              <a:t>( )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</a:rPr>
              <a:t>，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</a:rPr>
              <a:t>( )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609480"/>
            <a:ext cx="83059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 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(1)4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7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10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13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(    )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通过对已知的几个数的前后两项的观察、分析，可发现（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）规律是：前项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+3=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后项。所以应填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16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324480" y="53352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1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8600" y="609480"/>
            <a:ext cx="85345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(2) 84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72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60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(   )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(   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(2)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的规律是：前项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-12=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后项。所以应填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48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36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。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562720" y="60948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4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96080" y="60948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3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4T13:21:56Z</dcterms:created>
  <dc:creator>tf</dc:creator>
  <dc:description/>
  <dc:language>en-US</dc:language>
  <cp:lastModifiedBy>array</cp:lastModifiedBy>
  <dcterms:modified xsi:type="dcterms:W3CDTF">2004-01-08T01:59:49Z</dcterms:modified>
  <cp:revision>8</cp:revision>
  <dc:subject/>
  <dc:title>PowerPoint 演示文稿</dc:title>
</cp:coreProperties>
</file>