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429-7CBB-41D6-9E5F-1C423B53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B33-D2AB-42ED-8680-7CDBF3ED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3C4-1E14-41C3-9E0A-2BA1812B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269-B92D-4D9D-95D5-34352463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981-E0A0-4DCB-A626-F7792ADC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52A-725A-41F9-B3E6-DACCD4B9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765-4D76-42F6-A79E-156999C9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5A9-60B9-4372-9C9E-072FC692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DD6-A068-48E4-93EC-B3B66ACD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62F-D759-4D97-89EE-36DA6115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371-A00F-4634-B6B8-AD7BFF77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204-B8A9-4481-9546-8F03FB97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8C43-2E66-4840-9414-E42320DD2E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186_jp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57600" y="106668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找规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22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74320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274320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243828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243828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274320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243828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274320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243828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74320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243828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588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0"/>
            <a:ext cx="4876560" cy="1143000"/>
          </a:xfrm>
          <a:prstGeom prst="wedgeEllipseCallout">
            <a:avLst>
              <a:gd name="adj1" fmla="val -43944"/>
              <a:gd name="adj2" fmla="val 9472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摆一摆，填一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52280" y="2438280"/>
            <a:ext cx="1219320" cy="1676520"/>
            <a:chOff x="152280" y="2438280"/>
            <a:chExt cx="1219320" cy="1676520"/>
          </a:xfrm>
        </p:grpSpPr>
        <p:sp>
          <p:nvSpPr>
            <p:cNvPr id="292" name=""/>
            <p:cNvSpPr/>
            <p:nvPr/>
          </p:nvSpPr>
          <p:spPr>
            <a:xfrm>
              <a:off x="152280" y="3505320"/>
              <a:ext cx="60984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" y="29718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120" y="350532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280" y="2438280"/>
              <a:ext cx="60984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2120" y="243828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676520" y="2514600"/>
            <a:ext cx="533160" cy="1600200"/>
            <a:chOff x="1676520" y="2514600"/>
            <a:chExt cx="533160" cy="1600200"/>
          </a:xfrm>
        </p:grpSpPr>
        <p:sp>
          <p:nvSpPr>
            <p:cNvPr id="298" name=""/>
            <p:cNvSpPr/>
            <p:nvPr/>
          </p:nvSpPr>
          <p:spPr>
            <a:xfrm>
              <a:off x="1676520" y="3048120"/>
              <a:ext cx="53316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76520" y="358128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76520" y="251460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90920" y="2514600"/>
            <a:ext cx="1218600" cy="1676520"/>
            <a:chOff x="2590920" y="2514600"/>
            <a:chExt cx="1218600" cy="1676520"/>
          </a:xfrm>
        </p:grpSpPr>
        <p:sp>
          <p:nvSpPr>
            <p:cNvPr id="302" name=""/>
            <p:cNvSpPr/>
            <p:nvPr/>
          </p:nvSpPr>
          <p:spPr>
            <a:xfrm>
              <a:off x="2590920" y="358164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5480" y="3048120"/>
              <a:ext cx="6091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00400" y="3581640"/>
              <a:ext cx="6091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251460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00400" y="2514600"/>
              <a:ext cx="60912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181480" y="2514600"/>
            <a:ext cx="1219320" cy="1676520"/>
            <a:chOff x="5181480" y="2514600"/>
            <a:chExt cx="1219320" cy="1676520"/>
          </a:xfrm>
        </p:grpSpPr>
        <p:sp>
          <p:nvSpPr>
            <p:cNvPr id="308" name=""/>
            <p:cNvSpPr/>
            <p:nvPr/>
          </p:nvSpPr>
          <p:spPr>
            <a:xfrm>
              <a:off x="5181480" y="3581640"/>
              <a:ext cx="60984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86400" y="304812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91320" y="358164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2514600"/>
              <a:ext cx="60984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1320" y="251460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267080" y="2590920"/>
            <a:ext cx="533160" cy="1600200"/>
            <a:chOff x="4267080" y="2590920"/>
            <a:chExt cx="533160" cy="1600200"/>
          </a:xfrm>
        </p:grpSpPr>
        <p:sp>
          <p:nvSpPr>
            <p:cNvPr id="314" name=""/>
            <p:cNvSpPr/>
            <p:nvPr/>
          </p:nvSpPr>
          <p:spPr>
            <a:xfrm>
              <a:off x="4267080" y="3124440"/>
              <a:ext cx="53316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7080" y="365760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67080" y="259092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781680" y="2590920"/>
            <a:ext cx="533160" cy="1600200"/>
            <a:chOff x="6781680" y="2590920"/>
            <a:chExt cx="533160" cy="1600200"/>
          </a:xfrm>
        </p:grpSpPr>
        <p:sp>
          <p:nvSpPr>
            <p:cNvPr id="318" name=""/>
            <p:cNvSpPr/>
            <p:nvPr/>
          </p:nvSpPr>
          <p:spPr>
            <a:xfrm>
              <a:off x="6781680" y="3124440"/>
              <a:ext cx="53316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81680" y="365760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81680" y="259092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04920" y="59436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5943600"/>
            <a:ext cx="6098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71800" y="59436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5943600"/>
            <a:ext cx="6098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5943600"/>
            <a:ext cx="6098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943600"/>
            <a:ext cx="6098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59436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534520" y="59436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816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724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45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8915400" cy="1828800"/>
          </a:xfrm>
          <a:prstGeom prst="cloudCallout">
            <a:avLst>
              <a:gd name="adj1" fmla="val -38356"/>
              <a:gd name="adj2" fmla="val 6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拼出下一组图形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0" y="3276720"/>
            <a:ext cx="7010280" cy="1371600"/>
            <a:chOff x="0" y="3276720"/>
            <a:chExt cx="7010280" cy="1371600"/>
          </a:xfrm>
        </p:grpSpPr>
        <p:grpSp>
          <p:nvGrpSpPr>
            <p:cNvPr id="339" name=""/>
            <p:cNvGrpSpPr/>
            <p:nvPr/>
          </p:nvGrpSpPr>
          <p:grpSpPr>
            <a:xfrm>
              <a:off x="0" y="3276720"/>
              <a:ext cx="762120" cy="1371600"/>
              <a:chOff x="0" y="3276720"/>
              <a:chExt cx="762120" cy="13716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3276720"/>
                <a:ext cx="76212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962520"/>
                <a:ext cx="76212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62120" y="3352680"/>
              <a:ext cx="1523880" cy="1295640"/>
              <a:chOff x="762120" y="3352680"/>
              <a:chExt cx="1523880" cy="1295640"/>
            </a:xfrm>
          </p:grpSpPr>
          <p:sp>
            <p:nvSpPr>
              <p:cNvPr id="343" name=""/>
              <p:cNvSpPr/>
              <p:nvPr/>
            </p:nvSpPr>
            <p:spPr>
              <a:xfrm>
                <a:off x="762120" y="3962520"/>
                <a:ext cx="76176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23880" y="396252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43000" y="335268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362320" y="3276720"/>
              <a:ext cx="761760" cy="1371600"/>
              <a:chOff x="2362320" y="3276720"/>
              <a:chExt cx="761760" cy="1371600"/>
            </a:xfrm>
          </p:grpSpPr>
          <p:sp>
            <p:nvSpPr>
              <p:cNvPr id="347" name=""/>
              <p:cNvSpPr/>
              <p:nvPr/>
            </p:nvSpPr>
            <p:spPr>
              <a:xfrm>
                <a:off x="2362320" y="3276720"/>
                <a:ext cx="76176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62320" y="3962520"/>
                <a:ext cx="76176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124080" y="3352680"/>
              <a:ext cx="1523880" cy="1295640"/>
              <a:chOff x="3124080" y="3352680"/>
              <a:chExt cx="1523880" cy="1295640"/>
            </a:xfrm>
          </p:grpSpPr>
          <p:sp>
            <p:nvSpPr>
              <p:cNvPr id="350" name=""/>
              <p:cNvSpPr/>
              <p:nvPr/>
            </p:nvSpPr>
            <p:spPr>
              <a:xfrm>
                <a:off x="3124080" y="3962520"/>
                <a:ext cx="76176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85840" y="396252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04960" y="335268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724280" y="3276720"/>
              <a:ext cx="762120" cy="1371600"/>
              <a:chOff x="4724280" y="3276720"/>
              <a:chExt cx="762120" cy="1371600"/>
            </a:xfrm>
          </p:grpSpPr>
          <p:sp>
            <p:nvSpPr>
              <p:cNvPr id="354" name=""/>
              <p:cNvSpPr/>
              <p:nvPr/>
            </p:nvSpPr>
            <p:spPr>
              <a:xfrm>
                <a:off x="4724280" y="3276720"/>
                <a:ext cx="76212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24280" y="3962520"/>
                <a:ext cx="76212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86400" y="3352680"/>
              <a:ext cx="1523880" cy="1295640"/>
              <a:chOff x="5486400" y="3352680"/>
              <a:chExt cx="1523880" cy="1295640"/>
            </a:xfrm>
          </p:grpSpPr>
          <p:sp>
            <p:nvSpPr>
              <p:cNvPr id="357" name=""/>
              <p:cNvSpPr/>
              <p:nvPr/>
            </p:nvSpPr>
            <p:spPr>
              <a:xfrm>
                <a:off x="5486400" y="3962520"/>
                <a:ext cx="76176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48160" y="396252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7280" y="335268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7315200" y="4800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4800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10280" y="3276720"/>
            <a:ext cx="762120" cy="1371600"/>
            <a:chOff x="7010280" y="3276720"/>
            <a:chExt cx="762120" cy="1371600"/>
          </a:xfrm>
        </p:grpSpPr>
        <p:sp>
          <p:nvSpPr>
            <p:cNvPr id="363" name=""/>
            <p:cNvSpPr/>
            <p:nvPr/>
          </p:nvSpPr>
          <p:spPr>
            <a:xfrm>
              <a:off x="7010280" y="3276720"/>
              <a:ext cx="762120" cy="685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0280" y="3962520"/>
              <a:ext cx="762120" cy="685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772400" y="3352680"/>
            <a:ext cx="1523880" cy="1295640"/>
            <a:chOff x="7772400" y="3352680"/>
            <a:chExt cx="1523880" cy="1295640"/>
          </a:xfrm>
        </p:grpSpPr>
        <p:sp>
          <p:nvSpPr>
            <p:cNvPr id="366" name=""/>
            <p:cNvSpPr/>
            <p:nvPr/>
          </p:nvSpPr>
          <p:spPr>
            <a:xfrm>
              <a:off x="7772400" y="3962520"/>
              <a:ext cx="761760" cy="685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534160" y="3962520"/>
              <a:ext cx="762120" cy="685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53280" y="3352680"/>
              <a:ext cx="762120" cy="685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未命名" descr=""/>
          <p:cNvPicPr/>
          <p:nvPr/>
        </p:nvPicPr>
        <p:blipFill>
          <a:blip r:embed="rId2"/>
          <a:stretch/>
        </p:blipFill>
        <p:spPr>
          <a:xfrm>
            <a:off x="380880" y="1265400"/>
            <a:ext cx="7925040" cy="792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7086600" y="990720"/>
            <a:ext cx="1676520" cy="152388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71800" y="4038480"/>
            <a:ext cx="3657600" cy="198144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6320" y="2514600"/>
            <a:ext cx="5790960" cy="1447560"/>
            <a:chOff x="76320" y="2514600"/>
            <a:chExt cx="5790960" cy="1447560"/>
          </a:xfrm>
        </p:grpSpPr>
        <p:sp>
          <p:nvSpPr>
            <p:cNvPr id="44" name=""/>
            <p:cNvSpPr/>
            <p:nvPr/>
          </p:nvSpPr>
          <p:spPr>
            <a:xfrm>
              <a:off x="76320" y="312408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066680" y="2514600"/>
              <a:ext cx="838080" cy="1447560"/>
              <a:chOff x="1066680" y="2514600"/>
              <a:chExt cx="838080" cy="1447560"/>
            </a:xfrm>
          </p:grpSpPr>
          <p:sp>
            <p:nvSpPr>
              <p:cNvPr id="46" name=""/>
              <p:cNvSpPr/>
              <p:nvPr/>
            </p:nvSpPr>
            <p:spPr>
              <a:xfrm>
                <a:off x="1066680" y="312408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066680" y="251460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2057400" y="312408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048120" y="2514600"/>
              <a:ext cx="838080" cy="1447560"/>
              <a:chOff x="3048120" y="2514600"/>
              <a:chExt cx="838080" cy="1447560"/>
            </a:xfrm>
          </p:grpSpPr>
          <p:sp>
            <p:nvSpPr>
              <p:cNvPr id="50" name=""/>
              <p:cNvSpPr/>
              <p:nvPr/>
            </p:nvSpPr>
            <p:spPr>
              <a:xfrm>
                <a:off x="3048120" y="312408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48120" y="251460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029200" y="2514600"/>
              <a:ext cx="838080" cy="1447560"/>
              <a:chOff x="5029200" y="2514600"/>
              <a:chExt cx="838080" cy="1447560"/>
            </a:xfrm>
          </p:grpSpPr>
          <p:sp>
            <p:nvSpPr>
              <p:cNvPr id="53" name=""/>
              <p:cNvSpPr/>
              <p:nvPr/>
            </p:nvSpPr>
            <p:spPr>
              <a:xfrm>
                <a:off x="5029200" y="312408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29200" y="251460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038480" y="3124080"/>
              <a:ext cx="838440" cy="83808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6019920" y="3124080"/>
            <a:ext cx="838080" cy="838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38880" y="2514600"/>
            <a:ext cx="838080" cy="1447560"/>
            <a:chOff x="7238880" y="2514600"/>
            <a:chExt cx="838080" cy="1447560"/>
          </a:xfrm>
        </p:grpSpPr>
        <p:sp>
          <p:nvSpPr>
            <p:cNvPr id="58" name=""/>
            <p:cNvSpPr/>
            <p:nvPr/>
          </p:nvSpPr>
          <p:spPr>
            <a:xfrm>
              <a:off x="7238880" y="312408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8880" y="251460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943600" y="403848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4038480"/>
            <a:ext cx="838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7948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463920"/>
            <a:ext cx="53964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14440" y="3429000"/>
            <a:ext cx="4143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54240" y="3429000"/>
            <a:ext cx="4161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03360" y="3463920"/>
            <a:ext cx="5400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0" y="3429000"/>
            <a:ext cx="4143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7988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6428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13400" y="3463920"/>
            <a:ext cx="53964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9240" y="3429000"/>
            <a:ext cx="4143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9560" y="3429000"/>
            <a:ext cx="4161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7396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23080" y="3463920"/>
            <a:ext cx="53964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08920" y="3429000"/>
            <a:ext cx="4143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9960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5820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66680" y="152280"/>
            <a:ext cx="6934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一做，你能行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765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想一想，有什么规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95480"/>
            <a:ext cx="60948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895480"/>
            <a:ext cx="60984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895480"/>
            <a:ext cx="60984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2895480"/>
            <a:ext cx="60948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2895480"/>
            <a:ext cx="60948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2895480"/>
            <a:ext cx="60984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895480"/>
            <a:ext cx="60948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2895480"/>
            <a:ext cx="60984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581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自己涂出有规律的颜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320" y="4419720"/>
            <a:ext cx="8915400" cy="685800"/>
            <a:chOff x="76320" y="4419720"/>
            <a:chExt cx="8915400" cy="685800"/>
          </a:xfrm>
        </p:grpSpPr>
        <p:sp>
          <p:nvSpPr>
            <p:cNvPr id="101" name=""/>
            <p:cNvSpPr/>
            <p:nvPr/>
          </p:nvSpPr>
          <p:spPr>
            <a:xfrm>
              <a:off x="76320" y="4419720"/>
              <a:ext cx="76176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05120" y="4419720"/>
              <a:ext cx="76176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576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4419720"/>
              <a:ext cx="76176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008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2296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62120" y="5638680"/>
            <a:ext cx="7848360" cy="838440"/>
            <a:chOff x="762120" y="5638680"/>
            <a:chExt cx="7848360" cy="838440"/>
          </a:xfrm>
        </p:grpSpPr>
        <p:sp>
          <p:nvSpPr>
            <p:cNvPr id="112" name=""/>
            <p:cNvSpPr/>
            <p:nvPr/>
          </p:nvSpPr>
          <p:spPr>
            <a:xfrm>
              <a:off x="76212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0968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9608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2448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52280" y="2057400"/>
            <a:ext cx="6653160" cy="810360"/>
            <a:chOff x="152280" y="2057400"/>
            <a:chExt cx="6653160" cy="810360"/>
          </a:xfrm>
        </p:grpSpPr>
        <p:grpSp>
          <p:nvGrpSpPr>
            <p:cNvPr id="119" name=""/>
            <p:cNvGrpSpPr/>
            <p:nvPr/>
          </p:nvGrpSpPr>
          <p:grpSpPr>
            <a:xfrm>
              <a:off x="152280" y="2057400"/>
              <a:ext cx="2004840" cy="810360"/>
              <a:chOff x="152280" y="2057400"/>
              <a:chExt cx="2004840" cy="810360"/>
            </a:xfrm>
          </p:grpSpPr>
          <p:sp>
            <p:nvSpPr>
              <p:cNvPr id="120" name=""/>
              <p:cNvSpPr/>
              <p:nvPr/>
            </p:nvSpPr>
            <p:spPr>
              <a:xfrm>
                <a:off x="152280" y="2057400"/>
                <a:ext cx="838080" cy="762120"/>
              </a:xfrm>
              <a:prstGeom prst="bevel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1293480" y="2085120"/>
                <a:ext cx="863640" cy="782640"/>
                <a:chOff x="1293480" y="2085120"/>
                <a:chExt cx="863640" cy="782640"/>
              </a:xfrm>
            </p:grpSpPr>
            <p:sp>
              <p:nvSpPr>
                <p:cNvPr id="122" name=""/>
                <p:cNvSpPr/>
                <p:nvPr/>
              </p:nvSpPr>
              <p:spPr>
                <a:xfrm rot="1702200">
                  <a:off x="1469520" y="2057040"/>
                  <a:ext cx="7560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19900200">
                  <a:off x="1904760" y="205740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6103400">
                  <a:off x="1714320" y="243792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2362320" y="2057400"/>
              <a:ext cx="2004840" cy="810360"/>
              <a:chOff x="2362320" y="2057400"/>
              <a:chExt cx="2004840" cy="810360"/>
            </a:xfrm>
          </p:grpSpPr>
          <p:sp>
            <p:nvSpPr>
              <p:cNvPr id="126" name=""/>
              <p:cNvSpPr/>
              <p:nvPr/>
            </p:nvSpPr>
            <p:spPr>
              <a:xfrm>
                <a:off x="2362320" y="2057400"/>
                <a:ext cx="838080" cy="762120"/>
              </a:xfrm>
              <a:prstGeom prst="bevel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503520" y="2085120"/>
                <a:ext cx="863640" cy="782640"/>
                <a:chOff x="3503520" y="2085120"/>
                <a:chExt cx="863640" cy="782640"/>
              </a:xfrm>
            </p:grpSpPr>
            <p:sp>
              <p:nvSpPr>
                <p:cNvPr id="128" name=""/>
                <p:cNvSpPr/>
                <p:nvPr/>
              </p:nvSpPr>
              <p:spPr>
                <a:xfrm rot="1702200">
                  <a:off x="3679560" y="2057040"/>
                  <a:ext cx="7560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9900200">
                  <a:off x="4114800" y="205740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6103400">
                  <a:off x="3924360" y="243792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4800600" y="2057400"/>
              <a:ext cx="2004840" cy="810360"/>
              <a:chOff x="4800600" y="2057400"/>
              <a:chExt cx="2004840" cy="810360"/>
            </a:xfrm>
          </p:grpSpPr>
          <p:sp>
            <p:nvSpPr>
              <p:cNvPr id="132" name=""/>
              <p:cNvSpPr/>
              <p:nvPr/>
            </p:nvSpPr>
            <p:spPr>
              <a:xfrm>
                <a:off x="4800600" y="2057400"/>
                <a:ext cx="838080" cy="762120"/>
              </a:xfrm>
              <a:prstGeom prst="bevel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5941800" y="2085120"/>
                <a:ext cx="863640" cy="782640"/>
                <a:chOff x="5941800" y="2085120"/>
                <a:chExt cx="863640" cy="782640"/>
              </a:xfrm>
            </p:grpSpPr>
            <p:sp>
              <p:nvSpPr>
                <p:cNvPr id="134" name=""/>
                <p:cNvSpPr/>
                <p:nvPr/>
              </p:nvSpPr>
              <p:spPr>
                <a:xfrm rot="1702200">
                  <a:off x="6117840" y="2057040"/>
                  <a:ext cx="7560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9900200">
                  <a:off x="6553080" y="205740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6103400">
                  <a:off x="6362640" y="243792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7" name=""/>
          <p:cNvGrpSpPr/>
          <p:nvPr/>
        </p:nvGrpSpPr>
        <p:grpSpPr>
          <a:xfrm>
            <a:off x="228600" y="3159000"/>
            <a:ext cx="6477120" cy="684000"/>
            <a:chOff x="228600" y="3159000"/>
            <a:chExt cx="6477120" cy="684000"/>
          </a:xfrm>
        </p:grpSpPr>
        <p:sp>
          <p:nvSpPr>
            <p:cNvPr id="138" name=""/>
            <p:cNvSpPr/>
            <p:nvPr/>
          </p:nvSpPr>
          <p:spPr>
            <a:xfrm>
              <a:off x="228600" y="32004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32004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32004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32004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590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9920" y="31590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010280" y="3124080"/>
            <a:ext cx="1828800" cy="641520"/>
            <a:chOff x="7010280" y="3124080"/>
            <a:chExt cx="1828800" cy="641520"/>
          </a:xfrm>
        </p:grpSpPr>
        <p:sp>
          <p:nvSpPr>
            <p:cNvPr id="145" name=""/>
            <p:cNvSpPr/>
            <p:nvPr/>
          </p:nvSpPr>
          <p:spPr>
            <a:xfrm>
              <a:off x="7010280" y="3124080"/>
              <a:ext cx="68580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53280" y="3124080"/>
              <a:ext cx="68580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010280" y="3124080"/>
            <a:ext cx="6858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3124080"/>
            <a:ext cx="6858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2362320"/>
            <a:ext cx="4572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3623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0709400">
            <a:off x="1294920" y="2819160"/>
            <a:ext cx="609840" cy="838080"/>
          </a:xfrm>
          <a:prstGeom prst="triangle">
            <a:avLst>
              <a:gd name="adj" fmla="val 53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2362320"/>
            <a:ext cx="4572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3623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3623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709400">
            <a:off x="3428280" y="2819160"/>
            <a:ext cx="609480" cy="838080"/>
          </a:xfrm>
          <a:prstGeom prst="triangle">
            <a:avLst>
              <a:gd name="adj" fmla="val 53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72000" y="2362320"/>
            <a:ext cx="1828800" cy="1303200"/>
            <a:chOff x="4572000" y="2362320"/>
            <a:chExt cx="1828800" cy="1303200"/>
          </a:xfrm>
        </p:grpSpPr>
        <p:grpSp>
          <p:nvGrpSpPr>
            <p:cNvPr id="158" name=""/>
            <p:cNvGrpSpPr/>
            <p:nvPr/>
          </p:nvGrpSpPr>
          <p:grpSpPr>
            <a:xfrm>
              <a:off x="4572000" y="2362320"/>
              <a:ext cx="1828800" cy="457200"/>
              <a:chOff x="4572000" y="2362320"/>
              <a:chExt cx="182880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572000" y="2362320"/>
                <a:ext cx="457200" cy="457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10080" y="236232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43600" y="236232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10709400">
              <a:off x="5638320" y="2819160"/>
              <a:ext cx="609840" cy="838080"/>
            </a:xfrm>
            <a:prstGeom prst="triangle">
              <a:avLst>
                <a:gd name="adj" fmla="val 539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29400" y="2362320"/>
            <a:ext cx="1828800" cy="1303200"/>
            <a:chOff x="6629400" y="2362320"/>
            <a:chExt cx="1828800" cy="1303200"/>
          </a:xfrm>
        </p:grpSpPr>
        <p:grpSp>
          <p:nvGrpSpPr>
            <p:cNvPr id="164" name=""/>
            <p:cNvGrpSpPr/>
            <p:nvPr/>
          </p:nvGrpSpPr>
          <p:grpSpPr>
            <a:xfrm>
              <a:off x="6629400" y="2362320"/>
              <a:ext cx="1828800" cy="457200"/>
              <a:chOff x="6629400" y="2362320"/>
              <a:chExt cx="1828800" cy="457200"/>
            </a:xfrm>
          </p:grpSpPr>
          <p:sp>
            <p:nvSpPr>
              <p:cNvPr id="165" name=""/>
              <p:cNvSpPr/>
              <p:nvPr/>
            </p:nvSpPr>
            <p:spPr>
              <a:xfrm>
                <a:off x="6629400" y="2362320"/>
                <a:ext cx="457200" cy="457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67480" y="236232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236232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10709400">
              <a:off x="7695720" y="2819160"/>
              <a:ext cx="609840" cy="838080"/>
            </a:xfrm>
            <a:prstGeom prst="triangle">
              <a:avLst>
                <a:gd name="adj" fmla="val 539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657240"/>
            <a:ext cx="53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17680" y="3657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17680" y="365760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6760" y="3657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03680" y="365760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2760" y="3657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1911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41911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5120" y="3581280"/>
            <a:ext cx="53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4200" y="3581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609480" y="2133360"/>
            <a:ext cx="6248520" cy="685800"/>
            <a:chOff x="609480" y="2133360"/>
            <a:chExt cx="6248520" cy="685800"/>
          </a:xfrm>
        </p:grpSpPr>
        <p:sp>
          <p:nvSpPr>
            <p:cNvPr id="180" name=""/>
            <p:cNvSpPr/>
            <p:nvPr/>
          </p:nvSpPr>
          <p:spPr>
            <a:xfrm rot="16200000">
              <a:off x="1257120" y="1485360"/>
              <a:ext cx="685800" cy="198144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5524560" y="1485720"/>
              <a:ext cx="685800" cy="198108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447920" y="2971800"/>
            <a:ext cx="6608880" cy="734760"/>
            <a:chOff x="1447920" y="2971800"/>
            <a:chExt cx="6608880" cy="734760"/>
          </a:xfrm>
        </p:grpSpPr>
        <p:sp>
          <p:nvSpPr>
            <p:cNvPr id="183" name=""/>
            <p:cNvSpPr/>
            <p:nvPr/>
          </p:nvSpPr>
          <p:spPr>
            <a:xfrm>
              <a:off x="1447920" y="2987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30440" y="2971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30031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560" y="2987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352680" y="5425920"/>
            <a:ext cx="6858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5410080"/>
            <a:ext cx="6858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未命名" descr=""/>
          <p:cNvPicPr/>
          <p:nvPr/>
        </p:nvPicPr>
        <p:blipFill>
          <a:blip r:embed="rId2"/>
          <a:stretch/>
        </p:blipFill>
        <p:spPr>
          <a:xfrm>
            <a:off x="380880" y="1265400"/>
            <a:ext cx="7925040" cy="792000"/>
          </a:xfrm>
          <a:prstGeom prst="rect">
            <a:avLst/>
          </a:prstGeom>
          <a:ln w="0">
            <a:noFill/>
          </a:ln>
        </p:spPr>
      </p:pic>
      <p:pic>
        <p:nvPicPr>
          <p:cNvPr id="190" name="1" descr=""/>
          <p:cNvPicPr/>
          <p:nvPr/>
        </p:nvPicPr>
        <p:blipFill>
          <a:blip r:embed="rId3"/>
          <a:stretch/>
        </p:blipFill>
        <p:spPr>
          <a:xfrm>
            <a:off x="2286000" y="4267080"/>
            <a:ext cx="39625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3276720"/>
            <a:ext cx="53316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743200"/>
            <a:ext cx="5331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3276720"/>
            <a:ext cx="53316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3276720"/>
            <a:ext cx="53316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2743200"/>
            <a:ext cx="5331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4380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52280" y="2438280"/>
            <a:ext cx="533520" cy="1067040"/>
            <a:chOff x="152280" y="2438280"/>
            <a:chExt cx="533520" cy="1067040"/>
          </a:xfrm>
        </p:grpSpPr>
        <p:sp>
          <p:nvSpPr>
            <p:cNvPr id="214" name=""/>
            <p:cNvSpPr/>
            <p:nvPr/>
          </p:nvSpPr>
          <p:spPr>
            <a:xfrm>
              <a:off x="15228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28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914400" y="2438280"/>
            <a:ext cx="533520" cy="1067040"/>
            <a:chOff x="914400" y="2438280"/>
            <a:chExt cx="533520" cy="1067040"/>
          </a:xfrm>
        </p:grpSpPr>
        <p:sp>
          <p:nvSpPr>
            <p:cNvPr id="217" name=""/>
            <p:cNvSpPr/>
            <p:nvPr/>
          </p:nvSpPr>
          <p:spPr>
            <a:xfrm>
              <a:off x="9144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2438280"/>
            <a:ext cx="533160" cy="1067040"/>
            <a:chOff x="1447920" y="2438280"/>
            <a:chExt cx="533160" cy="1067040"/>
          </a:xfrm>
        </p:grpSpPr>
        <p:sp>
          <p:nvSpPr>
            <p:cNvPr id="220" name=""/>
            <p:cNvSpPr/>
            <p:nvPr/>
          </p:nvSpPr>
          <p:spPr>
            <a:xfrm>
              <a:off x="1447920" y="297180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7920" y="243828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133720" y="2438280"/>
            <a:ext cx="533160" cy="1067040"/>
            <a:chOff x="2133720" y="2438280"/>
            <a:chExt cx="533160" cy="1067040"/>
          </a:xfrm>
        </p:grpSpPr>
        <p:sp>
          <p:nvSpPr>
            <p:cNvPr id="223" name=""/>
            <p:cNvSpPr/>
            <p:nvPr/>
          </p:nvSpPr>
          <p:spPr>
            <a:xfrm>
              <a:off x="2133720" y="297180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33720" y="243828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666880" y="2438280"/>
            <a:ext cx="533520" cy="1067040"/>
            <a:chOff x="2666880" y="2438280"/>
            <a:chExt cx="533520" cy="1067040"/>
          </a:xfrm>
        </p:grpSpPr>
        <p:sp>
          <p:nvSpPr>
            <p:cNvPr id="226" name=""/>
            <p:cNvSpPr/>
            <p:nvPr/>
          </p:nvSpPr>
          <p:spPr>
            <a:xfrm>
              <a:off x="266688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6688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00400" y="2438280"/>
            <a:ext cx="533520" cy="1067040"/>
            <a:chOff x="3200400" y="2438280"/>
            <a:chExt cx="533520" cy="1067040"/>
          </a:xfrm>
        </p:grpSpPr>
        <p:sp>
          <p:nvSpPr>
            <p:cNvPr id="229" name=""/>
            <p:cNvSpPr/>
            <p:nvPr/>
          </p:nvSpPr>
          <p:spPr>
            <a:xfrm>
              <a:off x="32004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04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86200" y="2438280"/>
            <a:ext cx="533520" cy="1067040"/>
            <a:chOff x="3886200" y="2438280"/>
            <a:chExt cx="533520" cy="1067040"/>
          </a:xfrm>
        </p:grpSpPr>
        <p:sp>
          <p:nvSpPr>
            <p:cNvPr id="232" name=""/>
            <p:cNvSpPr/>
            <p:nvPr/>
          </p:nvSpPr>
          <p:spPr>
            <a:xfrm>
              <a:off x="38862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419720" y="2438280"/>
            <a:ext cx="533160" cy="1067040"/>
            <a:chOff x="4419720" y="2438280"/>
            <a:chExt cx="533160" cy="1067040"/>
          </a:xfrm>
        </p:grpSpPr>
        <p:sp>
          <p:nvSpPr>
            <p:cNvPr id="235" name=""/>
            <p:cNvSpPr/>
            <p:nvPr/>
          </p:nvSpPr>
          <p:spPr>
            <a:xfrm>
              <a:off x="4419720" y="297180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19720" y="243828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2438280"/>
            <a:ext cx="533520" cy="1067040"/>
            <a:chOff x="4952880" y="2438280"/>
            <a:chExt cx="533520" cy="1067040"/>
          </a:xfrm>
        </p:grpSpPr>
        <p:sp>
          <p:nvSpPr>
            <p:cNvPr id="238" name=""/>
            <p:cNvSpPr/>
            <p:nvPr/>
          </p:nvSpPr>
          <p:spPr>
            <a:xfrm>
              <a:off x="495288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5288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486400" y="2438280"/>
            <a:ext cx="533520" cy="1067040"/>
            <a:chOff x="5486400" y="2438280"/>
            <a:chExt cx="533520" cy="1067040"/>
          </a:xfrm>
        </p:grpSpPr>
        <p:sp>
          <p:nvSpPr>
            <p:cNvPr id="241" name=""/>
            <p:cNvSpPr/>
            <p:nvPr/>
          </p:nvSpPr>
          <p:spPr>
            <a:xfrm>
              <a:off x="54864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864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172200" y="2438280"/>
            <a:ext cx="533520" cy="1067040"/>
            <a:chOff x="6172200" y="2438280"/>
            <a:chExt cx="533520" cy="1067040"/>
          </a:xfrm>
        </p:grpSpPr>
        <p:sp>
          <p:nvSpPr>
            <p:cNvPr id="244" name=""/>
            <p:cNvSpPr/>
            <p:nvPr/>
          </p:nvSpPr>
          <p:spPr>
            <a:xfrm>
              <a:off x="61722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22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705720" y="2438280"/>
            <a:ext cx="533160" cy="1067040"/>
            <a:chOff x="6705720" y="2438280"/>
            <a:chExt cx="533160" cy="1067040"/>
          </a:xfrm>
        </p:grpSpPr>
        <p:sp>
          <p:nvSpPr>
            <p:cNvPr id="247" name=""/>
            <p:cNvSpPr/>
            <p:nvPr/>
          </p:nvSpPr>
          <p:spPr>
            <a:xfrm>
              <a:off x="6705720" y="297180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05720" y="243828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238880" y="2438280"/>
            <a:ext cx="533520" cy="1067040"/>
            <a:chOff x="7238880" y="2438280"/>
            <a:chExt cx="533520" cy="1067040"/>
          </a:xfrm>
        </p:grpSpPr>
        <p:sp>
          <p:nvSpPr>
            <p:cNvPr id="250" name=""/>
            <p:cNvSpPr/>
            <p:nvPr/>
          </p:nvSpPr>
          <p:spPr>
            <a:xfrm>
              <a:off x="723888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3888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772400" y="2438280"/>
            <a:ext cx="533520" cy="1067040"/>
            <a:chOff x="7772400" y="2438280"/>
            <a:chExt cx="533520" cy="1067040"/>
          </a:xfrm>
        </p:grpSpPr>
        <p:sp>
          <p:nvSpPr>
            <p:cNvPr id="253" name=""/>
            <p:cNvSpPr/>
            <p:nvPr/>
          </p:nvSpPr>
          <p:spPr>
            <a:xfrm>
              <a:off x="77724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24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8305920" y="2438280"/>
            <a:ext cx="533160" cy="1067040"/>
            <a:chOff x="8305920" y="2438280"/>
            <a:chExt cx="533160" cy="1067040"/>
          </a:xfrm>
        </p:grpSpPr>
        <p:sp>
          <p:nvSpPr>
            <p:cNvPr id="256" name=""/>
            <p:cNvSpPr/>
            <p:nvPr/>
          </p:nvSpPr>
          <p:spPr>
            <a:xfrm>
              <a:off x="8305920" y="297180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5920" y="243828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7:10:56Z</dcterms:created>
  <dc:creator>tf</dc:creator>
  <dc:description/>
  <dc:language>en-US</dc:language>
  <cp:lastModifiedBy>array</cp:lastModifiedBy>
  <dcterms:modified xsi:type="dcterms:W3CDTF">2004-01-08T03:25:10Z</dcterms:modified>
  <cp:revision>11</cp:revision>
  <dc:subject/>
  <dc:title>PowerPoint 演示文稿</dc:title>
</cp:coreProperties>
</file>