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0D0-12DE-4483-A50C-5E678FF8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5C7-C492-40C1-95D5-98CA9AA3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691-AA1D-4296-95B0-4F9374B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D79-24E7-48CA-BAD5-08CD6DBD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816-5729-4404-80BE-3C30BA29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D586-711C-421D-8570-DEE1D34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7D18-3195-473B-B8CD-913BADEE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DDD6-C63C-4487-A8DC-F9EC3A8D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4EC8-F27A-4A5D-9588-98C2EBEC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516-9D4E-4808-95F4-F94F8DB7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20B6-27A3-4B89-9D38-DB536114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CCF-13DC-48EE-8A0E-D64BF3D7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825C-A824-4536-86B6-F6D981D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FAC3-FD91-4DF1-B88C-3FDC3AA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D06C-D68B-4740-98A3-5A4BFBF6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7BC-4D22-4BED-A0C3-CD85D5E0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CA0E-9CC4-47C8-936B-F43A035B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EF46-A4EB-482C-8B99-3BAD030C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F2CC-3FF9-49E7-803C-6F94DA3B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390D-6F93-4CA1-8955-FE6B720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3950-DFE1-4CEA-B416-B34868E3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7330-F38F-49DF-A112-36E666B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ADE-A61A-48ED-8DD8-634818A7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D192-D396-4219-85DB-C5B834E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71CF-E726-4882-8E71-143002B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8B44-6B25-4762-9AD1-E6AF023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8843-208E-41FF-9EEF-A1BDF39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1297-A97C-48B9-BD58-77190520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0E66-E829-48C1-9903-0C5A2589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33E5-607E-4865-B5BB-FB1B8F3C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36650-B67F-4D27-897B-31B109E8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E850F-8A6B-40D4-B543-0713823C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446C2-AFD4-41DB-A608-9861980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8CC-D96E-4CD9-BC1B-7CC56CC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C54C4-1E99-44FE-A9E8-769D34EF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46DEE-DFFD-47B2-A56B-5DCD936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AD344-AC68-4ED9-854A-999291C4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19062-E5BB-4032-B413-B69A333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C46B1-D012-41EC-B46E-E9843D4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43795-673B-4E4E-8E6B-A871913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8E59D-C917-4D94-94C4-80DC5A5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6BC2F-370A-4150-8766-F35CD2F1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412F6-FD9C-471D-90E7-16E925B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5BC-9956-48B5-9AD6-D77860BB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E5D-3A14-47E9-BBF1-D403548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E16-BE99-4948-BB5B-1934C33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890-5970-47DD-9FED-57D467CB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541-A00A-45E2-88B2-A8AE2A8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CA48-1A0C-4BCE-838B-E1B3ACE73C4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84B4-1B25-4547-9D6B-CD7188CE135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AB28-F60A-4244-9A90-2AF4568DAFA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E864-C40A-4EEE-96BA-F71CA364E78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79640" y="2060640"/>
            <a:ext cx="482436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探索规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45080" y="806400"/>
            <a:ext cx="2592360" cy="20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916360" y="157320"/>
          <a:ext cx="6048360" cy="3848040"/>
        </p:xfrm>
        <a:graphic>
          <a:graphicData uri="http://schemas.openxmlformats.org/drawingml/2006/table">
            <a:tbl>
              <a:tblPr/>
              <a:tblGrid>
                <a:gridCol w="847440"/>
                <a:gridCol w="866880"/>
                <a:gridCol w="866880"/>
                <a:gridCol w="866880"/>
                <a:gridCol w="866520"/>
                <a:gridCol w="866880"/>
                <a:gridCol w="866880"/>
              </a:tblGrid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09440" y="115920"/>
            <a:ext cx="280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日历图中的套色方框中９个数之和与该方框中间的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个关系对其他这样的方框成立吗？你能用代数式表示这个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8000" y="4653000"/>
            <a:ext cx="903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发现这样的方框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之间的其他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代数式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个关系对任何一个月的日历都成立吗？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3.33333E-006 L 0.18785 -0.00602 E">
                                      <p:cBhvr>
                                        <p:cTn id="1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0 0.09445 E">
                                      <p:cBhvr>
                                        <p:cTn id="22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-2.77778E-006 0.17246 E">
                                      <p:cBhvr>
                                        <p:cTn id="2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-0.09496 -3.33333E-006 C -0.13732 -3.33333E-006 -0.18906 0.04885 -0.18906 0.08889 L -0.18906 0.17848 E">
                                      <p:cBhvr>
                                        <p:cTn id="3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476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、四棱柱有几个面？几个顶点？几条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五棱柱有几个面？几个顶点？几条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棱柱有几个面？几个顶点？几条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1700280"/>
            <a:ext cx="9144000" cy="2016000"/>
            <a:chOff x="0" y="1700280"/>
            <a:chExt cx="9144000" cy="2016000"/>
          </a:xfrm>
        </p:grpSpPr>
        <p:sp>
          <p:nvSpPr>
            <p:cNvPr id="239" name=""/>
            <p:cNvSpPr/>
            <p:nvPr/>
          </p:nvSpPr>
          <p:spPr>
            <a:xfrm>
              <a:off x="0" y="2276640"/>
              <a:ext cx="9144000" cy="143964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72920" y="17002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Comic Sans MS"/>
                </a:rPr>
                <a:t>、用火柴棒按下图方式搭三角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045120" y="2462040"/>
              <a:ext cx="2952720" cy="1067040"/>
              <a:chOff x="6045120" y="2462040"/>
              <a:chExt cx="2952720" cy="106704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607392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4992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3920" y="3485880"/>
                <a:ext cx="115236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49920" y="2490840"/>
                <a:ext cx="1152720" cy="14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22592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226280" y="3485880"/>
                <a:ext cx="115272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78022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837900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02640" y="2490840"/>
                <a:ext cx="1152360" cy="14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148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4512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97840" y="345600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73840" y="246204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50200" y="345600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924760" y="246204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516480" y="2462040"/>
              <a:ext cx="2376360" cy="1067040"/>
              <a:chOff x="3516480" y="2462040"/>
              <a:chExt cx="2376360" cy="106704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354456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2128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44920" y="3485880"/>
                <a:ext cx="115236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21280" y="2490840"/>
                <a:ext cx="1152360" cy="14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69692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697280" y="3485880"/>
                <a:ext cx="115272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52732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92480" y="246204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16480" y="3456000"/>
                <a:ext cx="7272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68840" y="345600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520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1976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565280" y="2462040"/>
              <a:ext cx="1800360" cy="1067040"/>
              <a:chOff x="1565280" y="2462040"/>
              <a:chExt cx="1800360" cy="106704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159336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700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93720" y="3485880"/>
                <a:ext cx="1152720" cy="1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0080" y="2490840"/>
                <a:ext cx="1152720" cy="14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7460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4164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6528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17640" y="345600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92560" y="246204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90440" y="2462040"/>
              <a:ext cx="1224000" cy="1067040"/>
              <a:chOff x="190440" y="2462040"/>
              <a:chExt cx="1224000" cy="1067040"/>
            </a:xfrm>
          </p:grpSpPr>
          <p:sp>
            <p:nvSpPr>
              <p:cNvPr id="281" name=""/>
              <p:cNvSpPr/>
              <p:nvPr/>
            </p:nvSpPr>
            <p:spPr>
              <a:xfrm>
                <a:off x="219240" y="3485880"/>
                <a:ext cx="115236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1924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524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4136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4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680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1265760" y="378936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）、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971640" y="4317840"/>
          <a:ext cx="7103880" cy="1167120"/>
        </p:xfrm>
        <a:graphic>
          <a:graphicData uri="http://schemas.openxmlformats.org/drawingml/2006/table">
            <a:tbl>
              <a:tblPr/>
              <a:tblGrid>
                <a:gridCol w="2084400"/>
                <a:gridCol w="1003320"/>
                <a:gridCol w="1004760"/>
                <a:gridCol w="1003320"/>
                <a:gridCol w="1004760"/>
                <a:gridCol w="1003320"/>
              </a:tblGrid>
              <a:tr h="64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三角形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火柴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111480" y="4888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940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5880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0820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5724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57320" y="5018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000" y="5589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）、照这样的规律搭下去，搭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个这样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需要多少根火柴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36360" y="476280"/>
            <a:ext cx="89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（嘉兴）每一个多边形都可按图甲的方法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割成若干个三角形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请根据图甲的方法，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乙中的七边形分割成若干个三角形；按图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的方法，十二边形可以分割成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个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（只要求写出答案）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89800" y="342900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89800" y="4221000"/>
            <a:ext cx="1584360" cy="1152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89800" y="4221000"/>
            <a:ext cx="2232000" cy="432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89800" y="3860280"/>
            <a:ext cx="2087640" cy="360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60720" y="4576680"/>
            <a:ext cx="1179720" cy="8812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0720" y="4576680"/>
            <a:ext cx="1514520" cy="698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960720" y="3816360"/>
            <a:ext cx="1324080" cy="760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05160" y="4187880"/>
            <a:ext cx="974520" cy="917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05160" y="4152600"/>
            <a:ext cx="1222200" cy="349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6840" y="4029120"/>
            <a:ext cx="1469880" cy="706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3960360" y="4576320"/>
            <a:ext cx="320760" cy="73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281480" y="5316120"/>
            <a:ext cx="85896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140440" y="4646520"/>
            <a:ext cx="33480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84800" y="3816360"/>
            <a:ext cx="190440" cy="83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8920" y="3516480"/>
            <a:ext cx="785880" cy="29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960720" y="3516120"/>
            <a:ext cx="538200" cy="106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04800" y="4187520"/>
            <a:ext cx="261720" cy="9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666880" y="5105520"/>
            <a:ext cx="712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4800" y="6094440"/>
            <a:ext cx="252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ff3300"/>
                </a:solidFill>
                <a:latin typeface="宋体"/>
              </a:rPr>
              <a:t>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79680" y="4152960"/>
            <a:ext cx="247680" cy="9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1480" y="3498840"/>
            <a:ext cx="785880" cy="65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405160" y="3498840"/>
            <a:ext cx="436320" cy="6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66840" y="4735080"/>
            <a:ext cx="116496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531440" y="4029120"/>
            <a:ext cx="304920" cy="118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12920" y="3498840"/>
            <a:ext cx="523800" cy="53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6840" y="3498480"/>
            <a:ext cx="946080" cy="123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6568920" y="4196880"/>
            <a:ext cx="595440" cy="107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164360" y="5276520"/>
            <a:ext cx="102384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8200" y="609768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宋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188200" y="4618080"/>
            <a:ext cx="595440" cy="77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653320" y="3836880"/>
            <a:ext cx="130320" cy="78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96400" y="3432240"/>
            <a:ext cx="556920" cy="40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13600" y="3402000"/>
            <a:ext cx="982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568920" y="3401640"/>
            <a:ext cx="544680" cy="79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554920" y="4219920"/>
            <a:ext cx="360360" cy="338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3213000"/>
            <a:ext cx="5545080" cy="34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84720" y="3213000"/>
            <a:ext cx="2916360" cy="338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9280" y="476280"/>
            <a:ext cx="69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观察一列数：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…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依次规律，在数列中第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00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个数是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0360" y="1725480"/>
            <a:ext cx="537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Comic Sans MS"/>
              </a:rPr>
              <a:t>5</a:t>
            </a:r>
            <a:r>
              <a:rPr b="1" i="1" lang="zh-CN" sz="3200" spc="-1" strike="noStrike">
                <a:solidFill>
                  <a:srgbClr val="0000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下面一组按规律排列的数：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6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……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第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002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个数应是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276720" y="2101680"/>
            <a:ext cx="2592360" cy="20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523880" y="1397160"/>
          <a:ext cx="6096240" cy="404784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7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6095880"/>
            <a:ext cx="1390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0301 L 0.19236 -0.003 E">
                                      <p:cBhvr>
                                        <p:cTn id="11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601 L 0 0.10056 E">
                                      <p:cBhvr>
                                        <p:cTn id="121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51826E-006 L -0.09514 3.51826E-006 C -0.1375 3.51826E-006 -0.18906 0.05131 -0.18906 0.09385 L -0.18906 0.18862 E">
                                      <p:cBhvr>
                                        <p:cTn id="125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1:02:27Z</dcterms:created>
  <dc:creator>tf</dc:creator>
  <dc:description/>
  <dc:language>en-US</dc:language>
  <cp:lastModifiedBy>array</cp:lastModifiedBy>
  <dcterms:modified xsi:type="dcterms:W3CDTF">2004-01-15T08:23:23Z</dcterms:modified>
  <cp:revision>14</cp:revision>
  <dc:subject/>
  <dc:title>幻灯片 1</dc:title>
</cp:coreProperties>
</file>