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EB8-BAD9-4906-A945-48A2FAE9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FF4-CB1C-49B9-98A6-3A18ADA3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E2B-88B8-46CA-89AB-B9B49D8D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00C-E516-4F73-A0D1-1653BB27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FCF-A80D-42E5-8933-98AEF66A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C0A5-0FC2-4A48-8368-AE5739B9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CCC-AD55-40BA-B8FB-D61ABDB3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6E5-B603-496F-B6AD-E754EFEC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B29-25CE-41F3-921A-8F0792C4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C7E-B52D-4EA7-9A30-FAE0819D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B16-450B-48BB-9DA3-E92FE5E0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DE7-87C5-43EA-9FD9-C519342F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30C1-CE7A-498D-AD45-D631A1E17D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33760" y="1851120"/>
            <a:ext cx="399096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找规律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7640" y="1014480"/>
            <a:ext cx="8077320" cy="283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题目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平面上有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条直线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没有两条直线是分别平行的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也没有三条或三条以上的直线是相交于一点的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问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(1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这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条直线最多有多少个交点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这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条直线将平面最多分成多少部分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这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条直线最多共能分成多少条线段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含射线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2322360" y="2174400"/>
            <a:ext cx="6450120" cy="314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75200" y="3240000"/>
            <a:ext cx="4057560" cy="2152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6560" y="375768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71680" y="4494240"/>
            <a:ext cx="5997600" cy="45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33720" y="47671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62800" y="4498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6823080" y="2461680"/>
            <a:ext cx="1109520" cy="400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89680" y="2897280"/>
            <a:ext cx="785880" cy="2278080"/>
            <a:chOff x="6889680" y="2897280"/>
            <a:chExt cx="785880" cy="2278080"/>
          </a:xfrm>
        </p:grpSpPr>
        <p:sp>
          <p:nvSpPr>
            <p:cNvPr id="51" name=""/>
            <p:cNvSpPr/>
            <p:nvPr/>
          </p:nvSpPr>
          <p:spPr>
            <a:xfrm>
              <a:off x="6889680" y="2897280"/>
              <a:ext cx="228600" cy="2286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80280" y="4415040"/>
              <a:ext cx="228600" cy="2286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446960" y="4946760"/>
              <a:ext cx="228600" cy="2286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 flipV="1">
            <a:off x="7454880" y="1765440"/>
            <a:ext cx="1195560" cy="509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591320" y="2201760"/>
            <a:ext cx="1038240" cy="3679920"/>
            <a:chOff x="7591320" y="2201760"/>
            <a:chExt cx="1038240" cy="3679920"/>
          </a:xfrm>
        </p:grpSpPr>
        <p:sp>
          <p:nvSpPr>
            <p:cNvPr id="56" name=""/>
            <p:cNvSpPr/>
            <p:nvPr/>
          </p:nvSpPr>
          <p:spPr>
            <a:xfrm>
              <a:off x="7591320" y="565308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31000" y="510372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6240" y="4383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00960" y="220176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25440" y="349200"/>
            <a:ext cx="1282320" cy="2292120"/>
            <a:chOff x="325440" y="349200"/>
            <a:chExt cx="1282320" cy="2292120"/>
          </a:xfrm>
        </p:grpSpPr>
        <p:sp>
          <p:nvSpPr>
            <p:cNvPr id="61" name=""/>
            <p:cNvSpPr/>
            <p:nvPr/>
          </p:nvSpPr>
          <p:spPr>
            <a:xfrm>
              <a:off x="326160" y="349200"/>
              <a:ext cx="128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直线条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5440" y="1450080"/>
              <a:ext cx="128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Times New Roman"/>
                </a:rPr>
                <a:t>交点增加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052720" y="252360"/>
            <a:ext cx="688680" cy="2278800"/>
            <a:chOff x="2052720" y="252360"/>
            <a:chExt cx="688680" cy="2278800"/>
          </a:xfrm>
        </p:grpSpPr>
        <p:sp>
          <p:nvSpPr>
            <p:cNvPr id="64" name=""/>
            <p:cNvSpPr/>
            <p:nvPr/>
          </p:nvSpPr>
          <p:spPr>
            <a:xfrm>
              <a:off x="2052720" y="25236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2720" y="161424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849400" y="220680"/>
            <a:ext cx="689040" cy="2278800"/>
            <a:chOff x="2849400" y="220680"/>
            <a:chExt cx="689040" cy="2278800"/>
          </a:xfrm>
        </p:grpSpPr>
        <p:sp>
          <p:nvSpPr>
            <p:cNvPr id="67" name=""/>
            <p:cNvSpPr/>
            <p:nvPr/>
          </p:nvSpPr>
          <p:spPr>
            <a:xfrm>
              <a:off x="2849400" y="22068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49400" y="158256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70400" y="258840"/>
            <a:ext cx="998280" cy="2264400"/>
            <a:chOff x="3470400" y="258840"/>
            <a:chExt cx="998280" cy="2264400"/>
          </a:xfrm>
        </p:grpSpPr>
        <p:sp>
          <p:nvSpPr>
            <p:cNvPr id="70" name=""/>
            <p:cNvSpPr/>
            <p:nvPr/>
          </p:nvSpPr>
          <p:spPr>
            <a:xfrm>
              <a:off x="3693960" y="25884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1606320"/>
              <a:ext cx="99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94160" y="250920"/>
            <a:ext cx="984240" cy="2266200"/>
            <a:chOff x="4394160" y="250920"/>
            <a:chExt cx="984240" cy="2266200"/>
          </a:xfrm>
        </p:grpSpPr>
        <p:sp>
          <p:nvSpPr>
            <p:cNvPr id="73" name=""/>
            <p:cNvSpPr/>
            <p:nvPr/>
          </p:nvSpPr>
          <p:spPr>
            <a:xfrm>
              <a:off x="4576680" y="25092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94160" y="1600200"/>
              <a:ext cx="9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272200" y="255600"/>
            <a:ext cx="1224000" cy="2237760"/>
            <a:chOff x="5272200" y="255600"/>
            <a:chExt cx="1224000" cy="2237760"/>
          </a:xfrm>
        </p:grpSpPr>
        <p:sp>
          <p:nvSpPr>
            <p:cNvPr id="76" name=""/>
            <p:cNvSpPr/>
            <p:nvPr/>
          </p:nvSpPr>
          <p:spPr>
            <a:xfrm>
              <a:off x="5419800" y="25560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72200" y="1576440"/>
              <a:ext cx="122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286680" y="619200"/>
            <a:ext cx="685800" cy="1533600"/>
            <a:chOff x="6286680" y="619200"/>
            <a:chExt cx="685800" cy="1533600"/>
          </a:xfrm>
        </p:grpSpPr>
        <p:sp>
          <p:nvSpPr>
            <p:cNvPr id="79" name=""/>
            <p:cNvSpPr/>
            <p:nvPr/>
          </p:nvSpPr>
          <p:spPr>
            <a:xfrm>
              <a:off x="6286680" y="628560"/>
              <a:ext cx="17136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24640" y="63828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34160" y="61920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43720" y="197172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24480" y="1981080"/>
              <a:ext cx="17172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00760" y="1971720"/>
              <a:ext cx="17172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5857920"/>
            <a:ext cx="12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问题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840" y="5829480"/>
            <a:ext cx="63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你能否发现这其中的规律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1571760" y="877680"/>
            <a:ext cx="6288120" cy="2454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90840" y="1685880"/>
            <a:ext cx="4365720" cy="2308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58960" y="2288880"/>
            <a:ext cx="7497720" cy="987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919840" y="936720"/>
            <a:ext cx="1100160" cy="4556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745320" y="792000"/>
            <a:ext cx="934920" cy="438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9600" y="3635280"/>
            <a:ext cx="133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直线条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6360" y="4818240"/>
            <a:ext cx="133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区域增加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52760" y="3824280"/>
            <a:ext cx="688680" cy="2278800"/>
            <a:chOff x="1652760" y="3824280"/>
            <a:chExt cx="688680" cy="2278800"/>
          </a:xfrm>
        </p:grpSpPr>
        <p:sp>
          <p:nvSpPr>
            <p:cNvPr id="95" name=""/>
            <p:cNvSpPr/>
            <p:nvPr/>
          </p:nvSpPr>
          <p:spPr>
            <a:xfrm>
              <a:off x="1652760" y="382428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760" y="518616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449440" y="3792600"/>
            <a:ext cx="689040" cy="2278800"/>
            <a:chOff x="2449440" y="3792600"/>
            <a:chExt cx="689040" cy="2278800"/>
          </a:xfrm>
        </p:grpSpPr>
        <p:sp>
          <p:nvSpPr>
            <p:cNvPr id="98" name=""/>
            <p:cNvSpPr/>
            <p:nvPr/>
          </p:nvSpPr>
          <p:spPr>
            <a:xfrm>
              <a:off x="2449440" y="379260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49440" y="515448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070080" y="3830760"/>
            <a:ext cx="998640" cy="2264400"/>
            <a:chOff x="3070080" y="3830760"/>
            <a:chExt cx="998640" cy="2264400"/>
          </a:xfrm>
        </p:grpSpPr>
        <p:sp>
          <p:nvSpPr>
            <p:cNvPr id="101" name=""/>
            <p:cNvSpPr/>
            <p:nvPr/>
          </p:nvSpPr>
          <p:spPr>
            <a:xfrm>
              <a:off x="3294000" y="383076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70080" y="5178240"/>
              <a:ext cx="99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94200" y="3822840"/>
            <a:ext cx="984240" cy="2266200"/>
            <a:chOff x="3994200" y="3822840"/>
            <a:chExt cx="984240" cy="2266200"/>
          </a:xfrm>
        </p:grpSpPr>
        <p:sp>
          <p:nvSpPr>
            <p:cNvPr id="104" name=""/>
            <p:cNvSpPr/>
            <p:nvPr/>
          </p:nvSpPr>
          <p:spPr>
            <a:xfrm>
              <a:off x="4176720" y="382284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94200" y="5172120"/>
              <a:ext cx="9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15000" y="3827520"/>
            <a:ext cx="1224000" cy="2237760"/>
            <a:chOff x="4815000" y="3827520"/>
            <a:chExt cx="1224000" cy="2237760"/>
          </a:xfrm>
        </p:grpSpPr>
        <p:sp>
          <p:nvSpPr>
            <p:cNvPr id="107" name=""/>
            <p:cNvSpPr/>
            <p:nvPr/>
          </p:nvSpPr>
          <p:spPr>
            <a:xfrm>
              <a:off x="4962600" y="382752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15000" y="5148360"/>
              <a:ext cx="122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33800" y="2354400"/>
            <a:ext cx="349200" cy="392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18280" y="1938240"/>
            <a:ext cx="349200" cy="392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19840" y="2657520"/>
            <a:ext cx="349200" cy="392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4720" y="3621240"/>
            <a:ext cx="349200" cy="39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30840" y="1712880"/>
            <a:ext cx="349560" cy="39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40640" y="2706840"/>
            <a:ext cx="349200" cy="39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734080" y="4219560"/>
            <a:ext cx="685800" cy="1533600"/>
            <a:chOff x="5734080" y="4219560"/>
            <a:chExt cx="685800" cy="1533600"/>
          </a:xfrm>
        </p:grpSpPr>
        <p:sp>
          <p:nvSpPr>
            <p:cNvPr id="116" name=""/>
            <p:cNvSpPr/>
            <p:nvPr/>
          </p:nvSpPr>
          <p:spPr>
            <a:xfrm>
              <a:off x="5734080" y="4228920"/>
              <a:ext cx="17136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72040" y="423864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81560" y="421956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91120" y="557208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71880" y="5581440"/>
              <a:ext cx="17172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48160" y="5572080"/>
              <a:ext cx="17172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57040" y="276120"/>
            <a:ext cx="12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问题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8840" y="247680"/>
            <a:ext cx="63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你能否发现直线条线与区域增加数之间的关系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5334120"/>
            <a:ext cx="1809720" cy="1523880"/>
          </a:xfrm>
          <a:prstGeom prst="cloudCallout">
            <a:avLst>
              <a:gd name="adj1" fmla="val -75875"/>
              <a:gd name="adj2" fmla="val -435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平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2085840" y="1010880"/>
            <a:ext cx="6459840" cy="2606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90840" y="1685880"/>
            <a:ext cx="4365720" cy="2308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163520" y="2727000"/>
            <a:ext cx="7535880" cy="49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919840" y="936360"/>
            <a:ext cx="1347840" cy="4289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732720" y="887040"/>
            <a:ext cx="877680" cy="4421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9600" y="3635280"/>
            <a:ext cx="133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直线条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240" y="51656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线段数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射线数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85960" y="3824280"/>
            <a:ext cx="688680" cy="2278800"/>
            <a:chOff x="1785960" y="3824280"/>
            <a:chExt cx="688680" cy="2278800"/>
          </a:xfrm>
        </p:grpSpPr>
        <p:sp>
          <p:nvSpPr>
            <p:cNvPr id="133" name=""/>
            <p:cNvSpPr/>
            <p:nvPr/>
          </p:nvSpPr>
          <p:spPr>
            <a:xfrm>
              <a:off x="1785960" y="382428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85960" y="518616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583000" y="3792600"/>
            <a:ext cx="688680" cy="2278800"/>
            <a:chOff x="2583000" y="3792600"/>
            <a:chExt cx="688680" cy="2278800"/>
          </a:xfrm>
        </p:grpSpPr>
        <p:sp>
          <p:nvSpPr>
            <p:cNvPr id="136" name=""/>
            <p:cNvSpPr/>
            <p:nvPr/>
          </p:nvSpPr>
          <p:spPr>
            <a:xfrm>
              <a:off x="2583000" y="379260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83000" y="515448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203640" y="3830760"/>
            <a:ext cx="998640" cy="2264400"/>
            <a:chOff x="3203640" y="3830760"/>
            <a:chExt cx="998640" cy="2264400"/>
          </a:xfrm>
        </p:grpSpPr>
        <p:sp>
          <p:nvSpPr>
            <p:cNvPr id="139" name=""/>
            <p:cNvSpPr/>
            <p:nvPr/>
          </p:nvSpPr>
          <p:spPr>
            <a:xfrm>
              <a:off x="3427560" y="383076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3640" y="5178240"/>
              <a:ext cx="99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127400" y="3822840"/>
            <a:ext cx="984240" cy="2266200"/>
            <a:chOff x="4127400" y="3822840"/>
            <a:chExt cx="984240" cy="2266200"/>
          </a:xfrm>
        </p:grpSpPr>
        <p:sp>
          <p:nvSpPr>
            <p:cNvPr id="142" name=""/>
            <p:cNvSpPr/>
            <p:nvPr/>
          </p:nvSpPr>
          <p:spPr>
            <a:xfrm>
              <a:off x="4309920" y="382284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27400" y="5172120"/>
              <a:ext cx="9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948200" y="3827520"/>
            <a:ext cx="1224000" cy="2237760"/>
            <a:chOff x="4948200" y="3827520"/>
            <a:chExt cx="1224000" cy="2237760"/>
          </a:xfrm>
        </p:grpSpPr>
        <p:sp>
          <p:nvSpPr>
            <p:cNvPr id="145" name=""/>
            <p:cNvSpPr/>
            <p:nvPr/>
          </p:nvSpPr>
          <p:spPr>
            <a:xfrm>
              <a:off x="5095800" y="382752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8200" y="5148360"/>
              <a:ext cx="122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9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889600" y="1157400"/>
            <a:ext cx="254160" cy="258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05680" y="2200320"/>
            <a:ext cx="311040" cy="239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867280" y="4219560"/>
            <a:ext cx="685800" cy="1533600"/>
            <a:chOff x="5867280" y="4219560"/>
            <a:chExt cx="685800" cy="1533600"/>
          </a:xfrm>
        </p:grpSpPr>
        <p:sp>
          <p:nvSpPr>
            <p:cNvPr id="150" name=""/>
            <p:cNvSpPr/>
            <p:nvPr/>
          </p:nvSpPr>
          <p:spPr>
            <a:xfrm>
              <a:off x="5867280" y="4228920"/>
              <a:ext cx="17136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5240" y="423864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14760" y="421956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24320" y="557208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05080" y="5581440"/>
              <a:ext cx="17172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81360" y="5572080"/>
              <a:ext cx="17172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276120"/>
            <a:ext cx="12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问题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5334120"/>
            <a:ext cx="1809720" cy="1523880"/>
          </a:xfrm>
          <a:prstGeom prst="cloudCallout">
            <a:avLst>
              <a:gd name="adj1" fmla="val -75875"/>
              <a:gd name="adj2" fmla="val -435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平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3600" y="1135080"/>
            <a:ext cx="5645160" cy="2754360"/>
            <a:chOff x="2433600" y="1135080"/>
            <a:chExt cx="5645160" cy="2754360"/>
          </a:xfrm>
        </p:grpSpPr>
        <p:sp>
          <p:nvSpPr>
            <p:cNvPr id="159" name=""/>
            <p:cNvSpPr/>
            <p:nvPr/>
          </p:nvSpPr>
          <p:spPr>
            <a:xfrm>
              <a:off x="2433600" y="3306600"/>
              <a:ext cx="235080" cy="182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6600" y="1744560"/>
              <a:ext cx="235080" cy="182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4200" y="3706920"/>
              <a:ext cx="235080" cy="182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43680" y="1135080"/>
              <a:ext cx="235080" cy="182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689120" y="2550960"/>
            <a:ext cx="6445080" cy="795600"/>
            <a:chOff x="1689120" y="2550960"/>
            <a:chExt cx="6445080" cy="795600"/>
          </a:xfrm>
        </p:grpSpPr>
        <p:sp>
          <p:nvSpPr>
            <p:cNvPr id="164" name=""/>
            <p:cNvSpPr/>
            <p:nvPr/>
          </p:nvSpPr>
          <p:spPr>
            <a:xfrm>
              <a:off x="1689120" y="3030480"/>
              <a:ext cx="272880" cy="316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92520" y="2874960"/>
              <a:ext cx="273240" cy="258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61320" y="2611440"/>
              <a:ext cx="272880" cy="297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6040" y="2668680"/>
              <a:ext cx="291960" cy="2397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45120" y="2550960"/>
              <a:ext cx="272880" cy="258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977080" y="2790720"/>
            <a:ext cx="253800" cy="220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24480" y="2104920"/>
            <a:ext cx="311040" cy="239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05600" y="4695840"/>
            <a:ext cx="311040" cy="239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91160" y="3019320"/>
            <a:ext cx="235080" cy="182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48440" y="3114720"/>
            <a:ext cx="216000" cy="20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643800" y="868320"/>
            <a:ext cx="1054080" cy="4221360"/>
            <a:chOff x="6643800" y="868320"/>
            <a:chExt cx="1054080" cy="4221360"/>
          </a:xfrm>
        </p:grpSpPr>
        <p:sp>
          <p:nvSpPr>
            <p:cNvPr id="175" name=""/>
            <p:cNvSpPr/>
            <p:nvPr/>
          </p:nvSpPr>
          <p:spPr>
            <a:xfrm>
              <a:off x="7443720" y="868320"/>
              <a:ext cx="25416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15120" y="1878120"/>
              <a:ext cx="25416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24680" y="3040200"/>
              <a:ext cx="25416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10560" y="3782880"/>
              <a:ext cx="25380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62880" y="4869000"/>
              <a:ext cx="25380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43800" y="3630600"/>
              <a:ext cx="25380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77000" y="3402000"/>
              <a:ext cx="196920" cy="201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9760" y="2754360"/>
              <a:ext cx="25416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8840" y="1573200"/>
              <a:ext cx="254160" cy="22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371600" y="2095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你能否发现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直线条线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与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线段或射线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增加数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之间的关系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4360" y="1352520"/>
            <a:ext cx="600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题目：用十条线段最多可以把一个长方形分成几个部分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指长方形的内部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)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23920" y="22669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题目：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个圆最多将一个平面分成多少个部分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08000" y="3592440"/>
            <a:ext cx="1374840" cy="2401920"/>
            <a:chOff x="108000" y="3592440"/>
            <a:chExt cx="1374840" cy="2401920"/>
          </a:xfrm>
        </p:grpSpPr>
        <p:sp>
          <p:nvSpPr>
            <p:cNvPr id="189" name=""/>
            <p:cNvSpPr/>
            <p:nvPr/>
          </p:nvSpPr>
          <p:spPr>
            <a:xfrm>
              <a:off x="111600" y="3592440"/>
              <a:ext cx="1371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</a:rPr>
                <a:t>圆的个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8000" y="4681440"/>
              <a:ext cx="1370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区域增加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376280" y="3809880"/>
            <a:ext cx="688680" cy="2278800"/>
            <a:chOff x="1376280" y="3809880"/>
            <a:chExt cx="688680" cy="2278800"/>
          </a:xfrm>
        </p:grpSpPr>
        <p:sp>
          <p:nvSpPr>
            <p:cNvPr id="192" name=""/>
            <p:cNvSpPr/>
            <p:nvPr/>
          </p:nvSpPr>
          <p:spPr>
            <a:xfrm>
              <a:off x="1376280" y="380988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76280" y="517176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898640" y="3821040"/>
            <a:ext cx="1123560" cy="2278800"/>
            <a:chOff x="1898640" y="3821040"/>
            <a:chExt cx="1123560" cy="2278800"/>
          </a:xfrm>
        </p:grpSpPr>
        <p:sp>
          <p:nvSpPr>
            <p:cNvPr id="195" name=""/>
            <p:cNvSpPr/>
            <p:nvPr/>
          </p:nvSpPr>
          <p:spPr>
            <a:xfrm>
              <a:off x="1898640" y="3821040"/>
              <a:ext cx="112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8640" y="5182920"/>
              <a:ext cx="112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93960" y="3816360"/>
            <a:ext cx="998640" cy="2264400"/>
            <a:chOff x="2793960" y="3816360"/>
            <a:chExt cx="998640" cy="2264400"/>
          </a:xfrm>
        </p:grpSpPr>
        <p:sp>
          <p:nvSpPr>
            <p:cNvPr id="198" name=""/>
            <p:cNvSpPr/>
            <p:nvPr/>
          </p:nvSpPr>
          <p:spPr>
            <a:xfrm>
              <a:off x="3017880" y="381636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93960" y="5163840"/>
              <a:ext cx="99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718080" y="3808440"/>
            <a:ext cx="984240" cy="2266200"/>
            <a:chOff x="3718080" y="3808440"/>
            <a:chExt cx="984240" cy="2266200"/>
          </a:xfrm>
        </p:grpSpPr>
        <p:sp>
          <p:nvSpPr>
            <p:cNvPr id="201" name=""/>
            <p:cNvSpPr/>
            <p:nvPr/>
          </p:nvSpPr>
          <p:spPr>
            <a:xfrm>
              <a:off x="3900600" y="380844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18080" y="5157720"/>
              <a:ext cx="9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24480" y="3841920"/>
            <a:ext cx="1224000" cy="2237400"/>
            <a:chOff x="4524480" y="3841920"/>
            <a:chExt cx="1224000" cy="2237400"/>
          </a:xfrm>
        </p:grpSpPr>
        <p:sp>
          <p:nvSpPr>
            <p:cNvPr id="204" name=""/>
            <p:cNvSpPr/>
            <p:nvPr/>
          </p:nvSpPr>
          <p:spPr>
            <a:xfrm>
              <a:off x="4672080" y="384192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24480" y="5162400"/>
              <a:ext cx="122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1" lang="zh-CN" sz="5400" spc="-1" strike="noStrike">
                  <a:solidFill>
                    <a:srgbClr val="ffff00"/>
                  </a:solidFill>
                  <a:latin typeface="Times New Roman"/>
                </a:rPr>
                <a:t>？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454640" y="784080"/>
            <a:ext cx="1960560" cy="1960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33840" y="444600"/>
            <a:ext cx="1960560" cy="19605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22840" y="981000"/>
            <a:ext cx="2976480" cy="2976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2200" y="1198440"/>
            <a:ext cx="4311720" cy="4311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10360" y="654120"/>
            <a:ext cx="3179520" cy="1949400"/>
            <a:chOff x="5310360" y="654120"/>
            <a:chExt cx="3179520" cy="1949400"/>
          </a:xfrm>
        </p:grpSpPr>
        <p:sp>
          <p:nvSpPr>
            <p:cNvPr id="211" name=""/>
            <p:cNvSpPr/>
            <p:nvPr/>
          </p:nvSpPr>
          <p:spPr>
            <a:xfrm>
              <a:off x="5310360" y="2400480"/>
              <a:ext cx="203040" cy="20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86840" y="654120"/>
              <a:ext cx="203040" cy="20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805360" y="762120"/>
            <a:ext cx="804960" cy="573120"/>
            <a:chOff x="5805360" y="762120"/>
            <a:chExt cx="804960" cy="573120"/>
          </a:xfrm>
        </p:grpSpPr>
        <p:sp>
          <p:nvSpPr>
            <p:cNvPr id="214" name=""/>
            <p:cNvSpPr/>
            <p:nvPr/>
          </p:nvSpPr>
          <p:spPr>
            <a:xfrm>
              <a:off x="6407280" y="762120"/>
              <a:ext cx="203040" cy="203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05360" y="1131840"/>
              <a:ext cx="20340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710320" y="1501920"/>
            <a:ext cx="2395440" cy="1509480"/>
            <a:chOff x="5710320" y="1501920"/>
            <a:chExt cx="2395440" cy="1509480"/>
          </a:xfrm>
        </p:grpSpPr>
        <p:sp>
          <p:nvSpPr>
            <p:cNvPr id="217" name=""/>
            <p:cNvSpPr/>
            <p:nvPr/>
          </p:nvSpPr>
          <p:spPr>
            <a:xfrm>
              <a:off x="5710320" y="2330280"/>
              <a:ext cx="203040" cy="2034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86440" y="1808280"/>
              <a:ext cx="203400" cy="203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29280" y="1501920"/>
              <a:ext cx="203400" cy="203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02720" y="2808360"/>
              <a:ext cx="203040" cy="203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94400" y="965160"/>
            <a:ext cx="1990440" cy="2568600"/>
            <a:chOff x="4694400" y="965160"/>
            <a:chExt cx="1990440" cy="2568600"/>
          </a:xfrm>
        </p:grpSpPr>
        <p:sp>
          <p:nvSpPr>
            <p:cNvPr id="222" name=""/>
            <p:cNvSpPr/>
            <p:nvPr/>
          </p:nvSpPr>
          <p:spPr>
            <a:xfrm>
              <a:off x="6364440" y="2111400"/>
              <a:ext cx="203040" cy="203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29240" y="1552680"/>
              <a:ext cx="203400" cy="203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0720" y="965160"/>
              <a:ext cx="203400" cy="203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94400" y="3330720"/>
              <a:ext cx="203040" cy="203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81800" y="3084480"/>
              <a:ext cx="203040" cy="203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02360" y="1400040"/>
              <a:ext cx="203040" cy="203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232000" y="1739880"/>
            <a:ext cx="5079960" cy="5084640"/>
          </a:xfrm>
          <a:prstGeom prst="ellipse">
            <a:avLst/>
          </a:prstGeom>
          <a:noFill/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5334120"/>
            <a:ext cx="1809720" cy="1523880"/>
          </a:xfrm>
          <a:prstGeom prst="cloudCallout">
            <a:avLst>
              <a:gd name="adj1" fmla="val -27458"/>
              <a:gd name="adj2" fmla="val -660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平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85840"/>
            <a:ext cx="32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你能否发现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圆的个数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与区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增加数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之间的关系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90520" y="276120"/>
            <a:ext cx="8607240" cy="63118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91960" y="288720"/>
            <a:ext cx="7901280" cy="382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9800" y="291960"/>
            <a:ext cx="8093160" cy="4275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91960" y="2230200"/>
            <a:ext cx="8572680" cy="1090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214960" y="282240"/>
            <a:ext cx="2835360" cy="6313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954480" y="316080"/>
            <a:ext cx="531720" cy="6238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98320" y="3611520"/>
            <a:ext cx="1584360" cy="2391480"/>
            <a:chOff x="598320" y="3611520"/>
            <a:chExt cx="1584360" cy="2391480"/>
          </a:xfrm>
        </p:grpSpPr>
        <p:sp>
          <p:nvSpPr>
            <p:cNvPr id="238" name=""/>
            <p:cNvSpPr/>
            <p:nvPr/>
          </p:nvSpPr>
          <p:spPr>
            <a:xfrm>
              <a:off x="601200" y="3611520"/>
              <a:ext cx="158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</a:rPr>
                <a:t>直线条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8320" y="4690080"/>
              <a:ext cx="1581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Times New Roman"/>
                </a:rPr>
                <a:t>区域增加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757520" y="3809880"/>
            <a:ext cx="688680" cy="2278800"/>
            <a:chOff x="1757520" y="3809880"/>
            <a:chExt cx="688680" cy="2278800"/>
          </a:xfrm>
        </p:grpSpPr>
        <p:sp>
          <p:nvSpPr>
            <p:cNvPr id="241" name=""/>
            <p:cNvSpPr/>
            <p:nvPr/>
          </p:nvSpPr>
          <p:spPr>
            <a:xfrm>
              <a:off x="1757520" y="380988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57520" y="5171760"/>
              <a:ext cx="68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279520" y="3821040"/>
            <a:ext cx="1123560" cy="2278800"/>
            <a:chOff x="2279520" y="3821040"/>
            <a:chExt cx="1123560" cy="2278800"/>
          </a:xfrm>
        </p:grpSpPr>
        <p:sp>
          <p:nvSpPr>
            <p:cNvPr id="244" name=""/>
            <p:cNvSpPr/>
            <p:nvPr/>
          </p:nvSpPr>
          <p:spPr>
            <a:xfrm>
              <a:off x="2279520" y="3821040"/>
              <a:ext cx="112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79520" y="5182920"/>
              <a:ext cx="112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74840" y="3816360"/>
            <a:ext cx="998640" cy="2264400"/>
            <a:chOff x="3174840" y="3816360"/>
            <a:chExt cx="998640" cy="2264400"/>
          </a:xfrm>
        </p:grpSpPr>
        <p:sp>
          <p:nvSpPr>
            <p:cNvPr id="247" name=""/>
            <p:cNvSpPr/>
            <p:nvPr/>
          </p:nvSpPr>
          <p:spPr>
            <a:xfrm>
              <a:off x="3398760" y="381636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74840" y="5163840"/>
              <a:ext cx="99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098960" y="3808440"/>
            <a:ext cx="984240" cy="2266200"/>
            <a:chOff x="4098960" y="3808440"/>
            <a:chExt cx="984240" cy="2266200"/>
          </a:xfrm>
        </p:grpSpPr>
        <p:sp>
          <p:nvSpPr>
            <p:cNvPr id="250" name=""/>
            <p:cNvSpPr/>
            <p:nvPr/>
          </p:nvSpPr>
          <p:spPr>
            <a:xfrm>
              <a:off x="4281480" y="380844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98960" y="5157720"/>
              <a:ext cx="9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905360" y="3841920"/>
            <a:ext cx="1224000" cy="2237400"/>
            <a:chOff x="4905360" y="3841920"/>
            <a:chExt cx="1224000" cy="2237400"/>
          </a:xfrm>
        </p:grpSpPr>
        <p:sp>
          <p:nvSpPr>
            <p:cNvPr id="253" name=""/>
            <p:cNvSpPr/>
            <p:nvPr/>
          </p:nvSpPr>
          <p:spPr>
            <a:xfrm>
              <a:off x="5052960" y="3841920"/>
              <a:ext cx="6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5360" y="5162400"/>
              <a:ext cx="122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+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409840" y="2044800"/>
            <a:ext cx="2547720" cy="1399680"/>
            <a:chOff x="2409840" y="2044800"/>
            <a:chExt cx="2547720" cy="1399680"/>
          </a:xfrm>
        </p:grpSpPr>
        <p:sp>
          <p:nvSpPr>
            <p:cNvPr id="256" name=""/>
            <p:cNvSpPr/>
            <p:nvPr/>
          </p:nvSpPr>
          <p:spPr>
            <a:xfrm>
              <a:off x="2409840" y="2044800"/>
              <a:ext cx="479880" cy="40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78040" y="3034800"/>
              <a:ext cx="479520" cy="40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202280" y="938160"/>
            <a:ext cx="1551960" cy="1288800"/>
            <a:chOff x="4202280" y="938160"/>
            <a:chExt cx="1551960" cy="1288800"/>
          </a:xfrm>
        </p:grpSpPr>
        <p:sp>
          <p:nvSpPr>
            <p:cNvPr id="259" name=""/>
            <p:cNvSpPr/>
            <p:nvPr/>
          </p:nvSpPr>
          <p:spPr>
            <a:xfrm>
              <a:off x="4202280" y="938160"/>
              <a:ext cx="503280" cy="455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50960" y="1771200"/>
              <a:ext cx="503280" cy="455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27200" y="2336760"/>
            <a:ext cx="7191360" cy="1363680"/>
            <a:chOff x="727200" y="2336760"/>
            <a:chExt cx="7191360" cy="1363680"/>
          </a:xfrm>
        </p:grpSpPr>
        <p:sp>
          <p:nvSpPr>
            <p:cNvPr id="262" name=""/>
            <p:cNvSpPr/>
            <p:nvPr/>
          </p:nvSpPr>
          <p:spPr>
            <a:xfrm>
              <a:off x="727200" y="3309840"/>
              <a:ext cx="377640" cy="390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40560" y="2881440"/>
              <a:ext cx="378000" cy="390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2640" y="2336760"/>
              <a:ext cx="378000" cy="390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821200" y="523800"/>
            <a:ext cx="2360520" cy="4736880"/>
            <a:chOff x="5821200" y="523800"/>
            <a:chExt cx="2360520" cy="4736880"/>
          </a:xfrm>
        </p:grpSpPr>
        <p:sp>
          <p:nvSpPr>
            <p:cNvPr id="266" name=""/>
            <p:cNvSpPr/>
            <p:nvPr/>
          </p:nvSpPr>
          <p:spPr>
            <a:xfrm>
              <a:off x="5821200" y="523800"/>
              <a:ext cx="378000" cy="390240"/>
            </a:xfrm>
            <a:prstGeom prst="ellipse">
              <a:avLst/>
            </a:prstGeom>
            <a:solidFill>
              <a:srgbClr val="0000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23040" y="1545840"/>
              <a:ext cx="377640" cy="390600"/>
            </a:xfrm>
            <a:prstGeom prst="ellipse">
              <a:avLst/>
            </a:prstGeom>
            <a:solidFill>
              <a:srgbClr val="0000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38920" y="2641320"/>
              <a:ext cx="377640" cy="390600"/>
            </a:xfrm>
            <a:prstGeom prst="ellipse">
              <a:avLst/>
            </a:prstGeom>
            <a:solidFill>
              <a:srgbClr val="0000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04080" y="4870080"/>
              <a:ext cx="377640" cy="390600"/>
            </a:xfrm>
            <a:prstGeom prst="ellipse">
              <a:avLst/>
            </a:prstGeom>
            <a:solidFill>
              <a:srgbClr val="0000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692760" y="334800"/>
            <a:ext cx="1284480" cy="6194520"/>
            <a:chOff x="6692760" y="334800"/>
            <a:chExt cx="1284480" cy="6194520"/>
          </a:xfrm>
        </p:grpSpPr>
        <p:sp>
          <p:nvSpPr>
            <p:cNvPr id="271" name=""/>
            <p:cNvSpPr/>
            <p:nvPr/>
          </p:nvSpPr>
          <p:spPr>
            <a:xfrm>
              <a:off x="7011720" y="334800"/>
              <a:ext cx="378000" cy="390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99240" y="1589040"/>
              <a:ext cx="378000" cy="390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92760" y="2801880"/>
              <a:ext cx="378000" cy="390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18120" y="3854160"/>
              <a:ext cx="378000" cy="390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05640" y="6138720"/>
              <a:ext cx="377640" cy="390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315200" y="5086440"/>
            <a:ext cx="1809720" cy="1523880"/>
          </a:xfrm>
          <a:prstGeom prst="cloudCallout">
            <a:avLst>
              <a:gd name="adj1" fmla="val -75875"/>
              <a:gd name="adj2" fmla="val -435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长方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285840"/>
            <a:ext cx="32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你能否发现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直线条线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与区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增加数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之间的关系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867280" y="4219560"/>
            <a:ext cx="685800" cy="1533600"/>
            <a:chOff x="5867280" y="4219560"/>
            <a:chExt cx="685800" cy="1533600"/>
          </a:xfrm>
        </p:grpSpPr>
        <p:sp>
          <p:nvSpPr>
            <p:cNvPr id="279" name=""/>
            <p:cNvSpPr/>
            <p:nvPr/>
          </p:nvSpPr>
          <p:spPr>
            <a:xfrm>
              <a:off x="5867280" y="4228920"/>
              <a:ext cx="17136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05240" y="423864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14760" y="421956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24320" y="5572080"/>
              <a:ext cx="17136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05080" y="5581440"/>
              <a:ext cx="17172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81360" y="5572080"/>
              <a:ext cx="171720" cy="171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03:10:00Z</dcterms:created>
  <dc:creator>tf</dc:creator>
  <dc:description/>
  <dc:language>en-US</dc:language>
  <cp:lastModifiedBy>wang</cp:lastModifiedBy>
  <dcterms:modified xsi:type="dcterms:W3CDTF">2004-03-19T02:28:51Z</dcterms:modified>
  <cp:revision>54</cp:revision>
  <dc:subject/>
  <dc:title>PowerPoint 演示文稿</dc:title>
</cp:coreProperties>
</file>