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087-500E-4412-A9C3-DDF0E2F6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837-9287-4D12-9067-FE74D39C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67F-250F-482E-B826-9B90C7D4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792-3361-4567-A2C0-4849B001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AFF-CAB0-4C3A-AB17-6A71C80A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BDB-A591-477C-BFB0-856B079E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DCB-A52D-4F6E-90FB-B6A867BD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1C8-617F-4E57-AE64-3CBE0CF2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B11-F68C-445A-AC94-2A160950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DEA-D154-4557-A03E-9FA57549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A2E-563E-4282-BCE6-E1480A03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4B8-CAE0-4A08-AAD9-4CB29EC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9095-0DBD-4633-813D-D2916914BA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1143000"/>
            <a:ext cx="51055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找规律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2" name="gif028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41148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1079640"/>
            <a:ext cx="8534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3) 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8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  )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规律是：前项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×3=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后项。所以应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6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1003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4320" y="10177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6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1003320"/>
            <a:ext cx="8534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4)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35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3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25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  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  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规律是：前项 –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 =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后项。所以应填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100476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100476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914400"/>
            <a:ext cx="8305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5) 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9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   )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5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规律是：数列各项依次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=1×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=2×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9=3×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6=4×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所以应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×5=2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852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53352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6) 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2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   )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6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规律是：数列各项依次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=1×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=2×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=3×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0=4×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所以，应填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×6=3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×7=4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5335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219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65232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按其规律在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内填上合适的数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1)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2)(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3) 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4) 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66816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1)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把数列每两项分为一组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3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不难发现其规律是：前一组每个数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得到后一组数，所以应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6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86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8088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2)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把后面已知的六个数分成三组：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10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12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14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每组中两数的商都是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且由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的次序知，应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380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80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852480"/>
            <a:ext cx="8458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3) 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这个数列的规律是：前面两项的和等于后面一项，故应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17+27=)4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8880" y="852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4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85248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4) 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这个数列的规律是：前面两项的乘积等于后面一项，故应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 × 32 = 25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146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2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92700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按其规律在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内填上合适的数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1)1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2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3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2)1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1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2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3)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1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4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533520"/>
            <a:ext cx="85341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按一定次序排列的一列数就叫数列。例如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1) 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2) 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3) 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4) 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838080"/>
            <a:ext cx="8305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黑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其规律是“依次多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”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因为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8+2=2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0+4=2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4+6=3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后面是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所以，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0 + 8 = 3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85248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380880"/>
            <a:ext cx="83059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2)1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-11=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4-12=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8-14=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6-18=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组成一新数列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…按此规律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后面为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因此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6 + 16 = 4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106668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830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3)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1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4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观察数列前、后项的关系，后项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=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前项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×2+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所以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47×2+1=9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95×2+1=19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38088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0666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9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533520"/>
            <a:ext cx="70106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04920"/>
            <a:ext cx="86868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黑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黑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数列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(1)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是按照自然数从小到大的次序排列的，也叫做自然数数列，其规律是：后项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=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前项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+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2) 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3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数列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2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的规律是：后项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=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前项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×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9144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3) 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…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数列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3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的规律是：“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0”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周而复始地出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4) 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3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数列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(4)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的规律是：从第三项起，每项等于它前面两项的和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　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762120"/>
            <a:ext cx="86108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按其规律在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内填上合适的数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1)4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7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3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)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2)84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7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6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3)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8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)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4)35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3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25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5)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4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9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1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 )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6)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1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2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 )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60948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1)4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7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3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   )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通过对已知的几个数的前后两项的观察、分析，可发现（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规律是：前项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+3=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后项。所以应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5335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609480"/>
            <a:ext cx="8534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2) 84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7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6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规律是：前项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-12=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后项。所以应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609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609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13:21:56Z</dcterms:created>
  <dc:creator>tf</dc:creator>
  <dc:description/>
  <dc:language>en-US</dc:language>
  <cp:lastModifiedBy>array</cp:lastModifiedBy>
  <dcterms:modified xsi:type="dcterms:W3CDTF">2004-01-08T01:59:49Z</dcterms:modified>
  <cp:revision>8</cp:revision>
  <dc:subject/>
  <dc:title>PowerPoint 演示文稿</dc:title>
</cp:coreProperties>
</file>