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BF77-E94F-4F90-A19E-A7AC27F7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6D40-015F-4803-A837-BF83A95D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08E1-074C-4050-95CE-C1DA18AF1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8664-73FD-499C-880B-F33CBAC7F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DA25-7636-4CF3-BEF2-743D9C1F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F971-F762-4E89-933D-1C040B8C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099C-BFCF-4FA6-B2C7-D8864709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D803-867F-4E49-B3C9-A01060F1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D3CC-CAA2-4937-B6B8-E508770B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442D-A897-429D-A1C1-0B8D95F6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71DA-B9BB-41D9-8A1C-3A01C4BC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62A1-ECC2-44F1-83BB-BF8E6225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041C-5639-4606-AE51-9A0121D021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0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0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2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2.png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1.png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9.png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8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9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0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1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4.png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4.png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4.png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4.png"/><Relationship Id="rId2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76520" y="1676520"/>
          <a:ext cx="5410080" cy="232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676520"/>
                    <a:ext cx="5410080" cy="23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rot="10800000">
            <a:off x="304560" y="380520"/>
            <a:ext cx="8458200" cy="61722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dog" descr=""/>
          <p:cNvPicPr/>
          <p:nvPr/>
        </p:nvPicPr>
        <p:blipFill>
          <a:blip r:embed="rId2"/>
          <a:srcRect l="31290" t="17594" r="36259" b="34567"/>
          <a:stretch/>
        </p:blipFill>
        <p:spPr>
          <a:xfrm>
            <a:off x="0" y="0"/>
            <a:ext cx="1596960" cy="1905120"/>
          </a:xfrm>
          <a:prstGeom prst="rect">
            <a:avLst/>
          </a:prstGeom>
          <a:ln w="0">
            <a:noFill/>
          </a:ln>
        </p:spPr>
      </p:pic>
      <p:grpSp>
        <p:nvGrpSpPr>
          <p:cNvPr id="175" name=""/>
          <p:cNvGrpSpPr/>
          <p:nvPr/>
        </p:nvGrpSpPr>
        <p:grpSpPr>
          <a:xfrm>
            <a:off x="1371600" y="3048120"/>
            <a:ext cx="6477120" cy="1084320"/>
            <a:chOff x="1371600" y="3048120"/>
            <a:chExt cx="6477120" cy="1084320"/>
          </a:xfrm>
        </p:grpSpPr>
        <p:grpSp>
          <p:nvGrpSpPr>
            <p:cNvPr id="176" name=""/>
            <p:cNvGrpSpPr/>
            <p:nvPr/>
          </p:nvGrpSpPr>
          <p:grpSpPr>
            <a:xfrm>
              <a:off x="1371600" y="3065760"/>
              <a:ext cx="1066680" cy="922320"/>
              <a:chOff x="1371600" y="3065760"/>
              <a:chExt cx="1066680" cy="922320"/>
            </a:xfrm>
          </p:grpSpPr>
          <p:sp>
            <p:nvSpPr>
              <p:cNvPr id="177" name=""/>
              <p:cNvSpPr/>
              <p:nvPr/>
            </p:nvSpPr>
            <p:spPr>
              <a:xfrm>
                <a:off x="1371600" y="3065760"/>
                <a:ext cx="1066680" cy="922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676160" y="3370320"/>
                <a:ext cx="533520" cy="462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3047760" y="3141720"/>
              <a:ext cx="1066680" cy="922320"/>
              <a:chOff x="3047760" y="3141720"/>
              <a:chExt cx="1066680" cy="922320"/>
            </a:xfrm>
          </p:grpSpPr>
          <p:sp>
            <p:nvSpPr>
              <p:cNvPr id="180" name=""/>
              <p:cNvSpPr/>
              <p:nvPr/>
            </p:nvSpPr>
            <p:spPr>
              <a:xfrm rot="10800000">
                <a:off x="3047760" y="3141720"/>
                <a:ext cx="1066680" cy="922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0800000">
                <a:off x="3276360" y="3297240"/>
                <a:ext cx="533520" cy="462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2438280" y="3522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4800600" y="3065760"/>
              <a:ext cx="1066680" cy="922320"/>
              <a:chOff x="4800600" y="3065760"/>
              <a:chExt cx="1066680" cy="922320"/>
            </a:xfrm>
          </p:grpSpPr>
          <p:sp>
            <p:nvSpPr>
              <p:cNvPr id="184" name=""/>
              <p:cNvSpPr/>
              <p:nvPr/>
            </p:nvSpPr>
            <p:spPr>
              <a:xfrm>
                <a:off x="4800600" y="3065760"/>
                <a:ext cx="1066680" cy="922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029200" y="3294360"/>
                <a:ext cx="685800" cy="593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257800" y="3522960"/>
                <a:ext cx="304920" cy="263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5867280" y="3522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29400" y="3048120"/>
              <a:ext cx="1219320" cy="1084320"/>
            </a:xfrm>
            <a:prstGeom prst="rect">
              <a:avLst/>
            </a:prstGeom>
            <a:solidFill>
              <a:srgbClr val="ccffcc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371600" y="4724280"/>
            <a:ext cx="6477120" cy="1160640"/>
            <a:chOff x="1371600" y="4724280"/>
            <a:chExt cx="6477120" cy="1160640"/>
          </a:xfrm>
        </p:grpSpPr>
        <p:grpSp>
          <p:nvGrpSpPr>
            <p:cNvPr id="190" name=""/>
            <p:cNvGrpSpPr/>
            <p:nvPr/>
          </p:nvGrpSpPr>
          <p:grpSpPr>
            <a:xfrm>
              <a:off x="1371600" y="4817880"/>
              <a:ext cx="1066680" cy="1067040"/>
              <a:chOff x="1371600" y="4817880"/>
              <a:chExt cx="1066680" cy="1067040"/>
            </a:xfrm>
          </p:grpSpPr>
          <p:sp>
            <p:nvSpPr>
              <p:cNvPr id="191" name=""/>
              <p:cNvSpPr/>
              <p:nvPr/>
            </p:nvSpPr>
            <p:spPr>
              <a:xfrm>
                <a:off x="1371600" y="4817880"/>
                <a:ext cx="1066680" cy="1067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523880" y="5122800"/>
                <a:ext cx="762120" cy="4237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124080" y="4817880"/>
              <a:ext cx="1066680" cy="1067040"/>
              <a:chOff x="3124080" y="4817880"/>
              <a:chExt cx="1066680" cy="1067040"/>
            </a:xfrm>
          </p:grpSpPr>
          <p:sp>
            <p:nvSpPr>
              <p:cNvPr id="194" name=""/>
              <p:cNvSpPr/>
              <p:nvPr/>
            </p:nvSpPr>
            <p:spPr>
              <a:xfrm>
                <a:off x="3124080" y="4817880"/>
                <a:ext cx="1066680" cy="106704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76360" y="5122800"/>
                <a:ext cx="762120" cy="423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2514600" y="52750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24280" y="4792680"/>
              <a:ext cx="1143000" cy="1015920"/>
            </a:xfrm>
            <a:prstGeom prst="rect">
              <a:avLst/>
            </a:prstGeom>
            <a:solidFill>
              <a:srgbClr val="ccffcc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29400" y="4724280"/>
              <a:ext cx="1219320" cy="1084320"/>
            </a:xfrm>
            <a:prstGeom prst="rect">
              <a:avLst/>
            </a:prstGeom>
            <a:solidFill>
              <a:srgbClr val="ccffcc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43600" y="52750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523880" y="1219320"/>
            <a:ext cx="6324840" cy="1312920"/>
            <a:chOff x="1523880" y="1219320"/>
            <a:chExt cx="6324840" cy="1312920"/>
          </a:xfrm>
        </p:grpSpPr>
        <p:grpSp>
          <p:nvGrpSpPr>
            <p:cNvPr id="201" name=""/>
            <p:cNvGrpSpPr/>
            <p:nvPr/>
          </p:nvGrpSpPr>
          <p:grpSpPr>
            <a:xfrm>
              <a:off x="1523880" y="1447920"/>
              <a:ext cx="6324840" cy="1084320"/>
              <a:chOff x="1523880" y="1447920"/>
              <a:chExt cx="6324840" cy="1084320"/>
            </a:xfrm>
          </p:grpSpPr>
          <p:sp>
            <p:nvSpPr>
              <p:cNvPr id="202" name=""/>
              <p:cNvSpPr/>
              <p:nvPr/>
            </p:nvSpPr>
            <p:spPr>
              <a:xfrm>
                <a:off x="1523880" y="1617840"/>
                <a:ext cx="838440" cy="72540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200400" y="1617840"/>
                <a:ext cx="838080" cy="725400"/>
              </a:xfrm>
              <a:prstGeom prst="hexagon">
                <a:avLst>
                  <a:gd name="adj" fmla="val 28883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876920" y="1617840"/>
                <a:ext cx="761760" cy="76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514600" y="199872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019920" y="199872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629400" y="1447920"/>
                <a:ext cx="1219320" cy="1084320"/>
              </a:xfrm>
              <a:prstGeom prst="rect">
                <a:avLst/>
              </a:prstGeom>
              <a:solidFill>
                <a:srgbClr val="ccffcc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3124080" y="1219320"/>
              <a:ext cx="990720" cy="7617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00400" y="19810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05360" y="3116160"/>
            <a:ext cx="1066680" cy="922320"/>
            <a:chOff x="6705360" y="3116160"/>
            <a:chExt cx="1066680" cy="922320"/>
          </a:xfrm>
        </p:grpSpPr>
        <p:sp>
          <p:nvSpPr>
            <p:cNvPr id="211" name=""/>
            <p:cNvSpPr/>
            <p:nvPr/>
          </p:nvSpPr>
          <p:spPr>
            <a:xfrm rot="10800000">
              <a:off x="6705360" y="3116160"/>
              <a:ext cx="1066680" cy="922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0800000">
              <a:off x="6857640" y="3216240"/>
              <a:ext cx="685800" cy="593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0800000">
              <a:off x="7009920" y="3317760"/>
              <a:ext cx="304920" cy="263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705720" y="1523880"/>
            <a:ext cx="990360" cy="838080"/>
            <a:chOff x="6705720" y="1523880"/>
            <a:chExt cx="990360" cy="838080"/>
          </a:xfrm>
        </p:grpSpPr>
        <p:sp>
          <p:nvSpPr>
            <p:cNvPr id="215" name=""/>
            <p:cNvSpPr/>
            <p:nvPr/>
          </p:nvSpPr>
          <p:spPr>
            <a:xfrm>
              <a:off x="6858000" y="1600200"/>
              <a:ext cx="762120" cy="76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05720" y="1523880"/>
              <a:ext cx="990360" cy="457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58000" y="19810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133720" y="1905120"/>
            <a:ext cx="441936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再见！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白兔子" descr=""/>
          <p:cNvPicPr/>
          <p:nvPr/>
        </p:nvPicPr>
        <p:blipFill>
          <a:blip r:embed="rId2"/>
          <a:stretch/>
        </p:blipFill>
        <p:spPr>
          <a:xfrm>
            <a:off x="0" y="3124080"/>
            <a:ext cx="1101600" cy="1262160"/>
          </a:xfrm>
          <a:prstGeom prst="rect">
            <a:avLst/>
          </a:prstGeom>
          <a:ln w="0">
            <a:noFill/>
          </a:ln>
        </p:spPr>
      </p:pic>
      <p:pic>
        <p:nvPicPr>
          <p:cNvPr id="44" name="灰兔子" descr=""/>
          <p:cNvPicPr/>
          <p:nvPr/>
        </p:nvPicPr>
        <p:blipFill>
          <a:blip r:embed="rId3"/>
          <a:stretch/>
        </p:blipFill>
        <p:spPr>
          <a:xfrm>
            <a:off x="960480" y="3467160"/>
            <a:ext cx="1096920" cy="1257120"/>
          </a:xfrm>
          <a:prstGeom prst="rect">
            <a:avLst/>
          </a:prstGeom>
          <a:ln w="0">
            <a:noFill/>
          </a:ln>
        </p:spPr>
      </p:pic>
      <p:pic>
        <p:nvPicPr>
          <p:cNvPr id="45" name="白兔子" descr=""/>
          <p:cNvPicPr/>
          <p:nvPr/>
        </p:nvPicPr>
        <p:blipFill>
          <a:blip r:embed="rId4"/>
          <a:stretch/>
        </p:blipFill>
        <p:spPr>
          <a:xfrm>
            <a:off x="8042400" y="4148280"/>
            <a:ext cx="1101600" cy="1261800"/>
          </a:xfrm>
          <a:prstGeom prst="rect">
            <a:avLst/>
          </a:prstGeom>
          <a:ln w="0">
            <a:noFill/>
          </a:ln>
        </p:spPr>
      </p:pic>
      <p:pic>
        <p:nvPicPr>
          <p:cNvPr id="46" name="白兔子" descr=""/>
          <p:cNvPicPr/>
          <p:nvPr/>
        </p:nvPicPr>
        <p:blipFill>
          <a:blip r:embed="rId5"/>
          <a:stretch/>
        </p:blipFill>
        <p:spPr>
          <a:xfrm>
            <a:off x="1946160" y="3691080"/>
            <a:ext cx="1101960" cy="1261800"/>
          </a:xfrm>
          <a:prstGeom prst="rect">
            <a:avLst/>
          </a:prstGeom>
          <a:ln w="0">
            <a:noFill/>
          </a:ln>
        </p:spPr>
      </p:pic>
      <p:pic>
        <p:nvPicPr>
          <p:cNvPr id="47" name="白兔子" descr=""/>
          <p:cNvPicPr/>
          <p:nvPr/>
        </p:nvPicPr>
        <p:blipFill>
          <a:blip r:embed="rId6"/>
          <a:stretch/>
        </p:blipFill>
        <p:spPr>
          <a:xfrm>
            <a:off x="3927600" y="4148280"/>
            <a:ext cx="1101600" cy="1261800"/>
          </a:xfrm>
          <a:prstGeom prst="rect">
            <a:avLst/>
          </a:prstGeom>
          <a:ln w="0">
            <a:noFill/>
          </a:ln>
        </p:spPr>
      </p:pic>
      <p:pic>
        <p:nvPicPr>
          <p:cNvPr id="48" name="白兔子" descr=""/>
          <p:cNvPicPr/>
          <p:nvPr/>
        </p:nvPicPr>
        <p:blipFill>
          <a:blip r:embed="rId7"/>
          <a:stretch/>
        </p:blipFill>
        <p:spPr>
          <a:xfrm>
            <a:off x="5985000" y="4529160"/>
            <a:ext cx="1101600" cy="1262160"/>
          </a:xfrm>
          <a:prstGeom prst="rect">
            <a:avLst/>
          </a:prstGeom>
          <a:ln w="0">
            <a:noFill/>
          </a:ln>
        </p:spPr>
      </p:pic>
      <p:pic>
        <p:nvPicPr>
          <p:cNvPr id="49" name="灰兔子" descr=""/>
          <p:cNvPicPr/>
          <p:nvPr/>
        </p:nvPicPr>
        <p:blipFill>
          <a:blip r:embed="rId8"/>
          <a:stretch/>
        </p:blipFill>
        <p:spPr>
          <a:xfrm>
            <a:off x="2865600" y="4000680"/>
            <a:ext cx="1096920" cy="1257120"/>
          </a:xfrm>
          <a:prstGeom prst="rect">
            <a:avLst/>
          </a:prstGeom>
          <a:ln w="0">
            <a:noFill/>
          </a:ln>
        </p:spPr>
      </p:pic>
      <p:pic>
        <p:nvPicPr>
          <p:cNvPr id="50" name="灰兔子" descr=""/>
          <p:cNvPicPr/>
          <p:nvPr/>
        </p:nvPicPr>
        <p:blipFill>
          <a:blip r:embed="rId9"/>
          <a:stretch/>
        </p:blipFill>
        <p:spPr>
          <a:xfrm>
            <a:off x="4952880" y="4381560"/>
            <a:ext cx="1096920" cy="1257120"/>
          </a:xfrm>
          <a:prstGeom prst="rect">
            <a:avLst/>
          </a:prstGeom>
          <a:ln w="0">
            <a:noFill/>
          </a:ln>
        </p:spPr>
      </p:pic>
      <p:pic>
        <p:nvPicPr>
          <p:cNvPr id="51" name="灰兔子" descr=""/>
          <p:cNvPicPr/>
          <p:nvPr/>
        </p:nvPicPr>
        <p:blipFill>
          <a:blip r:embed="rId10"/>
          <a:stretch/>
        </p:blipFill>
        <p:spPr>
          <a:xfrm>
            <a:off x="7056360" y="4457880"/>
            <a:ext cx="1096920" cy="1257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280" y="5867280"/>
            <a:ext cx="8839440" cy="8384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 朋 友 们 好！我 们 上 学 去 了 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1676520"/>
            <a:ext cx="2514600" cy="1022760"/>
          </a:xfrm>
          <a:prstGeom prst="wedgeRoundRectCallout">
            <a:avLst>
              <a:gd name="adj1" fmla="val -51314"/>
              <a:gd name="adj2" fmla="val 8951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 们 是 怎 么 排 的 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小熊猫" descr=""/>
          <p:cNvPicPr/>
          <p:nvPr/>
        </p:nvPicPr>
        <p:blipFill>
          <a:blip r:embed="rId2"/>
          <a:stretch/>
        </p:blipFill>
        <p:spPr>
          <a:xfrm>
            <a:off x="7467480" y="4267080"/>
            <a:ext cx="1397160" cy="2273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457200"/>
            <a:ext cx="6400800" cy="6019920"/>
          </a:xfrm>
          <a:prstGeom prst="wedgeRectCallout">
            <a:avLst>
              <a:gd name="adj1" fmla="val 64782"/>
              <a:gd name="adj2" fmla="val 2866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62120" y="914400"/>
          <a:ext cx="5195880" cy="402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914400"/>
                    <a:ext cx="5195880" cy="40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2062080" y="5562720"/>
            <a:ext cx="29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哎呀！真着急！这该怎么办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609480"/>
            <a:ext cx="8153280" cy="57913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2209680"/>
          <a:ext cx="8077320" cy="270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209680"/>
                    <a:ext cx="8077320" cy="27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7186680" y="5118120"/>
          <a:ext cx="1957320" cy="173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86680" y="5118120"/>
                    <a:ext cx="1957320" cy="17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80880" y="533520"/>
            <a:ext cx="8001000" cy="51051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762120" y="990720"/>
            <a:ext cx="4190760" cy="4233600"/>
            <a:chOff x="762120" y="990720"/>
            <a:chExt cx="4190760" cy="4233600"/>
          </a:xfrm>
        </p:grpSpPr>
        <p:graphicFrame>
          <p:nvGraphicFramePr>
            <p:cNvPr id="66" name=""/>
            <p:cNvGraphicFramePr/>
            <p:nvPr/>
          </p:nvGraphicFramePr>
          <p:xfrm>
            <a:off x="990720" y="1066680"/>
            <a:ext cx="995400" cy="1041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990720" y="1066680"/>
                      <a:ext cx="995400" cy="104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4151160" y="990720"/>
            <a:ext cx="801720" cy="12207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151160" y="990720"/>
                      <a:ext cx="801720" cy="12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2362320" y="990720"/>
            <a:ext cx="1295280" cy="12618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362320" y="990720"/>
                      <a:ext cx="1295280" cy="126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2585880" y="2514600"/>
            <a:ext cx="995400" cy="10414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585880" y="2514600"/>
                      <a:ext cx="995400" cy="104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762120" y="3962520"/>
            <a:ext cx="1295280" cy="12618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62120" y="3962520"/>
                      <a:ext cx="1295280" cy="126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1066680" y="2438280"/>
            <a:ext cx="801720" cy="12207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066680" y="2438280"/>
                      <a:ext cx="801720" cy="12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2666880" y="3886200"/>
            <a:ext cx="801720" cy="122076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2666880" y="3886200"/>
                      <a:ext cx="801720" cy="12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4343400" y="2743200"/>
            <a:ext cx="457200" cy="68580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4343400" y="2743200"/>
                      <a:ext cx="4572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4343400" y="4191120"/>
            <a:ext cx="457200" cy="68580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4343400" y="4191120"/>
                      <a:ext cx="4572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4" name=""/>
          <p:cNvSpPr/>
          <p:nvPr/>
        </p:nvSpPr>
        <p:spPr>
          <a:xfrm>
            <a:off x="6172200" y="2895480"/>
            <a:ext cx="2133720" cy="1828800"/>
          </a:xfrm>
          <a:prstGeom prst="cloudCallout">
            <a:avLst>
              <a:gd name="adj1" fmla="val 44643"/>
              <a:gd name="adj2" fmla="val 8498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问号那儿摆什么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809880" y="2438280"/>
          <a:ext cx="1295640" cy="12621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809880" y="2438280"/>
                    <a:ext cx="129564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4110120" y="3886200"/>
          <a:ext cx="995400" cy="10414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110120" y="3886200"/>
                    <a:ext cx="99540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5383080" y="3618000"/>
          <a:ext cx="376092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83080" y="3618000"/>
                    <a:ext cx="376092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304920" y="609480"/>
            <a:ext cx="5486400" cy="4114800"/>
          </a:xfrm>
          <a:prstGeom prst="cloudCallout">
            <a:avLst>
              <a:gd name="adj1" fmla="val 48120"/>
              <a:gd name="adj2" fmla="val 5335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你 们 真 聪 明 ， 我 来 出 几 道 题 考 考 你 们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7315200" y="5281560"/>
          <a:ext cx="1828800" cy="15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5281560"/>
                    <a:ext cx="182880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28600" y="380880"/>
            <a:ext cx="7772400" cy="53341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724280" y="3276720"/>
          <a:ext cx="1065240" cy="1073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3276720"/>
                    <a:ext cx="106524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" name=""/>
          <p:cNvGrpSpPr/>
          <p:nvPr/>
        </p:nvGrpSpPr>
        <p:grpSpPr>
          <a:xfrm>
            <a:off x="304920" y="533520"/>
            <a:ext cx="7315200" cy="4421880"/>
            <a:chOff x="304920" y="533520"/>
            <a:chExt cx="7315200" cy="4421880"/>
          </a:xfrm>
        </p:grpSpPr>
        <p:sp>
          <p:nvSpPr>
            <p:cNvPr id="98" name=""/>
            <p:cNvSpPr/>
            <p:nvPr/>
          </p:nvSpPr>
          <p:spPr>
            <a:xfrm>
              <a:off x="5715000" y="1371600"/>
              <a:ext cx="1295280" cy="1295280"/>
            </a:xfrm>
            <a:prstGeom prst="rect">
              <a:avLst/>
            </a:prstGeom>
            <a:solidFill>
              <a:srgbClr val="ccffcc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304920" y="533520"/>
              <a:ext cx="7315200" cy="4421880"/>
              <a:chOff x="304920" y="533520"/>
              <a:chExt cx="7315200" cy="4421880"/>
            </a:xfrm>
          </p:grpSpPr>
          <p:sp>
            <p:nvSpPr>
              <p:cNvPr id="100" name=""/>
              <p:cNvSpPr/>
              <p:nvPr/>
            </p:nvSpPr>
            <p:spPr>
              <a:xfrm>
                <a:off x="304920" y="533520"/>
                <a:ext cx="2895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找规律，选图填空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01" name=""/>
              <p:cNvGraphicFramePr/>
              <p:nvPr/>
            </p:nvGraphicFramePr>
            <p:xfrm>
              <a:off x="914400" y="1371600"/>
              <a:ext cx="1079640" cy="102384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02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914400" y="1371600"/>
                        <a:ext cx="1079640" cy="1023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3" name=""/>
              <p:cNvGraphicFramePr/>
              <p:nvPr/>
            </p:nvGraphicFramePr>
            <p:xfrm>
              <a:off x="838080" y="3200400"/>
              <a:ext cx="1143000" cy="107460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104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838080" y="3200400"/>
                        <a:ext cx="1143000" cy="107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5" name=""/>
              <p:cNvGraphicFramePr/>
              <p:nvPr/>
            </p:nvGraphicFramePr>
            <p:xfrm>
              <a:off x="2514600" y="1371600"/>
              <a:ext cx="1079640" cy="105552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106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2514600" y="1371600"/>
                        <a:ext cx="1079640" cy="1055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7" name=""/>
              <p:cNvGraphicFramePr/>
              <p:nvPr/>
            </p:nvGraphicFramePr>
            <p:xfrm>
              <a:off x="4038480" y="1371600"/>
              <a:ext cx="1079640" cy="107172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108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4038480" y="1371600"/>
                        <a:ext cx="1079640" cy="1071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9" name=""/>
              <p:cNvGraphicFramePr/>
              <p:nvPr/>
            </p:nvGraphicFramePr>
            <p:xfrm>
              <a:off x="2209680" y="3276720"/>
              <a:ext cx="1067040" cy="103032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110" name="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2209680" y="3276720"/>
                        <a:ext cx="1067040" cy="1030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11" name=""/>
              <p:cNvGraphicFramePr/>
              <p:nvPr/>
            </p:nvGraphicFramePr>
            <p:xfrm>
              <a:off x="3429000" y="3276720"/>
              <a:ext cx="1082520" cy="1015920"/>
            </p:xfrm>
            <a:graphic>
              <a:graphicData uri="http://schemas.openxmlformats.org/presentationml/2006/ole">
                <p:oleObj r:id="rId16" spid="">
                  <p:embed/>
                  <p:pic>
                    <p:nvPicPr>
                      <p:cNvPr id="112" name="" descr=""/>
                      <p:cNvPicPr/>
                      <p:nvPr/>
                    </p:nvPicPr>
                    <p:blipFill>
                      <a:blip r:embed="rId17"/>
                      <a:stretch/>
                    </p:blipFill>
                    <p:spPr>
                      <a:xfrm>
                        <a:off x="3429000" y="3276720"/>
                        <a:ext cx="1082520" cy="1015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13" name=""/>
              <p:cNvGraphicFramePr/>
              <p:nvPr/>
            </p:nvGraphicFramePr>
            <p:xfrm>
              <a:off x="5943600" y="3429000"/>
              <a:ext cx="1676520" cy="906480"/>
            </p:xfrm>
            <a:graphic>
              <a:graphicData uri="http://schemas.openxmlformats.org/presentationml/2006/ole">
                <p:oleObj r:id="rId18" spid="">
                  <p:embed/>
                  <p:pic>
                    <p:nvPicPr>
                      <p:cNvPr id="114" name="" descr=""/>
                      <p:cNvPicPr/>
                      <p:nvPr/>
                    </p:nvPicPr>
                    <p:blipFill>
                      <a:blip r:embed="rId19"/>
                      <a:stretch/>
                    </p:blipFill>
                    <p:spPr>
                      <a:xfrm>
                        <a:off x="5943600" y="3429000"/>
                        <a:ext cx="1676520" cy="90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5" name=""/>
              <p:cNvSpPr/>
              <p:nvPr/>
            </p:nvSpPr>
            <p:spPr>
              <a:xfrm>
                <a:off x="1033920" y="4495680"/>
                <a:ext cx="611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）         （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）       （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）     （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）            （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16" name=""/>
          <p:cNvGraphicFramePr/>
          <p:nvPr/>
        </p:nvGraphicFramePr>
        <p:xfrm>
          <a:off x="4952880" y="2895480"/>
          <a:ext cx="1065240" cy="10731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952880" y="2895480"/>
                    <a:ext cx="106524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181480" y="2438280"/>
          <a:ext cx="1065240" cy="10731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181480" y="2438280"/>
                    <a:ext cx="106524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715000" y="1905120"/>
          <a:ext cx="1065240" cy="10731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715000" y="1905120"/>
                    <a:ext cx="106524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867280" y="1447920"/>
          <a:ext cx="1065240" cy="10731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867280" y="1447920"/>
                    <a:ext cx="106524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7315200" y="5272200"/>
          <a:ext cx="1828800" cy="15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5272200"/>
                    <a:ext cx="182880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228600" y="371520"/>
            <a:ext cx="7772400" cy="53341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2971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找规律，选图填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424120" y="2833200"/>
            <a:ext cx="1496160" cy="1496160"/>
            <a:chOff x="5424120" y="2833200"/>
            <a:chExt cx="1496160" cy="1496160"/>
          </a:xfrm>
        </p:grpSpPr>
        <p:sp>
          <p:nvSpPr>
            <p:cNvPr id="129" name=""/>
            <p:cNvSpPr/>
            <p:nvPr/>
          </p:nvSpPr>
          <p:spPr>
            <a:xfrm rot="3142200">
              <a:off x="5638680" y="3047760"/>
              <a:ext cx="1066680" cy="10666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46760" y="3159000"/>
              <a:ext cx="651240" cy="84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95360" y="1295280"/>
            <a:ext cx="6134040" cy="3660120"/>
            <a:chOff x="495360" y="1295280"/>
            <a:chExt cx="6134040" cy="3660120"/>
          </a:xfrm>
        </p:grpSpPr>
        <p:sp>
          <p:nvSpPr>
            <p:cNvPr id="132" name=""/>
            <p:cNvSpPr/>
            <p:nvPr/>
          </p:nvSpPr>
          <p:spPr>
            <a:xfrm>
              <a:off x="5257800" y="1295280"/>
              <a:ext cx="1371600" cy="1371600"/>
            </a:xfrm>
            <a:prstGeom prst="rect">
              <a:avLst/>
            </a:prstGeom>
            <a:solidFill>
              <a:srgbClr val="ccffcc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495360" y="1371600"/>
              <a:ext cx="5963760" cy="3583800"/>
              <a:chOff x="495360" y="1371600"/>
              <a:chExt cx="5963760" cy="358380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876240" y="1371600"/>
                <a:ext cx="1066680" cy="1066680"/>
                <a:chOff x="876240" y="1371600"/>
                <a:chExt cx="1066680" cy="10666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876240" y="1371600"/>
                  <a:ext cx="1066680" cy="1066680"/>
                </a:xfrm>
                <a:prstGeom prst="ellips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876240" y="1905120"/>
                  <a:ext cx="1066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324160" y="1371600"/>
                <a:ext cx="1066680" cy="1066680"/>
                <a:chOff x="2324160" y="1371600"/>
                <a:chExt cx="1066680" cy="10666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324160" y="1371600"/>
                  <a:ext cx="1066680" cy="1066680"/>
                </a:xfrm>
                <a:prstGeom prst="ellips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2552760" y="1523520"/>
                  <a:ext cx="685800" cy="76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3848040" y="1371600"/>
                <a:ext cx="1066680" cy="1066680"/>
                <a:chOff x="3848040" y="1371600"/>
                <a:chExt cx="1066680" cy="10666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3848040" y="1371600"/>
                  <a:ext cx="1066680" cy="1066680"/>
                </a:xfrm>
                <a:prstGeom prst="ellips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381560" y="1371600"/>
                  <a:ext cx="0" cy="10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495360" y="3048120"/>
                <a:ext cx="1066680" cy="1066680"/>
                <a:chOff x="495360" y="3048120"/>
                <a:chExt cx="1066680" cy="106668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495360" y="3048120"/>
                  <a:ext cx="1066680" cy="1066680"/>
                </a:xfrm>
                <a:prstGeom prst="ellips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95360" y="3581280"/>
                  <a:ext cx="1066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028520" y="3048120"/>
                  <a:ext cx="0" cy="10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1790640" y="3048120"/>
                <a:ext cx="1066680" cy="1066680"/>
                <a:chOff x="1790640" y="3048120"/>
                <a:chExt cx="1066680" cy="106668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790640" y="3048120"/>
                  <a:ext cx="1066680" cy="1066680"/>
                </a:xfrm>
                <a:prstGeom prst="ellips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V="1">
                  <a:off x="2324160" y="3200400"/>
                  <a:ext cx="38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 flipV="1">
                  <a:off x="1866960" y="3316320"/>
                  <a:ext cx="457200" cy="264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24160" y="3581280"/>
                  <a:ext cx="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2788920" y="2827440"/>
                <a:ext cx="1508400" cy="1508400"/>
                <a:chOff x="2788920" y="2827440"/>
                <a:chExt cx="1508400" cy="1508400"/>
              </a:xfrm>
            </p:grpSpPr>
            <p:sp>
              <p:nvSpPr>
                <p:cNvPr id="153" name=""/>
                <p:cNvSpPr/>
                <p:nvPr/>
              </p:nvSpPr>
              <p:spPr>
                <a:xfrm rot="2649000">
                  <a:off x="3009600" y="3048120"/>
                  <a:ext cx="1066680" cy="1066680"/>
                </a:xfrm>
                <a:prstGeom prst="ellips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160440" y="3209760"/>
                  <a:ext cx="765360" cy="74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>
                  <a:off x="3171600" y="3198600"/>
                  <a:ext cx="743040" cy="76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4305240" y="3048120"/>
                <a:ext cx="1066680" cy="106668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59160" y="4495680"/>
                <a:ext cx="579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）        （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）      （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）       （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）        （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" name=""/>
          <p:cNvGrpSpPr/>
          <p:nvPr/>
        </p:nvGrpSpPr>
        <p:grpSpPr>
          <a:xfrm>
            <a:off x="5347800" y="2376360"/>
            <a:ext cx="1496160" cy="1496160"/>
            <a:chOff x="5347800" y="2376360"/>
            <a:chExt cx="1496160" cy="1496160"/>
          </a:xfrm>
        </p:grpSpPr>
        <p:sp>
          <p:nvSpPr>
            <p:cNvPr id="159" name=""/>
            <p:cNvSpPr/>
            <p:nvPr/>
          </p:nvSpPr>
          <p:spPr>
            <a:xfrm rot="3142200">
              <a:off x="5562360" y="2590920"/>
              <a:ext cx="1066680" cy="10666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70080" y="2702160"/>
              <a:ext cx="65124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347800" y="1842840"/>
            <a:ext cx="1496160" cy="1496160"/>
            <a:chOff x="5347800" y="1842840"/>
            <a:chExt cx="1496160" cy="1496160"/>
          </a:xfrm>
        </p:grpSpPr>
        <p:sp>
          <p:nvSpPr>
            <p:cNvPr id="162" name=""/>
            <p:cNvSpPr/>
            <p:nvPr/>
          </p:nvSpPr>
          <p:spPr>
            <a:xfrm rot="3142200">
              <a:off x="5562360" y="2057400"/>
              <a:ext cx="1066680" cy="10666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70080" y="2168640"/>
              <a:ext cx="65124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347440" y="1537920"/>
            <a:ext cx="1496160" cy="1496160"/>
            <a:chOff x="5347440" y="1537920"/>
            <a:chExt cx="1496160" cy="1496160"/>
          </a:xfrm>
        </p:grpSpPr>
        <p:sp>
          <p:nvSpPr>
            <p:cNvPr id="165" name=""/>
            <p:cNvSpPr/>
            <p:nvPr/>
          </p:nvSpPr>
          <p:spPr>
            <a:xfrm rot="3142200">
              <a:off x="5562000" y="1752480"/>
              <a:ext cx="1066680" cy="10666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9720" y="1863720"/>
              <a:ext cx="651240" cy="84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195520" y="1156680"/>
            <a:ext cx="1496160" cy="1496160"/>
            <a:chOff x="5195520" y="1156680"/>
            <a:chExt cx="1496160" cy="1496160"/>
          </a:xfrm>
        </p:grpSpPr>
        <p:sp>
          <p:nvSpPr>
            <p:cNvPr id="168" name=""/>
            <p:cNvSpPr/>
            <p:nvPr/>
          </p:nvSpPr>
          <p:spPr>
            <a:xfrm rot="3142200">
              <a:off x="5410080" y="1371240"/>
              <a:ext cx="1066680" cy="10666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18160" y="1482480"/>
              <a:ext cx="651240" cy="84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94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68580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发声游戏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19810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</a:rPr>
              <a:t>① △</a:t>
            </a:r>
            <a:r>
              <a:rPr b="0" lang="zh-CN" sz="3500" spc="-1" strike="noStrike">
                <a:solidFill>
                  <a:srgbClr val="000000"/>
                </a:solidFill>
                <a:latin typeface="Times New Roman"/>
              </a:rPr>
              <a:t>× ×      △ × ×       △ × ×</a:t>
            </a:r>
            <a:br>
              <a:rPr sz="3500"/>
            </a:br>
            <a:br>
              <a:rPr sz="3500"/>
            </a:br>
            <a:r>
              <a:rPr b="0" lang="zh-CN" sz="3500" spc="-1" strike="noStrike">
                <a:solidFill>
                  <a:srgbClr val="000000"/>
                </a:solidFill>
                <a:latin typeface="Times New Roman"/>
              </a:rPr>
              <a:t>② △×      △ △ × ×     △ △ △ × × × </a:t>
            </a:r>
            <a:br>
              <a:rPr sz="3500"/>
            </a:br>
            <a:br>
              <a:rPr sz="3500"/>
            </a:br>
            <a:r>
              <a:rPr b="0" lang="zh-CN" sz="3500" spc="-1" strike="noStrike">
                <a:solidFill>
                  <a:srgbClr val="000000"/>
                </a:solidFill>
                <a:latin typeface="Times New Roman"/>
              </a:rPr>
              <a:t>③× × × △     × × △ △      × △ △ △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6T07:03:45Z</dcterms:created>
  <dc:creator>tf</dc:creator>
  <dc:description/>
  <dc:language>en-US</dc:language>
  <cp:lastModifiedBy>wang</cp:lastModifiedBy>
  <dcterms:modified xsi:type="dcterms:W3CDTF">2004-03-19T02:35:18Z</dcterms:modified>
  <cp:revision>41</cp:revision>
  <dc:subject/>
  <dc:title>PowerPoint 演示文稿</dc:title>
</cp:coreProperties>
</file>