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00DD-17B2-446F-996D-980D4EED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D50B-D441-4E70-8E83-9F2A1108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8E2C-6352-4F56-AB6A-DE1B844C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6075-7AA4-4460-827E-DED9EBBB1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880C-AF32-49F3-B254-680B0C36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53F3-2584-4944-BCC1-F37E9CC5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6CC8-E7DD-454B-8B93-1CA47F7E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7CB2-7FE9-4B24-B366-3E1F6083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E182-816B-4976-811D-46453CC5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704D-13F9-4499-A243-65C21A7A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8C4E-F204-43F0-8F4D-6BD320AB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3116-29E3-4580-A59F-3995C73F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FA7D-7ACB-4B85-96AC-A49EFA23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0285-9D68-4541-A2C8-DC75782A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7DD2-3115-406E-A2C4-13FF32A9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53E8-03B1-4C6C-A5C7-27D11EFC9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B462-A0DA-4551-BEBD-AFBD0C5A6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7B80E-1941-4776-880D-53346CE94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6E3CD-C9B4-4757-BA1B-8EB76199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C6C20-5AA6-4759-978C-22C6858C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207F8-5B80-4B3B-885C-00BF7146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D2530-1634-4A5D-BBE9-B76F9E36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FDAF-4537-4A45-8B18-C61EE373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6A55B-8A47-4A9A-A719-6A9EA11B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171E9-F225-432D-88A3-8E44B910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03357-767E-42C9-ACA5-5D0EAB62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9A054-F2DC-499F-8E77-256BCBF9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FAFE4-9B85-4C49-B7D2-14BA759D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174E0-3AAA-42DB-9A27-CC21010B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BC105-2D5A-41A8-B8B9-6BC1064E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1342AC-96C2-4ECC-A010-C51FDE9EA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6375F0-1E0F-4E54-9DEB-F08B6B07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9221E9-6576-477E-87E2-09F24768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7478-D994-4768-98C1-05948635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ED02B3-2CD4-453C-AE2E-D505F392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170064-5BD9-45C1-9D01-CE11BD1E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C37FA8-6A3D-4F7E-AF3D-2A3C8170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D74E46-CB9A-4DB9-A959-5E904561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5565F7-0A61-41D9-837D-A6E7B39F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511F50-ECDD-4384-ABB8-C34BCA2C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292048-DD23-44B9-8951-0ABCB54E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5371D5-86C3-4790-B9AC-AD1E9EE67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059058-F7AA-4CC4-A6EF-546FA272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C0F4-362F-4E8B-8629-E3C1D9B7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692A-838F-4A0E-843C-FDFFD0FA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4794-8363-405D-B3AD-300B6FEA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84DE-63BD-4B1F-9E6F-789AF842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1031-6A65-42D8-949A-0CAEAD5D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7367-98DB-45EB-A0C2-712679E968D0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7205-4423-41AA-87C6-5AEB24C1C6E6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DC4B-AA04-4663-B97F-1769E55B8B7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870A-FD6F-4B46-B02D-8BFB31EAD61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2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979640" y="2060640"/>
            <a:ext cx="4824360" cy="21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探索规律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645080" y="806400"/>
            <a:ext cx="2592360" cy="201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916360" y="157320"/>
          <a:ext cx="6048360" cy="3848040"/>
        </p:xfrm>
        <a:graphic>
          <a:graphicData uri="http://schemas.openxmlformats.org/drawingml/2006/table">
            <a:tbl>
              <a:tblPr/>
              <a:tblGrid>
                <a:gridCol w="847440"/>
                <a:gridCol w="866880"/>
                <a:gridCol w="866880"/>
                <a:gridCol w="866880"/>
                <a:gridCol w="866520"/>
                <a:gridCol w="866880"/>
                <a:gridCol w="866880"/>
              </a:tblGrid>
              <a:tr h="66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109440" y="115920"/>
            <a:ext cx="280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日历图中的套色方框中９个数之和与该方框中间的数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这个关系对其他这样的方框成立吗？你能用代数式表示这个关系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8000" y="4653000"/>
            <a:ext cx="90360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你能发现这样的方框中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数之间的其他关系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代数式表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这个关系对任何一个月的日历都成立吗？</a:t>
            </a:r>
            <a:r>
              <a:rPr b="0" lang="zh-CN" sz="2800" spc="-1" strike="noStrike" u="sng">
                <a:solidFill>
                  <a:srgbClr val="00b200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77 -3.33333E-006 L 0.18785 -0.00602 E">
                                      <p:cBhvr>
                                        <p:cTn id="18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7037E-006 L 0 0.09445 E">
                                      <p:cBhvr>
                                        <p:cTn id="22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3333E-006 L -2.77778E-006 0.17246 E">
                                      <p:cBhvr>
                                        <p:cTn id="26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3333E-006 L -0.09496 -3.33333E-006 C -0.13732 -3.33333E-006 -0.18906 0.04885 -0.18906 0.08889 L -0.18906 0.17848 E">
                                      <p:cBhvr>
                                        <p:cTn id="30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79280" y="47628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、四棱柱有几个面？几个顶点？几条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五棱柱有几个面？几个顶点？几条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n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棱柱有几个面？几个顶点？几条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0" y="1700280"/>
            <a:ext cx="9144000" cy="2016000"/>
            <a:chOff x="0" y="1700280"/>
            <a:chExt cx="9144000" cy="2016000"/>
          </a:xfrm>
        </p:grpSpPr>
        <p:sp>
          <p:nvSpPr>
            <p:cNvPr id="239" name=""/>
            <p:cNvSpPr/>
            <p:nvPr/>
          </p:nvSpPr>
          <p:spPr>
            <a:xfrm>
              <a:off x="0" y="2276640"/>
              <a:ext cx="9144000" cy="1439640"/>
            </a:xfrm>
            <a:prstGeom prst="rect">
              <a:avLst/>
            </a:prstGeom>
            <a:solidFill>
              <a:srgbClr val="ffff00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72920" y="1700280"/>
              <a:ext cx="80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r>
                <a:rPr b="1" lang="zh-CN" sz="2800" spc="-1" strike="noStrike">
                  <a:solidFill>
                    <a:srgbClr val="ff3300"/>
                  </a:solidFill>
                  <a:latin typeface="Comic Sans MS"/>
                </a:rPr>
                <a:t>、用火柴棒按下图方式搭三角形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6045120" y="2462040"/>
              <a:ext cx="2952720" cy="1067040"/>
              <a:chOff x="6045120" y="2462040"/>
              <a:chExt cx="2952720" cy="1067040"/>
            </a:xfrm>
          </p:grpSpPr>
          <p:sp>
            <p:nvSpPr>
              <p:cNvPr id="242" name=""/>
              <p:cNvSpPr/>
              <p:nvPr/>
            </p:nvSpPr>
            <p:spPr>
              <a:xfrm flipH="1">
                <a:off x="6073920" y="2490840"/>
                <a:ext cx="576000" cy="995040"/>
              </a:xfrm>
              <a:prstGeom prst="line">
                <a:avLst/>
              </a:prstGeom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649920" y="2490840"/>
                <a:ext cx="576360" cy="995040"/>
              </a:xfrm>
              <a:prstGeom prst="line">
                <a:avLst/>
              </a:prstGeom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073920" y="3485880"/>
                <a:ext cx="1152360" cy="1800"/>
              </a:xfrm>
              <a:prstGeom prst="line">
                <a:avLst/>
              </a:prstGeom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649920" y="2490840"/>
                <a:ext cx="1152720" cy="1440"/>
              </a:xfrm>
              <a:prstGeom prst="line">
                <a:avLst/>
              </a:prstGeom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7225920" y="2490840"/>
                <a:ext cx="576360" cy="995040"/>
              </a:xfrm>
              <a:prstGeom prst="line">
                <a:avLst/>
              </a:prstGeom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7226280" y="3485880"/>
                <a:ext cx="1152720" cy="1800"/>
              </a:xfrm>
              <a:prstGeom prst="line">
                <a:avLst/>
              </a:prstGeom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 flipV="1">
                <a:off x="7802280" y="2490840"/>
                <a:ext cx="576360" cy="995040"/>
              </a:xfrm>
              <a:prstGeom prst="line">
                <a:avLst/>
              </a:prstGeom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8379000" y="2490840"/>
                <a:ext cx="576000" cy="995040"/>
              </a:xfrm>
              <a:prstGeom prst="line">
                <a:avLst/>
              </a:prstGeom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802640" y="2490840"/>
                <a:ext cx="1152360" cy="1440"/>
              </a:xfrm>
              <a:prstGeom prst="line">
                <a:avLst/>
              </a:prstGeom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621480" y="2462040"/>
                <a:ext cx="71280" cy="73080"/>
              </a:xfrm>
              <a:prstGeom prst="ellipse">
                <a:avLst/>
              </a:prstGeom>
              <a:solidFill>
                <a:srgbClr val="ffff00"/>
              </a:solidFill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045120" y="3456000"/>
                <a:ext cx="73080" cy="73080"/>
              </a:xfrm>
              <a:prstGeom prst="ellipse">
                <a:avLst/>
              </a:prstGeom>
              <a:solidFill>
                <a:srgbClr val="ffff00"/>
              </a:solidFill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197840" y="3456000"/>
                <a:ext cx="71280" cy="73080"/>
              </a:xfrm>
              <a:prstGeom prst="ellipse">
                <a:avLst/>
              </a:prstGeom>
              <a:solidFill>
                <a:srgbClr val="ffff00"/>
              </a:solidFill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773840" y="2462040"/>
                <a:ext cx="71640" cy="73080"/>
              </a:xfrm>
              <a:prstGeom prst="ellipse">
                <a:avLst/>
              </a:prstGeom>
              <a:solidFill>
                <a:srgbClr val="ffff00"/>
              </a:solidFill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350200" y="3456000"/>
                <a:ext cx="71640" cy="73080"/>
              </a:xfrm>
              <a:prstGeom prst="ellipse">
                <a:avLst/>
              </a:prstGeom>
              <a:solidFill>
                <a:srgbClr val="ffff00"/>
              </a:solidFill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924760" y="2462040"/>
                <a:ext cx="73080" cy="73080"/>
              </a:xfrm>
              <a:prstGeom prst="ellipse">
                <a:avLst/>
              </a:prstGeom>
              <a:solidFill>
                <a:srgbClr val="ffff00"/>
              </a:solidFill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3516480" y="2462040"/>
              <a:ext cx="2376360" cy="1067040"/>
              <a:chOff x="3516480" y="2462040"/>
              <a:chExt cx="2376360" cy="1067040"/>
            </a:xfrm>
          </p:grpSpPr>
          <p:sp>
            <p:nvSpPr>
              <p:cNvPr id="258" name=""/>
              <p:cNvSpPr/>
              <p:nvPr/>
            </p:nvSpPr>
            <p:spPr>
              <a:xfrm flipH="1">
                <a:off x="3544560" y="2490840"/>
                <a:ext cx="576360" cy="995040"/>
              </a:xfrm>
              <a:prstGeom prst="line">
                <a:avLst/>
              </a:prstGeom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121280" y="2490840"/>
                <a:ext cx="576000" cy="995040"/>
              </a:xfrm>
              <a:prstGeom prst="line">
                <a:avLst/>
              </a:prstGeom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544920" y="3485880"/>
                <a:ext cx="1152360" cy="1800"/>
              </a:xfrm>
              <a:prstGeom prst="line">
                <a:avLst/>
              </a:prstGeom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121280" y="2490840"/>
                <a:ext cx="1152360" cy="1440"/>
              </a:xfrm>
              <a:prstGeom prst="line">
                <a:avLst/>
              </a:prstGeom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4696920" y="2490840"/>
                <a:ext cx="576360" cy="995040"/>
              </a:xfrm>
              <a:prstGeom prst="line">
                <a:avLst/>
              </a:prstGeom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697280" y="3485880"/>
                <a:ext cx="1152720" cy="1800"/>
              </a:xfrm>
              <a:prstGeom prst="line">
                <a:avLst/>
              </a:prstGeom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flipV="1">
                <a:off x="5273280" y="2490840"/>
                <a:ext cx="576360" cy="995040"/>
              </a:xfrm>
              <a:prstGeom prst="line">
                <a:avLst/>
              </a:prstGeom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092480" y="2462040"/>
                <a:ext cx="71640" cy="73080"/>
              </a:xfrm>
              <a:prstGeom prst="ellipse">
                <a:avLst/>
              </a:prstGeom>
              <a:solidFill>
                <a:srgbClr val="ffff00"/>
              </a:solidFill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516480" y="3456000"/>
                <a:ext cx="72720" cy="73080"/>
              </a:xfrm>
              <a:prstGeom prst="ellipse">
                <a:avLst/>
              </a:prstGeom>
              <a:solidFill>
                <a:srgbClr val="ffff00"/>
              </a:solidFill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668840" y="3456000"/>
                <a:ext cx="71280" cy="73080"/>
              </a:xfrm>
              <a:prstGeom prst="ellipse">
                <a:avLst/>
              </a:prstGeom>
              <a:solidFill>
                <a:srgbClr val="ffff00"/>
              </a:solidFill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245200" y="2462040"/>
                <a:ext cx="71280" cy="73080"/>
              </a:xfrm>
              <a:prstGeom prst="ellipse">
                <a:avLst/>
              </a:prstGeom>
              <a:solidFill>
                <a:srgbClr val="ffff00"/>
              </a:solidFill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19760" y="3456000"/>
                <a:ext cx="73080" cy="73080"/>
              </a:xfrm>
              <a:prstGeom prst="ellipse">
                <a:avLst/>
              </a:prstGeom>
              <a:solidFill>
                <a:srgbClr val="ffff00"/>
              </a:solidFill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1565280" y="2462040"/>
              <a:ext cx="1800360" cy="1067040"/>
              <a:chOff x="1565280" y="2462040"/>
              <a:chExt cx="1800360" cy="1067040"/>
            </a:xfrm>
          </p:grpSpPr>
          <p:sp>
            <p:nvSpPr>
              <p:cNvPr id="271" name=""/>
              <p:cNvSpPr/>
              <p:nvPr/>
            </p:nvSpPr>
            <p:spPr>
              <a:xfrm flipH="1">
                <a:off x="1593360" y="2490840"/>
                <a:ext cx="576360" cy="995040"/>
              </a:xfrm>
              <a:prstGeom prst="line">
                <a:avLst/>
              </a:prstGeom>
              <a:ln w="414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170080" y="2490840"/>
                <a:ext cx="576360" cy="995040"/>
              </a:xfrm>
              <a:prstGeom prst="line">
                <a:avLst/>
              </a:prstGeom>
              <a:ln w="414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593720" y="3485880"/>
                <a:ext cx="1152720" cy="1800"/>
              </a:xfrm>
              <a:prstGeom prst="line">
                <a:avLst/>
              </a:prstGeom>
              <a:ln w="414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70080" y="2490840"/>
                <a:ext cx="1152720" cy="1440"/>
              </a:xfrm>
              <a:prstGeom prst="line">
                <a:avLst/>
              </a:prstGeom>
              <a:ln w="414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2746080" y="2490840"/>
                <a:ext cx="576360" cy="995040"/>
              </a:xfrm>
              <a:prstGeom prst="line">
                <a:avLst/>
              </a:prstGeom>
              <a:ln w="414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141640" y="2462040"/>
                <a:ext cx="71280" cy="73080"/>
              </a:xfrm>
              <a:prstGeom prst="ellipse">
                <a:avLst/>
              </a:prstGeom>
              <a:solidFill>
                <a:srgbClr val="ffff00"/>
              </a:solidFill>
              <a:ln w="414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65280" y="3456000"/>
                <a:ext cx="73080" cy="73080"/>
              </a:xfrm>
              <a:prstGeom prst="ellipse">
                <a:avLst/>
              </a:prstGeom>
              <a:solidFill>
                <a:srgbClr val="ffff00"/>
              </a:solidFill>
              <a:ln w="414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717640" y="3456000"/>
                <a:ext cx="71640" cy="73080"/>
              </a:xfrm>
              <a:prstGeom prst="ellipse">
                <a:avLst/>
              </a:prstGeom>
              <a:solidFill>
                <a:srgbClr val="ffff00"/>
              </a:solidFill>
              <a:ln w="414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292560" y="2462040"/>
                <a:ext cx="73080" cy="73080"/>
              </a:xfrm>
              <a:prstGeom prst="ellipse">
                <a:avLst/>
              </a:prstGeom>
              <a:solidFill>
                <a:srgbClr val="ffff00"/>
              </a:solidFill>
              <a:ln w="414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190440" y="2462040"/>
              <a:ext cx="1224000" cy="1067040"/>
              <a:chOff x="190440" y="2462040"/>
              <a:chExt cx="1224000" cy="1067040"/>
            </a:xfrm>
          </p:grpSpPr>
          <p:sp>
            <p:nvSpPr>
              <p:cNvPr id="281" name=""/>
              <p:cNvSpPr/>
              <p:nvPr/>
            </p:nvSpPr>
            <p:spPr>
              <a:xfrm>
                <a:off x="219240" y="3485880"/>
                <a:ext cx="1152360" cy="1800"/>
              </a:xfrm>
              <a:prstGeom prst="line">
                <a:avLst/>
              </a:prstGeom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219240" y="2490840"/>
                <a:ext cx="576000" cy="995040"/>
              </a:xfrm>
              <a:prstGeom prst="line">
                <a:avLst/>
              </a:prstGeom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95240" y="2490840"/>
                <a:ext cx="576360" cy="995040"/>
              </a:xfrm>
              <a:prstGeom prst="line">
                <a:avLst/>
              </a:prstGeom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341360" y="3456000"/>
                <a:ext cx="73080" cy="73080"/>
              </a:xfrm>
              <a:prstGeom prst="ellipse">
                <a:avLst/>
              </a:prstGeom>
              <a:solidFill>
                <a:srgbClr val="ffff00"/>
              </a:solidFill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0440" y="3456000"/>
                <a:ext cx="73080" cy="73080"/>
              </a:xfrm>
              <a:prstGeom prst="ellipse">
                <a:avLst/>
              </a:prstGeom>
              <a:solidFill>
                <a:srgbClr val="ffff00"/>
              </a:solidFill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6800" y="2462040"/>
                <a:ext cx="71280" cy="73080"/>
              </a:xfrm>
              <a:prstGeom prst="ellipse">
                <a:avLst/>
              </a:prstGeom>
              <a:solidFill>
                <a:srgbClr val="ffff00"/>
              </a:solidFill>
              <a:ln w="414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"/>
          <p:cNvSpPr/>
          <p:nvPr/>
        </p:nvSpPr>
        <p:spPr>
          <a:xfrm>
            <a:off x="1265760" y="3789360"/>
            <a:ext cx="93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）、填写下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971640" y="4317840"/>
          <a:ext cx="7103880" cy="1167120"/>
        </p:xfrm>
        <a:graphic>
          <a:graphicData uri="http://schemas.openxmlformats.org/drawingml/2006/table">
            <a:tbl>
              <a:tblPr/>
              <a:tblGrid>
                <a:gridCol w="2084400"/>
                <a:gridCol w="1003320"/>
                <a:gridCol w="1004760"/>
                <a:gridCol w="1003320"/>
                <a:gridCol w="1004760"/>
                <a:gridCol w="1003320"/>
              </a:tblGrid>
              <a:tr h="646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三角形个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火柴棒根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"/>
          <p:cNvSpPr/>
          <p:nvPr/>
        </p:nvSpPr>
        <p:spPr>
          <a:xfrm>
            <a:off x="3111480" y="48880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09400" y="5018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58800" y="5018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308200" y="5018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357240" y="5018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357320" y="50180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8000" y="558972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）、照这样的规律搭下去，搭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n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个这样的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需要多少根火柴棒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-36360" y="476280"/>
            <a:ext cx="892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cc"/>
                </a:solidFill>
                <a:latin typeface="Comic Sans MS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.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（嘉兴）每一个多边形都可按图甲的方法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割成若干个三角形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.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请根据图甲的方法，将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乙中的七边形分割成若干个三角形；按图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的方法，十二边形可以分割成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Comic Sans MS"/>
              </a:rPr>
              <a:t>      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个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（只要求写出答案）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89800" y="342900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89800" y="4221000"/>
            <a:ext cx="1584360" cy="11527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89800" y="4221000"/>
            <a:ext cx="2232000" cy="432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6589800" y="3860280"/>
            <a:ext cx="2087640" cy="360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960720" y="4576680"/>
            <a:ext cx="1179720" cy="88128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60720" y="4576680"/>
            <a:ext cx="1514520" cy="698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960720" y="3816360"/>
            <a:ext cx="1324080" cy="76032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05160" y="4187880"/>
            <a:ext cx="974520" cy="9176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2405160" y="4152600"/>
            <a:ext cx="1222200" cy="3492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366840" y="4029120"/>
            <a:ext cx="1469880" cy="70632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3960360" y="4576320"/>
            <a:ext cx="320760" cy="73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4281480" y="5316120"/>
            <a:ext cx="858960" cy="141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5140440" y="4646520"/>
            <a:ext cx="334800" cy="81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84800" y="3816360"/>
            <a:ext cx="190440" cy="830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98920" y="3516480"/>
            <a:ext cx="785880" cy="29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3960720" y="3516120"/>
            <a:ext cx="538200" cy="1060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2404800" y="4187520"/>
            <a:ext cx="261720" cy="9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2666880" y="5105520"/>
            <a:ext cx="7128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4800" y="6094440"/>
            <a:ext cx="2523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300" spc="-1" strike="noStrike">
                <a:solidFill>
                  <a:srgbClr val="ff3300"/>
                </a:solidFill>
                <a:latin typeface="宋体"/>
              </a:rPr>
              <a:t>甲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379680" y="4152960"/>
            <a:ext cx="247680" cy="9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41480" y="3498840"/>
            <a:ext cx="785880" cy="65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405160" y="3498840"/>
            <a:ext cx="436320" cy="68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366840" y="4735080"/>
            <a:ext cx="1164960" cy="476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1531440" y="4029120"/>
            <a:ext cx="304920" cy="118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312920" y="3498840"/>
            <a:ext cx="523800" cy="530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66840" y="3498480"/>
            <a:ext cx="946080" cy="123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6568920" y="4196880"/>
            <a:ext cx="595440" cy="1079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7164360" y="5276520"/>
            <a:ext cx="102384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468200" y="6097680"/>
            <a:ext cx="214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宋体"/>
              </a:rPr>
              <a:t>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8188200" y="4618080"/>
            <a:ext cx="595440" cy="779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653320" y="3836880"/>
            <a:ext cx="130320" cy="781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096400" y="3432240"/>
            <a:ext cx="556920" cy="40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113600" y="3402000"/>
            <a:ext cx="98280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6568920" y="3401640"/>
            <a:ext cx="544680" cy="795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2554920" y="4219920"/>
            <a:ext cx="360360" cy="3384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88200 h 3384720"/>
              <a:gd name="textAreaBottom" fmla="*/ 3296520 h 33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0920" y="3213000"/>
            <a:ext cx="5545080" cy="3456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084720" y="3213000"/>
            <a:ext cx="2916360" cy="3384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9280" y="476280"/>
            <a:ext cx="693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4.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观察一列数：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，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8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，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13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，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18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，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23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，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28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，……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依次规律，在数列中第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2003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个数是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980360" y="1725480"/>
            <a:ext cx="537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cc"/>
                </a:solidFill>
                <a:latin typeface="Comic Sans MS"/>
              </a:rPr>
              <a:t>5</a:t>
            </a:r>
            <a:r>
              <a:rPr b="1" i="1" lang="zh-CN" sz="3200" spc="-1" strike="noStrike">
                <a:solidFill>
                  <a:srgbClr val="0000cc"/>
                </a:solidFill>
                <a:latin typeface="Comic Sans MS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下面一组按规律排列的数：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，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，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4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，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8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，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16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    ……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，第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2002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个数应是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276720" y="2101680"/>
            <a:ext cx="2592360" cy="201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523880" y="1397160"/>
          <a:ext cx="6096240" cy="404784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677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67480" y="6095880"/>
            <a:ext cx="13906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28 0.00301 L 0.19236 -0.003 E">
                                      <p:cBhvr>
                                        <p:cTn id="117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0601 L 0 0.10056 E">
                                      <p:cBhvr>
                                        <p:cTn id="121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51826E-006 L -0.09514 3.51826E-006 C -0.1375 3.51826E-006 -0.18906 0.05131 -0.18906 0.09385 L -0.18906 0.18862 E">
                                      <p:cBhvr>
                                        <p:cTn id="125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01:02:27Z</dcterms:created>
  <dc:creator>tf</dc:creator>
  <dc:description/>
  <dc:language>en-US</dc:language>
  <cp:lastModifiedBy>array</cp:lastModifiedBy>
  <dcterms:modified xsi:type="dcterms:W3CDTF">2004-01-15T08:23:23Z</dcterms:modified>
  <cp:revision>14</cp:revision>
  <dc:subject/>
  <dc:title>幻灯片 1</dc:title>
</cp:coreProperties>
</file>