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1.gif" ContentType="image/gif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BC4-7B03-4EFE-9DD7-65A00B35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130-EBDA-41DB-885B-52FF281B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D4F-BD2E-4F4B-9BDF-89F06236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F95-B022-4A4B-9015-EAD04C46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AF3-BB57-4A70-BA9A-FDDC79B1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3F5-C62C-41BA-BB2D-2BB424F6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301-35B3-4FC9-AAED-85E035A3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F67-15D2-484A-BA91-10629FEC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FC9-593E-4BAA-BF98-FA70A0DB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8BC-FDDC-436C-A18A-EBB5FD19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A4D-A8C1-41CD-9832-FB87C9C6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4BF-375E-4862-8FD7-F73D34A0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B2BE-068F-4578-9E71-A8026DA27F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7280" y="156528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跟我一起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flipH="1">
            <a:off x="4190760" y="2819520"/>
            <a:ext cx="2592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80360" cy="4797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260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下图是我国的五座名山，合称“五岳”。它们分别是中岳嵩山，东岳泰山，（    ）岳衡山，（    ）岳华山，（   ）岳恒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15080" y="4292640"/>
            <a:ext cx="15289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836960" y="1787400"/>
            <a:ext cx="2133360" cy="2153520"/>
            <a:chOff x="4836960" y="1787400"/>
            <a:chExt cx="2133360" cy="2153520"/>
          </a:xfrm>
        </p:grpSpPr>
        <p:sp>
          <p:nvSpPr>
            <p:cNvPr id="88" name=""/>
            <p:cNvSpPr/>
            <p:nvPr/>
          </p:nvSpPr>
          <p:spPr>
            <a:xfrm>
              <a:off x="4836960" y="1804680"/>
              <a:ext cx="2133360" cy="21337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23280" y="1787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3481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75760" y="2643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42360" y="2643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751360" y="2185920"/>
              <a:ext cx="304560" cy="1371240"/>
              <a:chOff x="5751360" y="2185920"/>
              <a:chExt cx="304560" cy="1371240"/>
            </a:xfrm>
          </p:grpSpPr>
          <p:sp>
            <p:nvSpPr>
              <p:cNvPr id="94" name=""/>
              <p:cNvSpPr/>
              <p:nvPr/>
            </p:nvSpPr>
            <p:spPr>
              <a:xfrm>
                <a:off x="5751360" y="2185920"/>
                <a:ext cx="304560" cy="68580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751360" y="2871000"/>
                <a:ext cx="304560" cy="685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6208560" y="3143160"/>
            <a:ext cx="51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东</a:t>
            </a:r>
            <a:r>
              <a:rPr b="1" lang="zh-TW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45760" y="213372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西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55120" y="314316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西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8840" y="2133720"/>
            <a:ext cx="51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东</a:t>
            </a:r>
            <a:r>
              <a:rPr b="1" lang="zh-TW" sz="2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58920" y="476280"/>
            <a:ext cx="4883040" cy="2560680"/>
            <a:chOff x="1258920" y="476280"/>
            <a:chExt cx="4883040" cy="2560680"/>
          </a:xfrm>
        </p:grpSpPr>
        <p:grpSp>
          <p:nvGrpSpPr>
            <p:cNvPr id="101" name=""/>
            <p:cNvGrpSpPr/>
            <p:nvPr/>
          </p:nvGrpSpPr>
          <p:grpSpPr>
            <a:xfrm>
              <a:off x="2268360" y="476280"/>
              <a:ext cx="3873600" cy="1035000"/>
              <a:chOff x="2268360" y="476280"/>
              <a:chExt cx="3873600" cy="1035000"/>
            </a:xfrm>
          </p:grpSpPr>
          <p:sp>
            <p:nvSpPr>
              <p:cNvPr id="102" name=""/>
              <p:cNvSpPr/>
              <p:nvPr/>
            </p:nvSpPr>
            <p:spPr>
              <a:xfrm flipH="1">
                <a:off x="2268360" y="476280"/>
                <a:ext cx="3873600" cy="1035000"/>
              </a:xfrm>
              <a:prstGeom prst="wedgeRoundRectCallout">
                <a:avLst>
                  <a:gd name="adj1" fmla="val 46717"/>
                  <a:gd name="adj2" fmla="val 74851"/>
                  <a:gd name="adj3" fmla="val 16667"/>
                </a:avLst>
              </a:prstGeom>
              <a:solidFill>
                <a:srgbClr val="ffff00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3134520" y="476280"/>
                <a:ext cx="21009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怎样说出北面和东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之间的方向呢？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258920" y="1484280"/>
              <a:ext cx="1320840" cy="15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611280" y="3573360"/>
            <a:ext cx="7912080" cy="2525760"/>
            <a:chOff x="611280" y="3573360"/>
            <a:chExt cx="7912080" cy="2525760"/>
          </a:xfrm>
        </p:grpSpPr>
        <p:grpSp>
          <p:nvGrpSpPr>
            <p:cNvPr id="106" name=""/>
            <p:cNvGrpSpPr/>
            <p:nvPr/>
          </p:nvGrpSpPr>
          <p:grpSpPr>
            <a:xfrm>
              <a:off x="2908440" y="4597560"/>
              <a:ext cx="5614920" cy="1295280"/>
              <a:chOff x="2908440" y="4597560"/>
              <a:chExt cx="5614920" cy="1295280"/>
            </a:xfrm>
          </p:grpSpPr>
          <p:sp>
            <p:nvSpPr>
              <p:cNvPr id="107" name=""/>
              <p:cNvSpPr/>
              <p:nvPr/>
            </p:nvSpPr>
            <p:spPr>
              <a:xfrm>
                <a:off x="2908440" y="4597560"/>
                <a:ext cx="5614920" cy="1295280"/>
              </a:xfrm>
              <a:prstGeom prst="wedgeRoundRectCallout">
                <a:avLst>
                  <a:gd name="adj1" fmla="val -58537"/>
                  <a:gd name="adj2" fmla="val -24018"/>
                  <a:gd name="adj3" fmla="val 16667"/>
                </a:avLst>
              </a:prstGeom>
              <a:solidFill>
                <a:srgbClr val="ffff00"/>
              </a:solidFill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97080" y="4656240"/>
                <a:ext cx="5426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要更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精确的表达</a:t>
                </a: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方向，除了用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东</a:t>
                </a: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、南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西和北四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个</a:t>
                </a: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主要方向外，指南針上通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都刻有：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东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新細明體"/>
                  </a:rPr>
                  <a:t>南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、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东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新細明體"/>
                  </a:rPr>
                  <a:t>北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、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新細明體"/>
                  </a:rPr>
                  <a:t>西南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和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新細明體"/>
                  </a:rPr>
                  <a:t>西北</a:t>
                </a: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611280" y="3573360"/>
              <a:ext cx="2036520" cy="252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990720" y="927000"/>
            <a:ext cx="6324480" cy="3111480"/>
            <a:chOff x="990720" y="927000"/>
            <a:chExt cx="6324480" cy="3111480"/>
          </a:xfrm>
        </p:grpSpPr>
        <p:sp>
          <p:nvSpPr>
            <p:cNvPr id="111" name=""/>
            <p:cNvSpPr/>
            <p:nvPr/>
          </p:nvSpPr>
          <p:spPr>
            <a:xfrm>
              <a:off x="990720" y="1219320"/>
              <a:ext cx="6324480" cy="28191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ccff"/>
                </a:gs>
                <a:gs pos="100000">
                  <a:srgbClr val="ffffcc"/>
                </a:gs>
              </a:gsLst>
              <a:lin ang="13500000"/>
            </a:gradFill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71760" y="1619280"/>
              <a:ext cx="990360" cy="380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5320" y="1619280"/>
              <a:ext cx="990360" cy="380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57960" y="1619280"/>
              <a:ext cx="990360" cy="380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05320" y="2505240"/>
              <a:ext cx="990360" cy="380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57960" y="2505240"/>
              <a:ext cx="990360" cy="380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5320" y="3400560"/>
              <a:ext cx="990360" cy="380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57960" y="3400560"/>
              <a:ext cx="990360" cy="380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71760" y="3400560"/>
              <a:ext cx="990360" cy="380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1760" y="2505240"/>
              <a:ext cx="990360" cy="380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90280" y="1573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華康少女文字W6"/>
                  <a:ea typeface="華康少女文字W6"/>
                </a:rPr>
                <a:t>入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51480" y="1573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華康少女文字W6"/>
                  <a:ea typeface="華康少女文字W6"/>
                </a:rPr>
                <a:t>犀牛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94760" y="1573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華康少女文字W6"/>
                  <a:ea typeface="華康少女文字W6"/>
                </a:rPr>
                <a:t>美食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08560" y="2462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華康少女文字W6"/>
                  <a:ea typeface="華康少女文字W6"/>
                </a:rPr>
                <a:t>水族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51480" y="2462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華康少女文字W6"/>
                  <a:ea typeface="華康少女文字W6"/>
                </a:rPr>
                <a:t>百鸟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94760" y="2462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華康少女文字W6"/>
                  <a:ea typeface="華康少女文字W6"/>
                </a:rPr>
                <a:t>老虎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08560" y="3352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華康少女文字W6"/>
                  <a:ea typeface="華康少女文字W6"/>
                </a:rPr>
                <a:t>昆虫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51480" y="3352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華康少女文字W6"/>
                  <a:ea typeface="華康少女文字W6"/>
                </a:rPr>
                <a:t>洗手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1400" y="3352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華康少女文字W6"/>
                  <a:ea typeface="華康少女文字W6"/>
                </a:rPr>
                <a:t>出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692040" y="1171440"/>
              <a:ext cx="363600" cy="1014120"/>
              <a:chOff x="6692040" y="1171440"/>
              <a:chExt cx="363600" cy="101412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6873840" y="1576080"/>
                <a:ext cx="0" cy="6094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35600" y="1881360"/>
                <a:ext cx="27648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92040" y="1171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333399"/>
                    </a:solidFill>
                    <a:latin typeface="華康少女文字W6"/>
                    <a:ea typeface="華康少女文字W6"/>
                  </a:rPr>
                  <a:t>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623400" y="927000"/>
              <a:ext cx="820800" cy="52056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50000">
                  <a:srgbClr val="99ccff"/>
                </a:gs>
                <a:gs pos="100000">
                  <a:srgbClr val="ccffff"/>
                </a:gs>
              </a:gsLst>
              <a:lin ang="5400000"/>
            </a:gra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華康少女文字W6"/>
                  <a:ea typeface="華康少女文字W6"/>
                </a:rPr>
                <a:t>动物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83680" y="4137120"/>
            <a:ext cx="8544240" cy="490320"/>
            <a:chOff x="283680" y="4137120"/>
            <a:chExt cx="8544240" cy="490320"/>
          </a:xfrm>
        </p:grpSpPr>
        <p:grpSp>
          <p:nvGrpSpPr>
            <p:cNvPr id="136" name=""/>
            <p:cNvGrpSpPr/>
            <p:nvPr/>
          </p:nvGrpSpPr>
          <p:grpSpPr>
            <a:xfrm>
              <a:off x="283680" y="4137120"/>
              <a:ext cx="8544240" cy="490320"/>
              <a:chOff x="283680" y="4137120"/>
              <a:chExt cx="8544240" cy="490320"/>
            </a:xfrm>
          </p:grpSpPr>
          <p:sp>
            <p:nvSpPr>
              <p:cNvPr id="137" name=""/>
              <p:cNvSpPr/>
              <p:nvPr/>
            </p:nvSpPr>
            <p:spPr>
              <a:xfrm>
                <a:off x="283680" y="4137120"/>
                <a:ext cx="85442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1. 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百鸟居</a:t>
                </a:r>
                <a:r>
                  <a:rPr b="1" lang="zh-TW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在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水族馆</a:t>
                </a:r>
                <a:r>
                  <a:rPr b="1" lang="zh-TW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          方，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水族馆</a:t>
                </a:r>
                <a:r>
                  <a:rPr b="1" lang="zh-TW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在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百鸟居</a:t>
                </a:r>
                <a:r>
                  <a:rPr b="1" lang="zh-TW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的          方。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32000" y="4138560"/>
                <a:ext cx="762120" cy="488880"/>
              </a:xfrm>
              <a:prstGeom prst="rect">
                <a:avLst/>
              </a:prstGeom>
              <a:solidFill>
                <a:srgbClr val="c5f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7308720" y="4137120"/>
              <a:ext cx="762120" cy="488880"/>
            </a:xfrm>
            <a:prstGeom prst="rect">
              <a:avLst/>
            </a:prstGeom>
            <a:solidFill>
              <a:srgbClr val="c5f3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336840" y="414972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ff3300"/>
                </a:solidFill>
                <a:latin typeface="華康少女文字W6"/>
                <a:ea typeface="華康少女文字W6"/>
              </a:rPr>
              <a:t>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42080" y="414504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ff3300"/>
                </a:solidFill>
                <a:latin typeface="華康少女文字W6"/>
                <a:ea typeface="華康少女文字W6"/>
              </a:rPr>
              <a:t>西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56800" y="4797360"/>
            <a:ext cx="7157520" cy="514440"/>
            <a:chOff x="856800" y="4797360"/>
            <a:chExt cx="7157520" cy="514440"/>
          </a:xfrm>
        </p:grpSpPr>
        <p:grpSp>
          <p:nvGrpSpPr>
            <p:cNvPr id="143" name=""/>
            <p:cNvGrpSpPr/>
            <p:nvPr/>
          </p:nvGrpSpPr>
          <p:grpSpPr>
            <a:xfrm>
              <a:off x="856800" y="4821120"/>
              <a:ext cx="7157520" cy="490680"/>
              <a:chOff x="856800" y="4821120"/>
              <a:chExt cx="7157520" cy="490680"/>
            </a:xfrm>
          </p:grpSpPr>
          <p:sp>
            <p:nvSpPr>
              <p:cNvPr id="144" name=""/>
              <p:cNvSpPr/>
              <p:nvPr/>
            </p:nvSpPr>
            <p:spPr>
              <a:xfrm>
                <a:off x="856800" y="4821120"/>
                <a:ext cx="71575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2. </a:t>
                </a:r>
                <a:r>
                  <a:rPr b="1" lang="zh-TW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出口在老虎穴的          方，老虎穴在出口的          方。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33880" y="4822920"/>
                <a:ext cx="761760" cy="488880"/>
              </a:xfrm>
              <a:prstGeom prst="rect">
                <a:avLst/>
              </a:prstGeom>
              <a:solidFill>
                <a:srgbClr val="c5f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7122960" y="4797360"/>
              <a:ext cx="762120" cy="488880"/>
            </a:xfrm>
            <a:prstGeom prst="rect">
              <a:avLst/>
            </a:prstGeom>
            <a:solidFill>
              <a:srgbClr val="c5f3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479400" y="486900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ff3300"/>
                </a:solidFill>
                <a:latin typeface="華康少女文字W6"/>
                <a:ea typeface="華康少女文字W6"/>
              </a:rPr>
              <a:t>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95760" y="472428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ff3300"/>
                </a:solidFill>
                <a:latin typeface="華康少女文字W6"/>
                <a:ea typeface="華康少女文字W6"/>
              </a:rPr>
              <a:t>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9920" y="5505480"/>
            <a:ext cx="8742240" cy="490680"/>
            <a:chOff x="349920" y="5505480"/>
            <a:chExt cx="8742240" cy="490680"/>
          </a:xfrm>
        </p:grpSpPr>
        <p:grpSp>
          <p:nvGrpSpPr>
            <p:cNvPr id="150" name=""/>
            <p:cNvGrpSpPr/>
            <p:nvPr/>
          </p:nvGrpSpPr>
          <p:grpSpPr>
            <a:xfrm>
              <a:off x="349920" y="5505480"/>
              <a:ext cx="8742240" cy="489960"/>
              <a:chOff x="349920" y="5505480"/>
              <a:chExt cx="8742240" cy="489960"/>
            </a:xfrm>
          </p:grpSpPr>
          <p:sp>
            <p:nvSpPr>
              <p:cNvPr id="151" name=""/>
              <p:cNvSpPr/>
              <p:nvPr/>
            </p:nvSpPr>
            <p:spPr>
              <a:xfrm>
                <a:off x="349920" y="5505480"/>
                <a:ext cx="87422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3. 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昆虫屋</a:t>
                </a:r>
                <a:r>
                  <a:rPr b="1" lang="zh-TW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在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百鸟居</a:t>
                </a:r>
                <a:r>
                  <a:rPr b="1" lang="zh-TW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的          方，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百鸟居</a:t>
                </a:r>
                <a:r>
                  <a:rPr b="1" lang="zh-TW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在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昆虫屋</a:t>
                </a:r>
                <a:r>
                  <a:rPr b="1" lang="zh-TW" sz="2600" spc="-1" strike="noStrike">
                    <a:solidFill>
                      <a:srgbClr val="000000"/>
                    </a:solidFill>
                    <a:latin typeface="華康少女文字W6"/>
                    <a:ea typeface="華康少女文字W6"/>
                  </a:rPr>
                  <a:t>的          方。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22600" y="5505480"/>
                <a:ext cx="762120" cy="488880"/>
              </a:xfrm>
              <a:prstGeom prst="rect">
                <a:avLst/>
              </a:prstGeom>
              <a:solidFill>
                <a:srgbClr val="c5f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697880" y="5506920"/>
              <a:ext cx="761760" cy="489240"/>
            </a:xfrm>
            <a:prstGeom prst="rect">
              <a:avLst/>
            </a:prstGeom>
            <a:solidFill>
              <a:srgbClr val="c5f3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610800" y="5516640"/>
            <a:ext cx="53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ff3300"/>
                </a:solidFill>
                <a:latin typeface="華康少女文字W6"/>
                <a:ea typeface="華康少女文字W6"/>
              </a:rPr>
              <a:t>西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86080" y="5516640"/>
            <a:ext cx="53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3300"/>
                </a:solidFill>
                <a:latin typeface="華康少女文字W6"/>
                <a:ea typeface="華康少女文字W6"/>
              </a:rPr>
              <a:t>东</a:t>
            </a:r>
            <a:r>
              <a:rPr b="1" lang="zh-TW" sz="2300" spc="-1" strike="noStrike">
                <a:solidFill>
                  <a:srgbClr val="ff3300"/>
                </a:solidFill>
                <a:latin typeface="華康少女文字W6"/>
                <a:ea typeface="華康少女文字W6"/>
              </a:rPr>
              <a:t>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49920" y="6165720"/>
            <a:ext cx="8742600" cy="522000"/>
            <a:chOff x="349920" y="6165720"/>
            <a:chExt cx="8742600" cy="522000"/>
          </a:xfrm>
        </p:grpSpPr>
        <p:sp>
          <p:nvSpPr>
            <p:cNvPr id="157" name=""/>
            <p:cNvSpPr/>
            <p:nvPr/>
          </p:nvSpPr>
          <p:spPr>
            <a:xfrm>
              <a:off x="349920" y="6197760"/>
              <a:ext cx="8742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華康少女文字W6"/>
                  <a:ea typeface="華康少女文字W6"/>
                </a:rPr>
                <a:t>4. </a:t>
              </a:r>
              <a:r>
                <a:rPr b="1" lang="zh-CN" sz="2600" spc="-1" strike="noStrike">
                  <a:solidFill>
                    <a:srgbClr val="000000"/>
                  </a:solidFill>
                  <a:latin typeface="華康少女文字W6"/>
                  <a:ea typeface="華康少女文字W6"/>
                </a:rPr>
                <a:t>犀牛阁</a:t>
              </a:r>
              <a:r>
                <a:rPr b="1" lang="zh-TW" sz="2600" spc="-1" strike="noStrike">
                  <a:solidFill>
                    <a:srgbClr val="000000"/>
                  </a:solidFill>
                  <a:latin typeface="華康少女文字W6"/>
                  <a:ea typeface="華康少女文字W6"/>
                </a:rPr>
                <a:t>在老虎穴的          方，老虎穴在</a:t>
              </a:r>
              <a:r>
                <a:rPr b="1" lang="zh-CN" sz="2600" spc="-1" strike="noStrike">
                  <a:solidFill>
                    <a:srgbClr val="000000"/>
                  </a:solidFill>
                  <a:latin typeface="華康少女文字W6"/>
                  <a:ea typeface="華康少女文字W6"/>
                </a:rPr>
                <a:t>犀牛阁</a:t>
              </a:r>
              <a:r>
                <a:rPr b="1" lang="zh-TW" sz="2600" spc="-1" strike="noStrike">
                  <a:solidFill>
                    <a:srgbClr val="000000"/>
                  </a:solidFill>
                  <a:latin typeface="華康少女文字W6"/>
                  <a:ea typeface="華康少女文字W6"/>
                </a:rPr>
                <a:t>的          方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19640" y="6165720"/>
              <a:ext cx="761760" cy="489240"/>
            </a:xfrm>
            <a:prstGeom prst="rect">
              <a:avLst/>
            </a:prstGeom>
            <a:solidFill>
              <a:srgbClr val="c5f3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6240" y="6195960"/>
              <a:ext cx="762120" cy="488880"/>
            </a:xfrm>
            <a:prstGeom prst="rect">
              <a:avLst/>
            </a:prstGeom>
            <a:solidFill>
              <a:srgbClr val="c5f3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538080" y="6165720"/>
            <a:ext cx="53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ff3300"/>
                </a:solidFill>
                <a:latin typeface="華康少女文字W6"/>
                <a:ea typeface="華康少女文字W6"/>
              </a:rPr>
              <a:t>西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86080" y="6165720"/>
            <a:ext cx="53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3300"/>
                </a:solidFill>
                <a:latin typeface="華康少女文字W6"/>
                <a:ea typeface="華康少女文字W6"/>
              </a:rPr>
              <a:t>东</a:t>
            </a:r>
            <a:r>
              <a:rPr b="1" lang="zh-TW" sz="2300" spc="-1" strike="noStrike">
                <a:solidFill>
                  <a:srgbClr val="ff3300"/>
                </a:solidFill>
                <a:latin typeface="華康少女文字W6"/>
                <a:ea typeface="華康少女文字W6"/>
              </a:rPr>
              <a:t>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916360" y="189000"/>
            <a:ext cx="2736720" cy="720360"/>
            <a:chOff x="2916360" y="189000"/>
            <a:chExt cx="2736720" cy="720360"/>
          </a:xfrm>
        </p:grpSpPr>
        <p:grpSp>
          <p:nvGrpSpPr>
            <p:cNvPr id="163" name=""/>
            <p:cNvGrpSpPr/>
            <p:nvPr/>
          </p:nvGrpSpPr>
          <p:grpSpPr>
            <a:xfrm>
              <a:off x="2916360" y="189000"/>
              <a:ext cx="2736720" cy="720360"/>
              <a:chOff x="2916360" y="189000"/>
              <a:chExt cx="2736720" cy="720360"/>
            </a:xfrm>
          </p:grpSpPr>
          <p:sp>
            <p:nvSpPr>
              <p:cNvPr id="164" name=""/>
              <p:cNvSpPr/>
              <p:nvPr/>
            </p:nvSpPr>
            <p:spPr>
              <a:xfrm rot="5400000">
                <a:off x="3556440" y="-451080"/>
                <a:ext cx="720360" cy="2000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4924800" y="181080"/>
                <a:ext cx="720360" cy="735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060720" y="189000"/>
              <a:ext cx="252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華康少女文字W6"/>
                  <a:ea typeface="華康少女文字W6"/>
                </a:rPr>
                <a:t>练一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7677000" cy="5505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940360" y="1989000"/>
            <a:ext cx="1511280" cy="459720"/>
          </a:xfrm>
          <a:prstGeom prst="rect">
            <a:avLst/>
          </a:prstGeom>
          <a:noFill/>
          <a:ln w="2844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楷体"/>
              </a:rPr>
              <a:t>多功能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858680" cy="1936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912000" y="0"/>
            <a:ext cx="2232000" cy="197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64000" y="260280"/>
            <a:ext cx="3456000" cy="1152720"/>
          </a:xfrm>
          <a:prstGeom prst="cloudCallout">
            <a:avLst>
              <a:gd name="adj1" fmla="val -50828"/>
              <a:gd name="adj2" fmla="val 34847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多功能厅在小明的哪个方向呢！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4000" y="260280"/>
            <a:ext cx="3456000" cy="1152720"/>
          </a:xfrm>
          <a:prstGeom prst="cloudCallout">
            <a:avLst>
              <a:gd name="adj1" fmla="val -50828"/>
              <a:gd name="adj2" fmla="val 34847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可以利用指南针帮助我们辨别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2924280"/>
            <a:ext cx="1800360" cy="1008000"/>
          </a:xfrm>
          <a:prstGeom prst="cloudCallout">
            <a:avLst>
              <a:gd name="adj1" fmla="val -64638"/>
              <a:gd name="adj2" fmla="val 30314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在校园的东北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0" y="457200"/>
          <a:ext cx="120960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457200"/>
                    <a:ext cx="12096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好了休息一下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楷体"/>
              </a:rPr>
              <a:t>一会我们一起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楷体"/>
              </a:rPr>
              <a:t>看看我的收获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343400" y="3886200"/>
            <a:ext cx="4266720" cy="2666880"/>
            <a:chOff x="4343400" y="3886200"/>
            <a:chExt cx="4266720" cy="26668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6427080" y="3886200"/>
              <a:ext cx="218304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343400" y="4075560"/>
              <a:ext cx="2034000" cy="1388520"/>
            </a:xfrm>
            <a:prstGeom prst="cloudCallout">
              <a:avLst>
                <a:gd name="adj1" fmla="val 75967"/>
                <a:gd name="adj2" fmla="val 3134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5732280" y="4264920"/>
              <a:ext cx="645120" cy="8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 txBox="1"/>
            <p:nvPr/>
          </p:nvSpPr>
          <p:spPr>
            <a:xfrm>
              <a:off x="4541400" y="4264920"/>
              <a:ext cx="1339560" cy="88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华文楷体"/>
                </a:rPr>
                <a:t>走啦！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楷体"/>
                <a:ea typeface="华文楷体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19520" y="1676520"/>
            <a:ext cx="367344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位置与方向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413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小明去北京旅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276800" cy="574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67280" y="1700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你能帮助小明看一下地图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19280" y="189000"/>
            <a:ext cx="62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我们先来学习一下方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早晨，太阳从哪一边升起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11640" y="2060640"/>
            <a:ext cx="40323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朋友，将你的右手指向东方，那么，你的左手边及前面、后面各为哪一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129528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7920" y="3809880"/>
            <a:ext cx="3657600" cy="2286000"/>
          </a:xfrm>
          <a:prstGeom prst="cloudCallout">
            <a:avLst>
              <a:gd name="adj1" fmla="val -25305"/>
              <a:gd name="adj2" fmla="val -763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，太阳公公升起的那一方就是东方了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308240"/>
            <a:ext cx="7677360" cy="550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920" y="88920"/>
            <a:ext cx="2232000" cy="197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189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你能说出教学楼在小明的哪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836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体育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83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图书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682560" y="1287360"/>
            <a:ext cx="8353440" cy="4950000"/>
            <a:chOff x="682560" y="1287360"/>
            <a:chExt cx="8353440" cy="4950000"/>
          </a:xfrm>
        </p:grpSpPr>
        <p:sp>
          <p:nvSpPr>
            <p:cNvPr id="58" name=""/>
            <p:cNvSpPr/>
            <p:nvPr/>
          </p:nvSpPr>
          <p:spPr>
            <a:xfrm>
              <a:off x="4356000" y="1287360"/>
              <a:ext cx="576360" cy="520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08360" y="1935000"/>
              <a:ext cx="2016000" cy="520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教学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80000" y="3376440"/>
              <a:ext cx="2016000" cy="520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操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32000" y="3403440"/>
              <a:ext cx="1295280" cy="547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46920" y="3376440"/>
              <a:ext cx="1440000" cy="547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95640" y="5132520"/>
              <a:ext cx="1440000" cy="547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2560" y="3448080"/>
              <a:ext cx="432000" cy="4856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04360" y="3376440"/>
              <a:ext cx="431640" cy="486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56000" y="5751360"/>
              <a:ext cx="576360" cy="486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716360" y="2655720"/>
              <a:ext cx="0" cy="64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16360" y="4022640"/>
              <a:ext cx="0" cy="10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67280" y="3664080"/>
              <a:ext cx="100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771280" y="3733920"/>
              <a:ext cx="8636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763640" y="476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自己来完成校园的示意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1187280" y="0"/>
            <a:ext cx="7559640" cy="2355840"/>
            <a:chOff x="1187280" y="0"/>
            <a:chExt cx="7559640" cy="235584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7380000" y="647640"/>
              <a:ext cx="1366920" cy="17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187280" y="0"/>
              <a:ext cx="6121440" cy="1655640"/>
            </a:xfrm>
            <a:prstGeom prst="cloudCallout">
              <a:avLst>
                <a:gd name="adj1" fmla="val 55393"/>
                <a:gd name="adj2" fmla="val 35907"/>
              </a:avLst>
            </a:prstGeom>
            <a:solidFill>
              <a:srgbClr val="ffff0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地图上通常是按上北下南，左西右东绘制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539640" y="2379600"/>
          <a:ext cx="7704360" cy="330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379600"/>
                    <a:ext cx="770436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901800"/>
            <a:ext cx="8353440" cy="510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32000" y="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小明要去少年宫，你知道怎么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2000" y="2349360"/>
            <a:ext cx="2232000" cy="1079640"/>
          </a:xfrm>
          <a:prstGeom prst="cloudCallout">
            <a:avLst>
              <a:gd name="adj1" fmla="val 53699"/>
              <a:gd name="adj2" fmla="val 59560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请问少年宫怎么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4076640"/>
            <a:ext cx="2089080" cy="934920"/>
          </a:xfrm>
          <a:prstGeom prst="cloudCallout">
            <a:avLst>
              <a:gd name="adj1" fmla="val -59953"/>
              <a:gd name="adj2" fmla="val -90745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先向东再向北，就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651640" y="765000"/>
            <a:ext cx="2449440" cy="2075040"/>
            <a:chOff x="5651640" y="765000"/>
            <a:chExt cx="2449440" cy="207504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 flipH="1">
              <a:off x="5651640" y="1773360"/>
              <a:ext cx="6840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300720" y="765000"/>
              <a:ext cx="1800360" cy="935280"/>
            </a:xfrm>
            <a:prstGeom prst="wedgeRoundRectCallout">
              <a:avLst>
                <a:gd name="adj1" fmla="val -44708"/>
                <a:gd name="adj2" fmla="val 70032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如果小明要到体育馆来你知道怎么走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2:19:53Z</dcterms:created>
  <dc:creator>刘月红</dc:creator>
  <dc:description/>
  <dc:language>en-US</dc:language>
  <cp:lastModifiedBy>zfy</cp:lastModifiedBy>
  <dcterms:modified xsi:type="dcterms:W3CDTF">2005-08-30T01:08:19Z</dcterms:modified>
  <cp:revision>20</cp:revision>
  <dc:subject/>
  <dc:title>幻灯片 1</dc:title>
</cp:coreProperties>
</file>