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79B-2F8B-443B-9C41-72EC0303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549-E416-49F8-8D0A-01ACCA1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BCE-419F-4282-BBD2-B9170AAD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B8A-B67B-448E-9576-B00BD634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41D-04FD-4EA3-B3BB-F052757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3EC-0374-4C2B-8C44-53CC3089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AE7-8A2C-4E19-BD8E-84089D9F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2DF-558A-473A-BF40-B460491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9E7-A7C3-43A9-B9C9-64FC928D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7D1-0619-4251-AEB7-D5AAA435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D45-B143-459D-B49F-A89D633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5E9-1491-4902-9951-42FA90F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5175-6F5C-431F-9AE7-D83B31382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二千" descr=""/>
          <p:cNvPicPr/>
          <p:nvPr/>
        </p:nvPicPr>
        <p:blipFill>
          <a:blip r:embed="rId1"/>
          <a:stretch/>
        </p:blipFill>
        <p:spPr>
          <a:xfrm>
            <a:off x="152280" y="669960"/>
            <a:ext cx="8839440" cy="618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49560" y="889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0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49560" y="1825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2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2002" descr=""/>
          <p:cNvPicPr/>
          <p:nvPr/>
        </p:nvPicPr>
        <p:blipFill>
          <a:blip r:embed="rId1"/>
          <a:stretch/>
        </p:blipFill>
        <p:spPr>
          <a:xfrm>
            <a:off x="507960" y="800280"/>
            <a:ext cx="8128080" cy="5981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0" y="685800"/>
            <a:ext cx="2362320" cy="20574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49560" y="1825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2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2002" descr=""/>
          <p:cNvPicPr/>
          <p:nvPr/>
        </p:nvPicPr>
        <p:blipFill>
          <a:blip r:embed="rId1"/>
          <a:stretch/>
        </p:blipFill>
        <p:spPr>
          <a:xfrm>
            <a:off x="507960" y="800280"/>
            <a:ext cx="812808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二千" descr=""/>
          <p:cNvPicPr/>
          <p:nvPr/>
        </p:nvPicPr>
        <p:blipFill>
          <a:blip r:embed="rId1"/>
          <a:stretch/>
        </p:blipFill>
        <p:spPr>
          <a:xfrm>
            <a:off x="152280" y="669960"/>
            <a:ext cx="8839440" cy="6188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560" y="889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0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094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094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6094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6094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6668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6668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6668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6668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47242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47242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7242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7242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880" y="2666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 年 有 </a:t>
            </a: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12 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个 月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49560" y="1825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2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002" descr=""/>
          <p:cNvPicPr/>
          <p:nvPr/>
        </p:nvPicPr>
        <p:blipFill>
          <a:blip r:embed="rId1"/>
          <a:stretch/>
        </p:blipFill>
        <p:spPr>
          <a:xfrm>
            <a:off x="507960" y="800280"/>
            <a:ext cx="8128080" cy="5981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6858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858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6858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6858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27432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7432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7432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27432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48006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006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8006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8006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2666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 年 有 </a:t>
            </a: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12 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个 月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二千" descr=""/>
          <p:cNvPicPr/>
          <p:nvPr/>
        </p:nvPicPr>
        <p:blipFill>
          <a:blip r:embed="rId1"/>
          <a:stretch/>
        </p:blipFill>
        <p:spPr>
          <a:xfrm>
            <a:off x="152280" y="669960"/>
            <a:ext cx="8839440" cy="6188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49560" y="889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0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764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67644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7338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73384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7338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479124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7912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3880" y="2666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大 月 </a:t>
            </a: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31 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天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49560" y="1825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2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2002" descr=""/>
          <p:cNvPicPr/>
          <p:nvPr/>
        </p:nvPicPr>
        <p:blipFill>
          <a:blip r:embed="rId1"/>
          <a:stretch/>
        </p:blipFill>
        <p:spPr>
          <a:xfrm>
            <a:off x="507960" y="800280"/>
            <a:ext cx="8128080" cy="5981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6764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67644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27338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73384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27338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79124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79124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3880" y="2666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大 月 </a:t>
            </a: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31 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天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二千" descr=""/>
          <p:cNvPicPr/>
          <p:nvPr/>
        </p:nvPicPr>
        <p:blipFill>
          <a:blip r:embed="rId1"/>
          <a:stretch/>
        </p:blipFill>
        <p:spPr>
          <a:xfrm>
            <a:off x="152280" y="669960"/>
            <a:ext cx="8839440" cy="618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49560" y="889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0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6094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6668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472428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72428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2666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小 月 </a:t>
            </a: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30 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天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49560" y="1825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2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2002" descr=""/>
          <p:cNvPicPr/>
          <p:nvPr/>
        </p:nvPicPr>
        <p:blipFill>
          <a:blip r:embed="rId1"/>
          <a:stretch/>
        </p:blipFill>
        <p:spPr>
          <a:xfrm>
            <a:off x="507960" y="800280"/>
            <a:ext cx="8128080" cy="5981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05720" y="6858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7432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4800600"/>
            <a:ext cx="236196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800600"/>
            <a:ext cx="2362320" cy="2057400"/>
          </a:xfrm>
          <a:prstGeom prst="ellipse">
            <a:avLst/>
          </a:prstGeom>
          <a:noFill/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2666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小 月 </a:t>
            </a: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30 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天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二千" descr=""/>
          <p:cNvPicPr/>
          <p:nvPr/>
        </p:nvPicPr>
        <p:blipFill>
          <a:blip r:embed="rId1"/>
          <a:stretch/>
        </p:blipFill>
        <p:spPr>
          <a:xfrm>
            <a:off x="152280" y="669960"/>
            <a:ext cx="8839440" cy="6188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49560" y="8892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2000</a:t>
            </a:r>
            <a:r>
              <a:rPr b="1" lang="zh-CN" sz="3200" spc="-1" strike="noStrike">
                <a:solidFill>
                  <a:srgbClr val="008000"/>
                </a:solidFill>
                <a:latin typeface="华文彩云"/>
                <a:ea typeface="华文彩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609480"/>
            <a:ext cx="2362320" cy="20574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9:23:40Z</dcterms:created>
  <dc:creator>yanchao</dc:creator>
  <dc:description/>
  <dc:language>en-US</dc:language>
  <cp:lastModifiedBy>yanchao</cp:lastModifiedBy>
  <dcterms:modified xsi:type="dcterms:W3CDTF">2003-03-26T07:35:48Z</dcterms:modified>
  <cp:revision>16</cp:revision>
  <dc:subject/>
  <dc:title>PowerPoint 演示文稿</dc:title>
</cp:coreProperties>
</file>