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33.jpeg" ContentType="image/jpeg"/>
  <Override PartName="/ppt/media/image24.gif" ContentType="image/gif"/>
  <Override PartName="/ppt/media/image32.jpeg" ContentType="image/jpeg"/>
  <Override PartName="/ppt/media/image23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2.gif" ContentType="image/gif"/>
  <Override PartName="/ppt/media/image26.png" ContentType="image/png"/>
  <Override PartName="/ppt/media/image3.gif" ContentType="image/gif"/>
  <Override PartName="/ppt/media/image6.png" ContentType="image/png"/>
  <Override PartName="/ppt/media/image29.jpeg" ContentType="image/jpeg"/>
  <Override PartName="/ppt/media/image8.jpeg" ContentType="image/jpeg"/>
  <Override PartName="/ppt/media/image35.jpeg" ContentType="image/jpeg"/>
  <Override PartName="/ppt/media/image40.jpeg" ContentType="image/jpeg"/>
  <Override PartName="/ppt/media/image13.jpeg" ContentType="image/jpeg"/>
  <Override PartName="/ppt/media/image30.jpeg" ContentType="image/jpeg"/>
  <Override PartName="/ppt/media/image17.jpeg" ContentType="image/jpeg"/>
  <Override PartName="/ppt/media/image12.gif" ContentType="image/gif"/>
  <Override PartName="/ppt/media/image31.jpeg" ContentType="image/jpeg"/>
  <Override PartName="/ppt/media/image2.png" ContentType="image/png"/>
  <Override PartName="/ppt/media/image25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43.jpeg" ContentType="image/jpeg"/>
  <Override PartName="/ppt/media/image1.png" ContentType="image/png"/>
  <Override PartName="/ppt/media/image10.jpeg" ContentType="image/jpeg"/>
  <Override PartName="/ppt/media/image21.gif" ContentType="image/gif"/>
  <Override PartName="/ppt/media/image38.jpeg" ContentType="image/jpeg"/>
  <Override PartName="/ppt/media/image28.png" ContentType="image/png"/>
  <Override PartName="/ppt/media/image7.jpeg" ContentType="image/jpeg"/>
  <Override PartName="/ppt/media/image5.gif" ContentType="image/gif"/>
  <Override PartName="/ppt/media/image14.jpeg" ContentType="image/jpeg"/>
  <Override PartName="/ppt/media/image41.jpeg" ContentType="image/jpeg"/>
  <Override PartName="/ppt/media/image15.jpeg" ContentType="image/jpeg"/>
  <Override PartName="/ppt/media/image39.gif" ContentType="image/gif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200" spc="-1" strike="noStrike">
                <a:solidFill>
                  <a:srgbClr val="000000"/>
                </a:solidFill>
                <a:latin typeface="UniversalMath1 BT"/>
                <a:ea typeface="UniversalMath1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200" spc="-1" strike="noStrike">
                <a:solidFill>
                  <a:srgbClr val="000000"/>
                </a:solidFill>
                <a:latin typeface="UniversalMath1 BT"/>
                <a:ea typeface="UniversalMath1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200" spc="-1" strike="noStrike">
                <a:solidFill>
                  <a:srgbClr val="000000"/>
                </a:solidFill>
                <a:latin typeface="UniversalMath1 BT"/>
                <a:ea typeface="UniversalMath1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59AF-F4F1-44D8-96E5-B47E02DA405F}" type="slidenum">
              <a:rPr b="0" i="1" lang="zh-CN" sz="12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43EC-3AB7-46AC-83CA-27D76C914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1F84-3460-4FAE-8E54-E58DA5DC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A17C-66AC-4DFF-AE83-5AAD1C17E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0A8E-E710-4169-B619-FC8AEA92F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96A0-B509-44A4-B273-8EF86469E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776E-83BB-43D5-BA4A-0E86F041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5606-03ED-4B5F-ACDD-15E39EF3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8635-2B21-4BD2-B70B-431738B9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4942-D307-4C0B-9A92-00B3EAAB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4EFD-6DEB-4FE5-81EB-41FEE690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B9C7-8170-4120-998E-8E8EE6D2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F483-59CC-4F4D-9A04-5A5E4736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219C-D244-424F-A15A-63E9B2E2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5B85-7248-490E-AEA8-1FC98F3F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9C30-B9DC-4AEA-925E-1F3C5ED7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F090-F21B-4E29-8A84-EA3EC60F9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D616-E1CB-400B-9A26-FAA482AB3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EE4C-2775-4202-957E-0D833B2F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91B4-2A71-4A9C-9A40-D5B4F037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9C0E-4C91-4924-8ABF-4A4D1FE5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2E03-B82F-482C-912F-C97E8067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D98E-713E-48E4-BFA9-EB21BE3F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BBB1-4F87-40DB-8C66-D381FA89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7D87-0C47-4C2F-A4CF-40C05098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A098-77CB-40FD-8F34-819358DAFD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38280"/>
            <a:ext cx="9144000" cy="33530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1EED-51B3-4EB1-BBEA-52E81402AA8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7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27.png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8.png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8.pn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9.xml"/><Relationship Id="rId3" Type="http://schemas.openxmlformats.org/officeDocument/2006/relationships/image" Target="../media/image24.gif"/><Relationship Id="rId4" Type="http://schemas.openxmlformats.org/officeDocument/2006/relationships/slide" Target="slide3.xml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" Target="slide3.xml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9.xml"/><Relationship Id="rId3" Type="http://schemas.openxmlformats.org/officeDocument/2006/relationships/image" Target="../media/image24.gif"/><Relationship Id="rId4" Type="http://schemas.openxmlformats.org/officeDocument/2006/relationships/slide" Target="slide3.xml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9.xml"/><Relationship Id="rId3" Type="http://schemas.openxmlformats.org/officeDocument/2006/relationships/image" Target="../media/image24.gif"/><Relationship Id="rId4" Type="http://schemas.openxmlformats.org/officeDocument/2006/relationships/slide" Target="slide3.xml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" Target="slide9.xml"/><Relationship Id="rId3" Type="http://schemas.openxmlformats.org/officeDocument/2006/relationships/image" Target="../media/image24.gif"/><Relationship Id="rId4" Type="http://schemas.openxmlformats.org/officeDocument/2006/relationships/slide" Target="slide3.xml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" Target="slide9.xml"/><Relationship Id="rId3" Type="http://schemas.openxmlformats.org/officeDocument/2006/relationships/image" Target="../media/image24.gif"/><Relationship Id="rId4" Type="http://schemas.openxmlformats.org/officeDocument/2006/relationships/slide" Target="slide3.xml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" Target="slide9.xml"/><Relationship Id="rId3" Type="http://schemas.openxmlformats.org/officeDocument/2006/relationships/image" Target="../media/image24.gif"/><Relationship Id="rId4" Type="http://schemas.openxmlformats.org/officeDocument/2006/relationships/slide" Target="slide3.xml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" Target="slide9.xml"/><Relationship Id="rId3" Type="http://schemas.openxmlformats.org/officeDocument/2006/relationships/image" Target="../media/image24.gif"/><Relationship Id="rId4" Type="http://schemas.openxmlformats.org/officeDocument/2006/relationships/slide" Target="slide3.xml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C:\PPVIEW32.EXE" TargetMode="External"/><Relationship Id="rId3" Type="http://schemas.openxmlformats.org/officeDocument/2006/relationships/hyperlink" Target="C:\PPVIEW32.EXE" TargetMode="External"/><Relationship Id="rId4" Type="http://schemas.openxmlformats.org/officeDocument/2006/relationships/hyperlink" Target="C:\PPVIEW32.EXE" TargetMode="External"/><Relationship Id="rId5" Type="http://schemas.openxmlformats.org/officeDocument/2006/relationships/hyperlink" Target="C:\PPVIEW32.EXE" TargetMode="External"/><Relationship Id="rId6" Type="http://schemas.openxmlformats.org/officeDocument/2006/relationships/slide" Target="slide3.xml"/><Relationship Id="rId7" Type="http://schemas.openxmlformats.org/officeDocument/2006/relationships/image" Target="../media/image21.gi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12.gif"/><Relationship Id="rId3" Type="http://schemas.openxmlformats.org/officeDocument/2006/relationships/image" Target="../media/image39.gif"/><Relationship Id="rId4" Type="http://schemas.openxmlformats.org/officeDocument/2006/relationships/slide" Target="slide3.xml"/><Relationship Id="rId5" Type="http://schemas.openxmlformats.org/officeDocument/2006/relationships/image" Target="../media/image21.gi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" Target="slide3.xml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" Target="slide4.xml"/><Relationship Id="rId7" Type="http://schemas.openxmlformats.org/officeDocument/2006/relationships/slide" Target="slide9.xml"/><Relationship Id="rId8" Type="http://schemas.openxmlformats.org/officeDocument/2006/relationships/slide" Target="slide5.xml"/><Relationship Id="rId9" Type="http://schemas.openxmlformats.org/officeDocument/2006/relationships/slide" Target="slide9.xml"/><Relationship Id="rId10" Type="http://schemas.openxmlformats.org/officeDocument/2006/relationships/slide" Target="slide19.xml"/><Relationship Id="rId11" Type="http://schemas.openxmlformats.org/officeDocument/2006/relationships/slide" Target="slide20.xml"/><Relationship Id="rId12" Type="http://schemas.openxmlformats.org/officeDocument/2006/relationships/slide" Target="slide23.xml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gif"/><Relationship Id="rId6" Type="http://schemas.openxmlformats.org/officeDocument/2006/relationships/image" Target="../media/image13.jpeg"/><Relationship Id="rId7" Type="http://schemas.openxmlformats.org/officeDocument/2006/relationships/slide" Target="slide7.xml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slide" Target="slide3.xml"/><Relationship Id="rId16" Type="http://schemas.openxmlformats.org/officeDocument/2006/relationships/image" Target="../media/image21.gif"/><Relationship Id="rId1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" Target="slide4.xml"/><Relationship Id="rId3" Type="http://schemas.openxmlformats.org/officeDocument/2006/relationships/slide" Target="slide9.xml"/><Relationship Id="rId4" Type="http://schemas.openxmlformats.org/officeDocument/2006/relationships/slide" Target="slide5.xml"/><Relationship Id="rId5" Type="http://schemas.openxmlformats.org/officeDocument/2006/relationships/slide" Target="slide9.xml"/><Relationship Id="rId6" Type="http://schemas.openxmlformats.org/officeDocument/2006/relationships/slide" Target="slide19.xml"/><Relationship Id="rId7" Type="http://schemas.openxmlformats.org/officeDocument/2006/relationships/slide" Target="slide20.xml"/><Relationship Id="rId8" Type="http://schemas.openxmlformats.org/officeDocument/2006/relationships/slide" Target="slide23.xml"/><Relationship Id="rId9" Type="http://schemas.openxmlformats.org/officeDocument/2006/relationships/slide" Target="slide3.xml"/><Relationship Id="rId10" Type="http://schemas.openxmlformats.org/officeDocument/2006/relationships/image" Target="../media/image21.gif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3.xml"/><Relationship Id="rId3" Type="http://schemas.openxmlformats.org/officeDocument/2006/relationships/image" Target="../media/image21.gif"/><Relationship Id="rId4" Type="http://schemas.openxmlformats.org/officeDocument/2006/relationships/slide" Target="slide4.xml"/><Relationship Id="rId5" Type="http://schemas.openxmlformats.org/officeDocument/2006/relationships/slide" Target="slide9.xml"/><Relationship Id="rId6" Type="http://schemas.openxmlformats.org/officeDocument/2006/relationships/slide" Target="slide5.xml"/><Relationship Id="rId7" Type="http://schemas.openxmlformats.org/officeDocument/2006/relationships/slide" Target="slide9.xml"/><Relationship Id="rId8" Type="http://schemas.openxmlformats.org/officeDocument/2006/relationships/slide" Target="slide19.xml"/><Relationship Id="rId9" Type="http://schemas.openxmlformats.org/officeDocument/2006/relationships/slide" Target="slide20.xml"/><Relationship Id="rId10" Type="http://schemas.openxmlformats.org/officeDocument/2006/relationships/slide" Target="slide23.xml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9.xml"/><Relationship Id="rId3" Type="http://schemas.openxmlformats.org/officeDocument/2006/relationships/image" Target="../media/image24.gif"/><Relationship Id="rId4" Type="http://schemas.openxmlformats.org/officeDocument/2006/relationships/slide" Target="slide3.xml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11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" Target="slide17.xml"/><Relationship Id="rId8" Type="http://schemas.openxmlformats.org/officeDocument/2006/relationships/slide" Target="slide18.xml"/><Relationship Id="rId9" Type="http://schemas.openxmlformats.org/officeDocument/2006/relationships/slide" Target="slide8.xml"/><Relationship Id="rId10" Type="http://schemas.openxmlformats.org/officeDocument/2006/relationships/slide" Target="slide3.xml"/><Relationship Id="rId11" Type="http://schemas.openxmlformats.org/officeDocument/2006/relationships/image" Target="../media/image21.gif"/><Relationship Id="rId12" Type="http://schemas.openxmlformats.org/officeDocument/2006/relationships/slide" Target="slide4.xml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042800" y="0"/>
            <a:ext cx="886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0" spc="-1" strike="noStrike">
                <a:solidFill>
                  <a:srgbClr val="ffff00"/>
                </a:solidFill>
                <a:latin typeface="UniversalMath1 BT"/>
                <a:ea typeface="UniversalMath1 BT"/>
              </a:rPr>
              <a:t>月</a:t>
            </a:r>
            <a:r>
              <a:rPr b="0" i="1" lang="zh-CN" sz="3200" spc="-1" strike="noStrike">
                <a:solidFill>
                  <a:srgbClr val="ffff00"/>
                </a:solidFill>
                <a:latin typeface="UniversalMath1 BT"/>
                <a:ea typeface="UniversalMath1 BT"/>
              </a:rPr>
              <a:t>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52320" y="380880"/>
            <a:ext cx="736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0" spc="-1" strike="noStrike">
                <a:solidFill>
                  <a:srgbClr val="ffff00"/>
                </a:solidFill>
                <a:latin typeface="UniversalMath1 BT"/>
                <a:ea typeface="UniversalMath1 BT"/>
              </a:rPr>
              <a:t>年</a:t>
            </a:r>
            <a:endParaRPr b="0" lang="en-US" sz="1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52920" y="365040"/>
            <a:ext cx="736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0" spc="-1" strike="noStrike">
                <a:solidFill>
                  <a:srgbClr val="ffff00"/>
                </a:solidFill>
                <a:latin typeface="UniversalMath1 BT"/>
                <a:ea typeface="UniversalMath1 BT"/>
              </a:rPr>
              <a:t>日</a:t>
            </a:r>
            <a:endParaRPr b="0" lang="en-US" sz="1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08240" y="2971800"/>
            <a:ext cx="37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UniversalMath1 BT"/>
                <a:ea typeface="UniversalMath1 BT"/>
              </a:rPr>
              <a:t>小学数学第六册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3" name="0033" descr=""/>
          <p:cNvPicPr/>
          <p:nvPr/>
        </p:nvPicPr>
        <p:blipFill>
          <a:blip r:embed="rId2"/>
          <a:stretch/>
        </p:blipFill>
        <p:spPr>
          <a:xfrm>
            <a:off x="3276720" y="3809880"/>
            <a:ext cx="2628720" cy="1143000"/>
          </a:xfrm>
          <a:prstGeom prst="rect">
            <a:avLst/>
          </a:prstGeom>
          <a:ln w="0">
            <a:noFill/>
          </a:ln>
        </p:spPr>
      </p:pic>
      <p:pic>
        <p:nvPicPr>
          <p:cNvPr id="94" name="0179" descr=""/>
          <p:cNvPicPr/>
          <p:nvPr/>
        </p:nvPicPr>
        <p:blipFill>
          <a:blip r:embed="rId3"/>
          <a:stretch/>
        </p:blipFill>
        <p:spPr>
          <a:xfrm>
            <a:off x="1371600" y="2108160"/>
            <a:ext cx="6019920" cy="104760"/>
          </a:xfrm>
          <a:prstGeom prst="rect">
            <a:avLst/>
          </a:prstGeom>
          <a:ln w="0">
            <a:noFill/>
          </a:ln>
        </p:spPr>
      </p:pic>
      <p:pic>
        <p:nvPicPr>
          <p:cNvPr id="95" name="0020" descr=""/>
          <p:cNvPicPr/>
          <p:nvPr/>
        </p:nvPicPr>
        <p:blipFill>
          <a:blip r:embed="rId4"/>
          <a:stretch/>
        </p:blipFill>
        <p:spPr>
          <a:xfrm>
            <a:off x="0" y="2546280"/>
            <a:ext cx="9144000" cy="158760"/>
          </a:xfrm>
          <a:prstGeom prst="rect">
            <a:avLst/>
          </a:prstGeom>
          <a:ln w="0">
            <a:noFill/>
          </a:ln>
        </p:spPr>
      </p:pic>
      <p:pic>
        <p:nvPicPr>
          <p:cNvPr id="96" name="五星" descr=""/>
          <p:cNvPicPr/>
          <p:nvPr/>
        </p:nvPicPr>
        <p:blipFill>
          <a:blip r:embed="rId5"/>
          <a:stretch/>
        </p:blipFill>
        <p:spPr>
          <a:xfrm>
            <a:off x="3962520" y="1143000"/>
            <a:ext cx="1234800" cy="1143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019920" y="3581280"/>
            <a:ext cx="2666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391840" y="41911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幼圆"/>
                <a:ea typeface="隶书"/>
              </a:rPr>
              <a:t>(         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93840" y="41148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幼圆"/>
                <a:ea typeface="隶书"/>
              </a:rPr>
              <a:t>(         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84160" y="41911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幼圆"/>
                <a:ea typeface="隶书"/>
              </a:rPr>
              <a:t>(         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0760" y="41911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幼圆"/>
                <a:ea typeface="隶书"/>
              </a:rPr>
              <a:t>(         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75920" y="60948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ff0000"/>
                </a:solidFill>
                <a:latin typeface="幼圆"/>
                <a:ea typeface="隶书"/>
              </a:rPr>
              <a:t>下面哪一年是闰年？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8760" y="20574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ff"/>
                </a:solidFill>
                <a:latin typeface="幼圆"/>
                <a:ea typeface="隶书"/>
              </a:rPr>
              <a:t>1990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20280" y="20574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ff"/>
                </a:solidFill>
                <a:latin typeface="幼圆"/>
                <a:ea typeface="隶书"/>
              </a:rPr>
              <a:t>1996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06280" y="20574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ff"/>
                </a:solidFill>
                <a:latin typeface="幼圆"/>
                <a:ea typeface="隶书"/>
              </a:rPr>
              <a:t>1998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78160" y="20574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ff"/>
                </a:solidFill>
                <a:latin typeface="幼圆"/>
                <a:ea typeface="隶书"/>
              </a:rPr>
              <a:t>2000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276720" y="33526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7543800" y="32004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990720" y="32767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5334120" y="3276720"/>
            <a:ext cx="609480" cy="60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 rot="10800000">
          <a:off x="3200400" y="4114800"/>
          <a:ext cx="685800" cy="595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 rot="10800000">
                    <a:off x="3200400" y="4114800"/>
                    <a:ext cx="68580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 rot="10800000">
          <a:off x="7467480" y="4038480"/>
          <a:ext cx="685800" cy="595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 rot="10800000">
                    <a:off x="7467480" y="4038480"/>
                    <a:ext cx="68580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838080" y="4145040"/>
          <a:ext cx="838440" cy="655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38080" y="4145040"/>
                    <a:ext cx="83844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5181480" y="4114800"/>
          <a:ext cx="838440" cy="655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181480" y="4114800"/>
                    <a:ext cx="83844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006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744040" y="6618240"/>
            <a:ext cx="399960" cy="239760"/>
          </a:xfrm>
          <a:prstGeom prst="rect">
            <a:avLst/>
          </a:prstGeom>
          <a:ln w="0">
            <a:noFill/>
          </a:ln>
        </p:spPr>
      </p:pic>
      <p:sp>
        <p:nvSpPr>
          <p:cNvPr id="225" name="">
            <a:hlinkClick r:id="rId4" action="ppaction://hlinksldjump"/>
          </p:cNvPr>
          <p:cNvSpPr/>
          <p:nvPr/>
        </p:nvSpPr>
        <p:spPr>
          <a:xfrm>
            <a:off x="8610480" y="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>
            <a:hlinkClick r:id="rId2" action="ppaction://hlinksldjump"/>
          </p:cNvPr>
          <p:cNvSpPr/>
          <p:nvPr/>
        </p:nvSpPr>
        <p:spPr>
          <a:xfrm>
            <a:off x="8686800" y="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006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744040" y="6618240"/>
            <a:ext cx="399960" cy="239760"/>
          </a:xfrm>
          <a:prstGeom prst="rect">
            <a:avLst/>
          </a:prstGeom>
          <a:ln w="0">
            <a:noFill/>
          </a:ln>
        </p:spPr>
      </p:pic>
      <p:sp>
        <p:nvSpPr>
          <p:cNvPr id="228" name="">
            <a:hlinkClick r:id="rId4" action="ppaction://hlinksldjump"/>
          </p:cNvPr>
          <p:cNvSpPr/>
          <p:nvPr/>
        </p:nvSpPr>
        <p:spPr>
          <a:xfrm>
            <a:off x="8534520" y="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006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744040" y="6618240"/>
            <a:ext cx="399960" cy="239760"/>
          </a:xfrm>
          <a:prstGeom prst="rect">
            <a:avLst/>
          </a:prstGeom>
          <a:ln w="0">
            <a:noFill/>
          </a:ln>
        </p:spPr>
      </p:pic>
      <p:sp>
        <p:nvSpPr>
          <p:cNvPr id="230" name="">
            <a:hlinkClick r:id="rId4" action="ppaction://hlinksldjump"/>
          </p:cNvPr>
          <p:cNvSpPr/>
          <p:nvPr/>
        </p:nvSpPr>
        <p:spPr>
          <a:xfrm>
            <a:off x="8534520" y="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006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744040" y="6618240"/>
            <a:ext cx="399960" cy="239760"/>
          </a:xfrm>
          <a:prstGeom prst="rect">
            <a:avLst/>
          </a:prstGeom>
          <a:ln w="0">
            <a:noFill/>
          </a:ln>
        </p:spPr>
      </p:pic>
      <p:sp>
        <p:nvSpPr>
          <p:cNvPr id="232" name="">
            <a:hlinkClick r:id="rId4" action="ppaction://hlinksldjump"/>
          </p:cNvPr>
          <p:cNvSpPr/>
          <p:nvPr/>
        </p:nvSpPr>
        <p:spPr>
          <a:xfrm>
            <a:off x="8534520" y="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006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744040" y="6618240"/>
            <a:ext cx="399960" cy="239760"/>
          </a:xfrm>
          <a:prstGeom prst="rect">
            <a:avLst/>
          </a:prstGeom>
          <a:ln w="0">
            <a:noFill/>
          </a:ln>
        </p:spPr>
      </p:pic>
      <p:sp>
        <p:nvSpPr>
          <p:cNvPr id="234" name="">
            <a:hlinkClick r:id="rId4" action="ppaction://hlinksldjump"/>
          </p:cNvPr>
          <p:cNvSpPr/>
          <p:nvPr/>
        </p:nvSpPr>
        <p:spPr>
          <a:xfrm>
            <a:off x="8534520" y="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006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744040" y="6618240"/>
            <a:ext cx="399960" cy="239760"/>
          </a:xfrm>
          <a:prstGeom prst="rect">
            <a:avLst/>
          </a:prstGeom>
          <a:ln w="0">
            <a:noFill/>
          </a:ln>
        </p:spPr>
      </p:pic>
      <p:sp>
        <p:nvSpPr>
          <p:cNvPr id="236" name="">
            <a:hlinkClick r:id="rId4" action="ppaction://hlinksldjump"/>
          </p:cNvPr>
          <p:cNvSpPr/>
          <p:nvPr/>
        </p:nvSpPr>
        <p:spPr>
          <a:xfrm>
            <a:off x="8610480" y="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006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744040" y="6618240"/>
            <a:ext cx="399960" cy="239760"/>
          </a:xfrm>
          <a:prstGeom prst="rect">
            <a:avLst/>
          </a:prstGeom>
          <a:ln w="0">
            <a:noFill/>
          </a:ln>
        </p:spPr>
      </p:pic>
      <p:sp>
        <p:nvSpPr>
          <p:cNvPr id="238" name="">
            <a:hlinkClick r:id="rId4" action="ppaction://hlinksldjump"/>
          </p:cNvPr>
          <p:cNvSpPr/>
          <p:nvPr/>
        </p:nvSpPr>
        <p:spPr>
          <a:xfrm>
            <a:off x="8763120" y="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手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6390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383640" y="2378160"/>
            <a:ext cx="36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Arial"/>
                <a:ea typeface=""/>
              </a:rPr>
              <a:t>十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Arial"/>
                <a:ea typeface=""/>
              </a:rPr>
              <a:t>二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30640" y="1371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Arial"/>
                <a:ea typeface="隶书"/>
              </a:rPr>
              <a:t>一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02960" y="1447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二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21720" y="1447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Abadi MT Condensed Light"/>
                <a:ea typeface="隶书"/>
              </a:rPr>
              <a:t>三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96560" y="1676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四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15320" y="1752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Arial"/>
                <a:ea typeface="Bookman Old Style"/>
              </a:rPr>
              <a:t>五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34440" y="1905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badi MT Condensed Light"/>
              </a:rPr>
              <a:t>六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53560" y="1905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Abadi MT Condensed Light"/>
              </a:rPr>
              <a:t>七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983840" y="1981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幼圆"/>
                <a:ea typeface=""/>
              </a:rPr>
              <a:t>八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26640" y="2057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"/>
              </a:rPr>
              <a:t>九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45760" y="2057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Arial"/>
                <a:ea typeface=""/>
              </a:rPr>
              <a:t>十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27360" y="2286000"/>
            <a:ext cx="48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幼圆"/>
                <a:ea typeface=""/>
              </a:rPr>
              <a:t>十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幼圆"/>
                <a:ea typeface=""/>
              </a:rPr>
              <a:t>一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28800" y="609480"/>
            <a:ext cx="5486400" cy="563904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38480" y="52578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00"/>
                </a:solidFill>
                <a:latin typeface="Abadi MT Condensed Light"/>
                <a:ea typeface="隶书"/>
              </a:rPr>
              <a:t>左手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83240" y="3579840"/>
            <a:ext cx="155520" cy="233280"/>
          </a:xfrm>
          <a:custGeom>
            <a:avLst/>
            <a:gdLst/>
            <a:ahLst/>
            <a:rect l="l" t="t" r="r" b="b"/>
            <a:pathLst>
              <a:path w="98" h="147">
                <a:moveTo>
                  <a:pt x="98" y="0"/>
                </a:moveTo>
                <a:cubicBezTo>
                  <a:pt x="86" y="4"/>
                  <a:pt x="71" y="3"/>
                  <a:pt x="62" y="12"/>
                </a:cubicBezTo>
                <a:cubicBezTo>
                  <a:pt x="53" y="21"/>
                  <a:pt x="55" y="37"/>
                  <a:pt x="49" y="49"/>
                </a:cubicBezTo>
                <a:cubicBezTo>
                  <a:pt x="33" y="82"/>
                  <a:pt x="17" y="115"/>
                  <a:pt x="0" y="147"/>
                </a:cubicBezTo>
              </a:path>
            </a:pathLst>
          </a:custGeom>
          <a:solidFill>
            <a:srgbClr val="ffcc99"/>
          </a:solidFill>
          <a:ln w="3168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68600" y="4368960"/>
            <a:ext cx="193680" cy="47520"/>
          </a:xfrm>
          <a:custGeom>
            <a:avLst/>
            <a:gdLst/>
            <a:ahLst/>
            <a:rect l="l" t="t" r="r" b="b"/>
            <a:pathLst>
              <a:path w="122" h="30">
                <a:moveTo>
                  <a:pt x="0" y="18"/>
                </a:moveTo>
                <a:cubicBezTo>
                  <a:pt x="63" y="1"/>
                  <a:pt x="32" y="0"/>
                  <a:pt x="85" y="18"/>
                </a:cubicBezTo>
                <a:cubicBezTo>
                  <a:pt x="97" y="22"/>
                  <a:pt x="122" y="30"/>
                  <a:pt x="122" y="30"/>
                </a:cubicBezTo>
              </a:path>
            </a:pathLst>
          </a:custGeom>
          <a:solidFill>
            <a:srgbClr val="ffcc99"/>
          </a:solidFill>
          <a:ln w="3168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800" bIns="180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">
            <a:hlinkClick r:id="rId2"/>
          </p:cNvPr>
          <p:cNvSpPr/>
          <p:nvPr/>
        </p:nvSpPr>
        <p:spPr>
          <a:xfrm flipH="1" flipV="1">
            <a:off x="5257800" y="1904400"/>
            <a:ext cx="76320" cy="75960"/>
          </a:xfrm>
          <a:prstGeom prst="flowChartConnector">
            <a:avLst/>
          </a:prstGeom>
          <a:solidFill>
            <a:srgbClr val="ff0000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648320" y="2057400"/>
            <a:ext cx="75960" cy="76320"/>
          </a:xfrm>
          <a:prstGeom prst="flowChartConnector">
            <a:avLst/>
          </a:prstGeom>
          <a:solidFill>
            <a:srgbClr val="0000ff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43400" y="1981080"/>
            <a:ext cx="76320" cy="76320"/>
          </a:xfrm>
          <a:prstGeom prst="flowChartConnector">
            <a:avLst/>
          </a:prstGeom>
          <a:solidFill>
            <a:srgbClr val="ff0000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2209680"/>
            <a:ext cx="76320" cy="76320"/>
          </a:xfrm>
          <a:prstGeom prst="flowChartConnector">
            <a:avLst/>
          </a:prstGeom>
          <a:solidFill>
            <a:srgbClr val="0000ff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81280" y="2286000"/>
            <a:ext cx="76320" cy="76320"/>
          </a:xfrm>
          <a:prstGeom prst="flowChartConnector">
            <a:avLst/>
          </a:prstGeom>
          <a:solidFill>
            <a:srgbClr val="ff0000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95480" y="2438280"/>
            <a:ext cx="76320" cy="76320"/>
          </a:xfrm>
          <a:prstGeom prst="flowChartConnector">
            <a:avLst/>
          </a:prstGeom>
          <a:solidFill>
            <a:srgbClr val="ff0000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2438280"/>
            <a:ext cx="76320" cy="76320"/>
          </a:xfrm>
          <a:prstGeom prst="flowChartConnector">
            <a:avLst/>
          </a:prstGeom>
          <a:solidFill>
            <a:srgbClr val="0000ff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26120" y="-1169280"/>
            <a:ext cx="667800" cy="9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２"/>
                <a:ea typeface="隶书"/>
              </a:rPr>
              <a:t>凡是数到的凸地方，每个月都是    天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58600" y="5867280"/>
            <a:ext cx="47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mercialPi BT"/>
                <a:ea typeface="CommercialPi BT"/>
              </a:rPr>
              <a:t>３１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38480" y="152280"/>
            <a:ext cx="91188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数到凹的地方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除二月外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，每个月都是    天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60240" y="5334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２"/>
                <a:ea typeface="文鼎CS舒同体繁"/>
              </a:rPr>
              <a:t>３０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87720" y="2043000"/>
            <a:ext cx="233280" cy="193680"/>
          </a:xfrm>
          <a:custGeom>
            <a:avLst/>
            <a:gdLst/>
            <a:ahLst/>
            <a:rect l="l" t="t" r="r" b="b"/>
            <a:pathLst>
              <a:path w="147" h="122">
                <a:moveTo>
                  <a:pt x="0" y="122"/>
                </a:moveTo>
                <a:cubicBezTo>
                  <a:pt x="12" y="110"/>
                  <a:pt x="26" y="99"/>
                  <a:pt x="37" y="86"/>
                </a:cubicBezTo>
                <a:cubicBezTo>
                  <a:pt x="47" y="75"/>
                  <a:pt x="52" y="60"/>
                  <a:pt x="62" y="49"/>
                </a:cubicBezTo>
                <a:cubicBezTo>
                  <a:pt x="89" y="22"/>
                  <a:pt x="122" y="25"/>
                  <a:pt x="147" y="0"/>
                </a:cubicBezTo>
              </a:path>
            </a:pathLst>
          </a:custGeom>
          <a:solidFill>
            <a:srgbClr val="ffcc99"/>
          </a:solidFill>
          <a:ln w="3168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">
            <a:hlinkClick r:id="rId3"/>
          </p:cNvPr>
          <p:cNvSpPr/>
          <p:nvPr/>
        </p:nvSpPr>
        <p:spPr>
          <a:xfrm flipH="1" flipV="1">
            <a:off x="5257800" y="1904400"/>
            <a:ext cx="76320" cy="75960"/>
          </a:xfrm>
          <a:prstGeom prst="flowChartConnector">
            <a:avLst/>
          </a:prstGeom>
          <a:solidFill>
            <a:srgbClr val="ff0000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">
            <a:hlinkClick r:id="rId4"/>
          </p:cNvPr>
          <p:cNvSpPr/>
          <p:nvPr/>
        </p:nvSpPr>
        <p:spPr>
          <a:xfrm flipH="1" flipV="1">
            <a:off x="4647600" y="2057400"/>
            <a:ext cx="75960" cy="76320"/>
          </a:xfrm>
          <a:prstGeom prst="flowChartConnector">
            <a:avLst/>
          </a:prstGeom>
          <a:solidFill>
            <a:srgbClr val="0000ff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">
            <a:hlinkClick r:id="rId5"/>
          </p:cNvPr>
          <p:cNvSpPr/>
          <p:nvPr/>
        </p:nvSpPr>
        <p:spPr>
          <a:xfrm flipH="1" flipV="1">
            <a:off x="4343400" y="1981080"/>
            <a:ext cx="76320" cy="76320"/>
          </a:xfrm>
          <a:prstGeom prst="flowChartConnector">
            <a:avLst/>
          </a:prstGeom>
          <a:solidFill>
            <a:srgbClr val="ff0000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2209680"/>
            <a:ext cx="76320" cy="76320"/>
          </a:xfrm>
          <a:prstGeom prst="flowChartConnector">
            <a:avLst/>
          </a:prstGeom>
          <a:solidFill>
            <a:srgbClr val="0000ff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81280" y="2286000"/>
            <a:ext cx="76320" cy="76320"/>
          </a:xfrm>
          <a:prstGeom prst="flowChartConnector">
            <a:avLst/>
          </a:prstGeom>
          <a:solidFill>
            <a:srgbClr val="ff0000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">
            <a:hlinkClick r:id="rId6" action="ppaction://hlinksldjump"/>
          </p:cNvPr>
          <p:cNvSpPr/>
          <p:nvPr/>
        </p:nvSpPr>
        <p:spPr>
          <a:xfrm>
            <a:off x="8686800" y="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11800" y="-27720"/>
            <a:ext cx="528840" cy="247320"/>
          </a:xfrm>
          <a:custGeom>
            <a:avLst/>
            <a:gdLst>
              <a:gd name="textAreaLeft" fmla="*/ 15840 w 528840"/>
              <a:gd name="textAreaRight" fmla="*/ 513000 w 528840"/>
              <a:gd name="textAreaTop" fmla="*/ 15840 h 247320"/>
              <a:gd name="textAreaBottom" fmla="*/ 231480 h 247320"/>
            </a:gdLst>
            <a:ahLst/>
            <a:rect l="textAreaLeft" t="textAreaTop" r="textAreaRight" b="textAreaBottom"/>
            <a:pathLst>
              <a:path w="46151" h="21600">
                <a:moveTo>
                  <a:pt x="0" y="0"/>
                </a:moveTo>
                <a:lnTo>
                  <a:pt x="46151" y="0"/>
                </a:lnTo>
                <a:lnTo>
                  <a:pt x="46151" y="21600"/>
                </a:lnTo>
                <a:lnTo>
                  <a:pt x="0" y="21600"/>
                </a:lnTo>
                <a:close/>
              </a:path>
              <a:path fill="lightenLess" w="46151" h="21600">
                <a:moveTo>
                  <a:pt x="0" y="0"/>
                </a:moveTo>
                <a:lnTo>
                  <a:pt x="46151" y="0"/>
                </a:lnTo>
                <a:lnTo>
                  <a:pt x="44751" y="1400"/>
                </a:lnTo>
                <a:lnTo>
                  <a:pt x="1400" y="1400"/>
                </a:lnTo>
                <a:close/>
              </a:path>
              <a:path fill="darken" w="46151" h="21600">
                <a:moveTo>
                  <a:pt x="46151" y="0"/>
                </a:moveTo>
                <a:lnTo>
                  <a:pt x="46151" y="21600"/>
                </a:lnTo>
                <a:lnTo>
                  <a:pt x="44751" y="20200"/>
                </a:lnTo>
                <a:lnTo>
                  <a:pt x="44751" y="1400"/>
                </a:lnTo>
                <a:close/>
              </a:path>
              <a:path fill="darkenLess" w="46151" h="21600">
                <a:moveTo>
                  <a:pt x="46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751" y="20200"/>
                </a:lnTo>
                <a:close/>
              </a:path>
              <a:path fill="lighten" w="46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33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ff"/>
                </a:solidFill>
                <a:latin typeface="黑体"/>
                <a:ea typeface="Bookman Old Style"/>
              </a:rPr>
              <a:t>2000</a:t>
            </a:r>
            <a:r>
              <a:rPr b="0" lang="zh-CN" sz="800" spc="-1" strike="noStrike">
                <a:solidFill>
                  <a:srgbClr val="0000ff"/>
                </a:solidFill>
                <a:latin typeface="黑体"/>
                <a:ea typeface="Bookman Old Style"/>
              </a:rPr>
              <a:t>年</a:t>
            </a: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80600" y="-27720"/>
            <a:ext cx="334440" cy="247320"/>
          </a:xfrm>
          <a:custGeom>
            <a:avLst/>
            <a:gdLst>
              <a:gd name="textAreaLeft" fmla="*/ 15840 w 334440"/>
              <a:gd name="textAreaRight" fmla="*/ 318600 w 334440"/>
              <a:gd name="textAreaTop" fmla="*/ 15840 h 247320"/>
              <a:gd name="textAreaBottom" fmla="*/ 231480 h 247320"/>
            </a:gdLst>
            <a:ahLst/>
            <a:rect l="textAreaLeft" t="textAreaTop" r="textAreaRight" b="textAreaBottom"/>
            <a:pathLst>
              <a:path w="29198" h="21600">
                <a:moveTo>
                  <a:pt x="0" y="0"/>
                </a:moveTo>
                <a:lnTo>
                  <a:pt x="29198" y="0"/>
                </a:lnTo>
                <a:lnTo>
                  <a:pt x="29198" y="21600"/>
                </a:lnTo>
                <a:lnTo>
                  <a:pt x="0" y="21600"/>
                </a:lnTo>
                <a:close/>
              </a:path>
              <a:path fill="lightenLess" w="29198" h="21600">
                <a:moveTo>
                  <a:pt x="0" y="0"/>
                </a:moveTo>
                <a:lnTo>
                  <a:pt x="29198" y="0"/>
                </a:lnTo>
                <a:lnTo>
                  <a:pt x="27798" y="1400"/>
                </a:lnTo>
                <a:lnTo>
                  <a:pt x="1400" y="1400"/>
                </a:lnTo>
                <a:close/>
              </a:path>
              <a:path fill="darken" w="29198" h="21600">
                <a:moveTo>
                  <a:pt x="29198" y="0"/>
                </a:moveTo>
                <a:lnTo>
                  <a:pt x="29198" y="21600"/>
                </a:lnTo>
                <a:lnTo>
                  <a:pt x="27798" y="20200"/>
                </a:lnTo>
                <a:lnTo>
                  <a:pt x="27798" y="1400"/>
                </a:lnTo>
                <a:close/>
              </a:path>
              <a:path fill="darkenLess" w="29198" h="21600">
                <a:moveTo>
                  <a:pt x="29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98" y="20200"/>
                </a:lnTo>
                <a:close/>
              </a:path>
              <a:path fill="lighten" w="29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33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ff"/>
                </a:solidFill>
                <a:latin typeface="黑体"/>
                <a:ea typeface="Bookman Old Style"/>
              </a:rPr>
              <a:t>地球</a:t>
            </a: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423600" y="-27720"/>
            <a:ext cx="334440" cy="247320"/>
          </a:xfrm>
          <a:custGeom>
            <a:avLst/>
            <a:gdLst>
              <a:gd name="textAreaLeft" fmla="*/ 15840 w 334440"/>
              <a:gd name="textAreaRight" fmla="*/ 318600 w 334440"/>
              <a:gd name="textAreaTop" fmla="*/ 15840 h 247320"/>
              <a:gd name="textAreaBottom" fmla="*/ 231480 h 247320"/>
            </a:gdLst>
            <a:ahLst/>
            <a:rect l="textAreaLeft" t="textAreaTop" r="textAreaRight" b="textAreaBottom"/>
            <a:pathLst>
              <a:path w="29198" h="21600">
                <a:moveTo>
                  <a:pt x="0" y="0"/>
                </a:moveTo>
                <a:lnTo>
                  <a:pt x="29198" y="0"/>
                </a:lnTo>
                <a:lnTo>
                  <a:pt x="29198" y="21600"/>
                </a:lnTo>
                <a:lnTo>
                  <a:pt x="0" y="21600"/>
                </a:lnTo>
                <a:close/>
              </a:path>
              <a:path fill="lightenLess" w="29198" h="21600">
                <a:moveTo>
                  <a:pt x="0" y="0"/>
                </a:moveTo>
                <a:lnTo>
                  <a:pt x="29198" y="0"/>
                </a:lnTo>
                <a:lnTo>
                  <a:pt x="27798" y="1400"/>
                </a:lnTo>
                <a:lnTo>
                  <a:pt x="1400" y="1400"/>
                </a:lnTo>
                <a:close/>
              </a:path>
              <a:path fill="darken" w="29198" h="21600">
                <a:moveTo>
                  <a:pt x="29198" y="0"/>
                </a:moveTo>
                <a:lnTo>
                  <a:pt x="29198" y="21600"/>
                </a:lnTo>
                <a:lnTo>
                  <a:pt x="27798" y="20200"/>
                </a:lnTo>
                <a:lnTo>
                  <a:pt x="27798" y="1400"/>
                </a:lnTo>
                <a:close/>
              </a:path>
              <a:path fill="darkenLess" w="29198" h="21600">
                <a:moveTo>
                  <a:pt x="29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98" y="20200"/>
                </a:lnTo>
                <a:close/>
              </a:path>
              <a:path fill="lighten" w="29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33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ff"/>
                </a:solidFill>
                <a:latin typeface="黑体"/>
                <a:ea typeface="Bookman Old Style"/>
              </a:rPr>
              <a:t>节日</a:t>
            </a: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90640" y="-27720"/>
            <a:ext cx="334440" cy="247320"/>
          </a:xfrm>
          <a:custGeom>
            <a:avLst/>
            <a:gdLst>
              <a:gd name="textAreaLeft" fmla="*/ 15840 w 334440"/>
              <a:gd name="textAreaRight" fmla="*/ 318600 w 334440"/>
              <a:gd name="textAreaTop" fmla="*/ 15840 h 247320"/>
              <a:gd name="textAreaBottom" fmla="*/ 231480 h 247320"/>
            </a:gdLst>
            <a:ahLst/>
            <a:rect l="textAreaLeft" t="textAreaTop" r="textAreaRight" b="textAreaBottom"/>
            <a:pathLst>
              <a:path w="29198" h="21600">
                <a:moveTo>
                  <a:pt x="0" y="0"/>
                </a:moveTo>
                <a:lnTo>
                  <a:pt x="29198" y="0"/>
                </a:lnTo>
                <a:lnTo>
                  <a:pt x="29198" y="21600"/>
                </a:lnTo>
                <a:lnTo>
                  <a:pt x="0" y="21600"/>
                </a:lnTo>
                <a:close/>
              </a:path>
              <a:path fill="lightenLess" w="29198" h="21600">
                <a:moveTo>
                  <a:pt x="0" y="0"/>
                </a:moveTo>
                <a:lnTo>
                  <a:pt x="29198" y="0"/>
                </a:lnTo>
                <a:lnTo>
                  <a:pt x="27798" y="1400"/>
                </a:lnTo>
                <a:lnTo>
                  <a:pt x="1400" y="1400"/>
                </a:lnTo>
                <a:close/>
              </a:path>
              <a:path fill="darken" w="29198" h="21600">
                <a:moveTo>
                  <a:pt x="29198" y="0"/>
                </a:moveTo>
                <a:lnTo>
                  <a:pt x="29198" y="21600"/>
                </a:lnTo>
                <a:lnTo>
                  <a:pt x="27798" y="20200"/>
                </a:lnTo>
                <a:lnTo>
                  <a:pt x="27798" y="1400"/>
                </a:lnTo>
                <a:close/>
              </a:path>
              <a:path fill="darkenLess" w="29198" h="21600">
                <a:moveTo>
                  <a:pt x="29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98" y="20200"/>
                </a:lnTo>
                <a:close/>
              </a:path>
              <a:path fill="lighten" w="29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33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ff"/>
                </a:solidFill>
                <a:latin typeface="黑体"/>
                <a:ea typeface="Bookman Old Style"/>
              </a:rPr>
              <a:t>平闰</a:t>
            </a: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85920" y="-27720"/>
            <a:ext cx="334440" cy="247320"/>
          </a:xfrm>
          <a:custGeom>
            <a:avLst/>
            <a:gdLst>
              <a:gd name="textAreaLeft" fmla="*/ 15840 w 334440"/>
              <a:gd name="textAreaRight" fmla="*/ 318600 w 334440"/>
              <a:gd name="textAreaTop" fmla="*/ 15840 h 247320"/>
              <a:gd name="textAreaBottom" fmla="*/ 231480 h 247320"/>
            </a:gdLst>
            <a:ahLst/>
            <a:rect l="textAreaLeft" t="textAreaTop" r="textAreaRight" b="textAreaBottom"/>
            <a:pathLst>
              <a:path w="29198" h="21600">
                <a:moveTo>
                  <a:pt x="0" y="0"/>
                </a:moveTo>
                <a:lnTo>
                  <a:pt x="29198" y="0"/>
                </a:lnTo>
                <a:lnTo>
                  <a:pt x="29198" y="21600"/>
                </a:lnTo>
                <a:lnTo>
                  <a:pt x="0" y="21600"/>
                </a:lnTo>
                <a:close/>
              </a:path>
              <a:path fill="lightenLess" w="29198" h="21600">
                <a:moveTo>
                  <a:pt x="0" y="0"/>
                </a:moveTo>
                <a:lnTo>
                  <a:pt x="29198" y="0"/>
                </a:lnTo>
                <a:lnTo>
                  <a:pt x="27798" y="1400"/>
                </a:lnTo>
                <a:lnTo>
                  <a:pt x="1400" y="1400"/>
                </a:lnTo>
                <a:close/>
              </a:path>
              <a:path fill="darken" w="29198" h="21600">
                <a:moveTo>
                  <a:pt x="29198" y="0"/>
                </a:moveTo>
                <a:lnTo>
                  <a:pt x="29198" y="21600"/>
                </a:lnTo>
                <a:lnTo>
                  <a:pt x="27798" y="20200"/>
                </a:lnTo>
                <a:lnTo>
                  <a:pt x="27798" y="1400"/>
                </a:lnTo>
                <a:close/>
              </a:path>
              <a:path fill="darkenLess" w="29198" h="21600">
                <a:moveTo>
                  <a:pt x="29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98" y="20200"/>
                </a:lnTo>
                <a:close/>
              </a:path>
              <a:path fill="lighten" w="29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33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ff"/>
                </a:solidFill>
                <a:latin typeface="黑体"/>
                <a:ea typeface="Bookman Old Style"/>
              </a:rPr>
              <a:t>拳头</a:t>
            </a: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2600" y="-27720"/>
            <a:ext cx="334440" cy="247320"/>
          </a:xfrm>
          <a:custGeom>
            <a:avLst/>
            <a:gdLst>
              <a:gd name="textAreaLeft" fmla="*/ 15840 w 334440"/>
              <a:gd name="textAreaRight" fmla="*/ 318600 w 334440"/>
              <a:gd name="textAreaTop" fmla="*/ 15840 h 247320"/>
              <a:gd name="textAreaBottom" fmla="*/ 231480 h 247320"/>
            </a:gdLst>
            <a:ahLst/>
            <a:rect l="textAreaLeft" t="textAreaTop" r="textAreaRight" b="textAreaBottom"/>
            <a:pathLst>
              <a:path w="29198" h="21600">
                <a:moveTo>
                  <a:pt x="0" y="0"/>
                </a:moveTo>
                <a:lnTo>
                  <a:pt x="29198" y="0"/>
                </a:lnTo>
                <a:lnTo>
                  <a:pt x="29198" y="21600"/>
                </a:lnTo>
                <a:lnTo>
                  <a:pt x="0" y="21600"/>
                </a:lnTo>
                <a:close/>
              </a:path>
              <a:path fill="lightenLess" w="29198" h="21600">
                <a:moveTo>
                  <a:pt x="0" y="0"/>
                </a:moveTo>
                <a:lnTo>
                  <a:pt x="29198" y="0"/>
                </a:lnTo>
                <a:lnTo>
                  <a:pt x="27798" y="1400"/>
                </a:lnTo>
                <a:lnTo>
                  <a:pt x="1400" y="1400"/>
                </a:lnTo>
                <a:close/>
              </a:path>
              <a:path fill="darken" w="29198" h="21600">
                <a:moveTo>
                  <a:pt x="29198" y="0"/>
                </a:moveTo>
                <a:lnTo>
                  <a:pt x="29198" y="21600"/>
                </a:lnTo>
                <a:lnTo>
                  <a:pt x="27798" y="20200"/>
                </a:lnTo>
                <a:lnTo>
                  <a:pt x="27798" y="1400"/>
                </a:lnTo>
                <a:close/>
              </a:path>
              <a:path fill="darkenLess" w="29198" h="21600">
                <a:moveTo>
                  <a:pt x="29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98" y="20200"/>
                </a:lnTo>
                <a:close/>
              </a:path>
              <a:path fill="lighten" w="29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33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ff"/>
                </a:solidFill>
                <a:latin typeface="黑体"/>
                <a:ea typeface="Bookman Old Style"/>
              </a:rPr>
              <a:t>歌决</a:t>
            </a: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995600" y="-27720"/>
            <a:ext cx="334440" cy="247320"/>
          </a:xfrm>
          <a:custGeom>
            <a:avLst/>
            <a:gdLst>
              <a:gd name="textAreaLeft" fmla="*/ 15840 w 334440"/>
              <a:gd name="textAreaRight" fmla="*/ 318600 w 334440"/>
              <a:gd name="textAreaTop" fmla="*/ 15840 h 247320"/>
              <a:gd name="textAreaBottom" fmla="*/ 231480 h 247320"/>
            </a:gdLst>
            <a:ahLst/>
            <a:rect l="textAreaLeft" t="textAreaTop" r="textAreaRight" b="textAreaBottom"/>
            <a:pathLst>
              <a:path w="29198" h="21600">
                <a:moveTo>
                  <a:pt x="0" y="0"/>
                </a:moveTo>
                <a:lnTo>
                  <a:pt x="29198" y="0"/>
                </a:lnTo>
                <a:lnTo>
                  <a:pt x="29198" y="21600"/>
                </a:lnTo>
                <a:lnTo>
                  <a:pt x="0" y="21600"/>
                </a:lnTo>
                <a:close/>
              </a:path>
              <a:path fill="lightenLess" w="29198" h="21600">
                <a:moveTo>
                  <a:pt x="0" y="0"/>
                </a:moveTo>
                <a:lnTo>
                  <a:pt x="29198" y="0"/>
                </a:lnTo>
                <a:lnTo>
                  <a:pt x="27798" y="1400"/>
                </a:lnTo>
                <a:lnTo>
                  <a:pt x="1400" y="1400"/>
                </a:lnTo>
                <a:close/>
              </a:path>
              <a:path fill="darken" w="29198" h="21600">
                <a:moveTo>
                  <a:pt x="29198" y="0"/>
                </a:moveTo>
                <a:lnTo>
                  <a:pt x="29198" y="21600"/>
                </a:lnTo>
                <a:lnTo>
                  <a:pt x="27798" y="20200"/>
                </a:lnTo>
                <a:lnTo>
                  <a:pt x="27798" y="1400"/>
                </a:lnTo>
                <a:close/>
              </a:path>
              <a:path fill="darkenLess" w="29198" h="21600">
                <a:moveTo>
                  <a:pt x="29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98" y="20200"/>
                </a:lnTo>
                <a:close/>
              </a:path>
              <a:path fill="lighten" w="29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33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ff"/>
                </a:solidFill>
                <a:latin typeface="黑体"/>
                <a:ea typeface="Bookman Old Style"/>
              </a:rPr>
              <a:t>练习</a:t>
            </a: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038480" y="838080"/>
            <a:ext cx="3232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>
                <a:solidFill>
                  <a:srgbClr val="ff0000"/>
                </a:solidFill>
                <a:latin typeface="Abadi MT Condensed Light"/>
                <a:ea typeface="隶书"/>
              </a:rPr>
              <a:t>猜一猜</a:t>
            </a:r>
            <a:endParaRPr b="0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94360" y="1952640"/>
            <a:ext cx="3472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0000ff"/>
                </a:solidFill>
                <a:latin typeface="２"/>
                <a:ea typeface="隶书"/>
              </a:rPr>
              <a:t>有个宝宝真稀奇，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0000ff"/>
                </a:solidFill>
                <a:latin typeface="２"/>
                <a:ea typeface="隶书"/>
              </a:rPr>
              <a:t>身穿三百多件衣。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0000ff"/>
                </a:solidFill>
                <a:latin typeface="２"/>
                <a:ea typeface="隶书"/>
              </a:rPr>
              <a:t>每天都要脱一件，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0000ff"/>
                </a:solidFill>
                <a:latin typeface="２"/>
                <a:ea typeface="隶书"/>
              </a:rPr>
              <a:t>最后剩下一张皮。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9040" y="5334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3300"/>
                </a:solidFill>
                <a:latin typeface="２"/>
              </a:rPr>
              <a:t>（打一种生活用品）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24040" y="51055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66ff33"/>
                </a:solidFill>
                <a:latin typeface="２"/>
              </a:rPr>
              <a:t>日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0092" descr=""/>
          <p:cNvPicPr/>
          <p:nvPr/>
        </p:nvPicPr>
        <p:blipFill>
          <a:blip r:embed="rId2"/>
          <a:stretch/>
        </p:blipFill>
        <p:spPr>
          <a:xfrm flipH="1" rot="10800000">
            <a:off x="0" y="990360"/>
            <a:ext cx="9144000" cy="16344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3257640" y="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33cc33"/>
                </a:solidFill>
                <a:latin typeface="黑体"/>
              </a:rPr>
              <a:t>这个歌决你会背吗？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3" name="0030" descr=""/>
          <p:cNvPicPr/>
          <p:nvPr/>
        </p:nvPicPr>
        <p:blipFill>
          <a:blip r:embed="rId3"/>
          <a:stretch/>
        </p:blipFill>
        <p:spPr>
          <a:xfrm>
            <a:off x="685800" y="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84" name="">
            <a:hlinkClick r:id="rId4" action="ppaction://hlinksldjump"/>
          </p:cNvPr>
          <p:cNvSpPr/>
          <p:nvPr/>
        </p:nvSpPr>
        <p:spPr>
          <a:xfrm>
            <a:off x="8763120" y="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858200" y="1295280"/>
            <a:ext cx="2863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幼圆"/>
                <a:ea typeface="华文新魏"/>
              </a:rPr>
              <a:t>一三五七八十腊，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幼圆"/>
                <a:ea typeface="华文新魏"/>
              </a:rPr>
              <a:t>三十一天永不差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华文新魏"/>
              </a:rPr>
              <a:t>闰年二月二十九，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华文新魏"/>
              </a:rPr>
              <a:t>平年二月二十八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华文新魏"/>
              </a:rPr>
              <a:t>其余都是三十天，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华文新魏"/>
              </a:rPr>
              <a:t>我们都要记住它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6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ff33"/>
                </a:solidFill>
                <a:latin typeface="Times New Roman"/>
              </a:rPr>
              <a:t>你知道一年有几天吗？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00600" y="2330280"/>
            <a:ext cx="6215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0000ff"/>
                </a:solidFill>
                <a:latin typeface="幼圆"/>
                <a:ea typeface="隶书"/>
              </a:rPr>
              <a:t>平年全年有（    ）天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00600" y="4148280"/>
            <a:ext cx="6215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0000ff"/>
                </a:solidFill>
                <a:latin typeface="幼圆"/>
                <a:ea typeface="隶书"/>
              </a:rPr>
              <a:t>闰年全年有（    ）天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29520" y="217800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ff0000"/>
                </a:solidFill>
                <a:latin typeface="幼圆"/>
              </a:rPr>
              <a:t>365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53200" y="406872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ff0000"/>
                </a:solidFill>
                <a:latin typeface="幼圆"/>
              </a:rPr>
              <a:t>366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5039280" y="1447920"/>
            <a:ext cx="210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 Black"/>
                <a:ea typeface="黑体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 Black"/>
                <a:ea typeface="黑体"/>
              </a:rPr>
              <a:t>、今年一、二、三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 Black"/>
                <a:ea typeface="黑体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Arial Black"/>
                <a:ea typeface="黑体"/>
              </a:rPr>
              <a:t>月一共有多少天？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631320" y="3016080"/>
            <a:ext cx="398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 Black"/>
                <a:ea typeface="隶书"/>
              </a:rPr>
              <a:t>2</a:t>
            </a:r>
            <a:r>
              <a:rPr b="1" lang="zh-CN" sz="4800" spc="-1" strike="noStrike">
                <a:solidFill>
                  <a:srgbClr val="ff0000"/>
                </a:solidFill>
                <a:latin typeface="Arial Black"/>
                <a:ea typeface="隶书"/>
              </a:rPr>
              <a:t>、十月份有几个星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 Black"/>
                <a:ea typeface="隶书"/>
              </a:rPr>
              <a:t>     </a:t>
            </a:r>
            <a:r>
              <a:rPr b="1" lang="zh-CN" sz="4800" spc="-1" strike="noStrike">
                <a:solidFill>
                  <a:srgbClr val="ff0000"/>
                </a:solidFill>
                <a:latin typeface="Arial Black"/>
                <a:ea typeface="隶书"/>
              </a:rPr>
              <a:t>期零几天？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76320"/>
            <a:ext cx="1600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做一做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889280" y="15922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13716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0000"/>
                </a:solidFill>
                <a:latin typeface="黑体"/>
                <a:ea typeface="隶书"/>
              </a:rPr>
              <a:t>小强满</a:t>
            </a:r>
            <a:r>
              <a:rPr b="1" i="1" lang="zh-CN" sz="6000" spc="-1" strike="noStrike">
                <a:solidFill>
                  <a:srgbClr val="ff0000"/>
                </a:solidFill>
                <a:latin typeface="黑体"/>
                <a:ea typeface="隶书"/>
              </a:rPr>
              <a:t>12</a:t>
            </a:r>
            <a:r>
              <a:rPr b="1" i="1" lang="zh-CN" sz="6000" spc="-1" strike="noStrike">
                <a:solidFill>
                  <a:srgbClr val="ff0000"/>
                </a:solidFill>
                <a:latin typeface="黑体"/>
                <a:ea typeface="隶书"/>
              </a:rPr>
              <a:t>岁的时候，只过了３个生日。猜一猜他是哪一天生的。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ff00"/>
                </a:solidFill>
                <a:latin typeface="黑体"/>
                <a:ea typeface="隶书"/>
              </a:rPr>
              <a:t>（口答）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23160" y="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66ff33"/>
                </a:solidFill>
                <a:latin typeface="黑体"/>
                <a:ea typeface="Bookman Old Style"/>
              </a:rPr>
              <a:t>你知道吗？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">
            <a:hlinkClick r:id="rId2" action="ppaction://hlinksldjump"/>
          </p:cNvPr>
          <p:cNvSpPr/>
          <p:nvPr/>
        </p:nvSpPr>
        <p:spPr>
          <a:xfrm>
            <a:off x="8686800" y="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626480" y="1143000"/>
            <a:ext cx="5712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ff00"/>
                </a:solidFill>
                <a:latin typeface="幼圆"/>
                <a:ea typeface="隶书"/>
              </a:rPr>
              <a:t>１</a:t>
            </a:r>
            <a:r>
              <a:rPr b="1" i="1" lang="zh-CN" sz="6600" spc="-1" strike="noStrike">
                <a:solidFill>
                  <a:srgbClr val="ff0000"/>
                </a:solidFill>
                <a:latin typeface="幼圆"/>
                <a:ea typeface="隶书"/>
              </a:rPr>
              <a:t>明年是平年还是闰年？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11680" y="2819520"/>
            <a:ext cx="3701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ff00"/>
                </a:solidFill>
                <a:latin typeface="幼圆"/>
                <a:ea typeface="隶书"/>
              </a:rPr>
              <a:t>２</a:t>
            </a:r>
            <a:r>
              <a:rPr b="1" i="1" lang="zh-CN" sz="6600" spc="-1" strike="noStrike">
                <a:solidFill>
                  <a:srgbClr val="ff0000"/>
                </a:solidFill>
                <a:latin typeface="幼圆"/>
                <a:ea typeface="隶书"/>
              </a:rPr>
              <a:t>明年有几天？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88880" y="4419720"/>
            <a:ext cx="5209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ff00"/>
                </a:solidFill>
                <a:latin typeface="幼圆"/>
                <a:ea typeface="隶书"/>
              </a:rPr>
              <a:t>３</a:t>
            </a:r>
            <a:r>
              <a:rPr b="1" i="1" lang="zh-CN" sz="6600" spc="-1" strike="noStrike">
                <a:solidFill>
                  <a:srgbClr val="ff0000"/>
                </a:solidFill>
                <a:latin typeface="幼圆"/>
                <a:ea typeface="隶书"/>
              </a:rPr>
              <a:t>有几个星期零几天？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577240" y="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0000ff"/>
                </a:solidFill>
                <a:latin typeface="幼圆"/>
                <a:ea typeface="隶书"/>
              </a:rPr>
              <a:t>回答下面的问题。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206440" y="2057400"/>
            <a:ext cx="321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ff"/>
                </a:solidFill>
                <a:latin typeface="Arial Black"/>
                <a:ea typeface="隶书"/>
              </a:rPr>
              <a:t>课本第</a:t>
            </a:r>
            <a:r>
              <a:rPr b="1" i="1" lang="zh-CN" sz="6000" spc="-1" strike="noStrike">
                <a:solidFill>
                  <a:srgbClr val="0000ff"/>
                </a:solidFill>
                <a:latin typeface="Arial Black"/>
                <a:ea typeface="隶书"/>
              </a:rPr>
              <a:t>85</a:t>
            </a:r>
            <a:r>
              <a:rPr b="1" i="1" lang="zh-CN" sz="6000" spc="-1" strike="noStrike">
                <a:solidFill>
                  <a:srgbClr val="0000ff"/>
                </a:solidFill>
                <a:latin typeface="Arial Black"/>
                <a:ea typeface="隶书"/>
              </a:rPr>
              <a:t>页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27880" y="3413160"/>
            <a:ext cx="312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ff"/>
                </a:solidFill>
                <a:latin typeface="Arial Black"/>
                <a:ea typeface="隶书"/>
              </a:rPr>
              <a:t>第</a:t>
            </a:r>
            <a:r>
              <a:rPr b="1" i="1" lang="zh-CN" sz="6000" spc="-1" strike="noStrike">
                <a:solidFill>
                  <a:srgbClr val="0000ff"/>
                </a:solidFill>
                <a:latin typeface="Arial Black"/>
                <a:ea typeface="隶书"/>
              </a:rPr>
              <a:t>4 </a:t>
            </a:r>
            <a:r>
              <a:rPr b="1" i="1" lang="zh-CN" sz="6000" spc="-1" strike="noStrike">
                <a:solidFill>
                  <a:srgbClr val="0000ff"/>
                </a:solidFill>
                <a:latin typeface="Arial Black"/>
                <a:ea typeface="隶书"/>
              </a:rPr>
              <a:t>、第</a:t>
            </a:r>
            <a:r>
              <a:rPr b="1" i="1" lang="zh-CN" sz="6000" spc="-1" strike="noStrike">
                <a:solidFill>
                  <a:srgbClr val="0000ff"/>
                </a:solidFill>
                <a:latin typeface="Arial Black"/>
                <a:ea typeface="隶书"/>
              </a:rPr>
              <a:t>5</a:t>
            </a:r>
            <a:r>
              <a:rPr b="1" i="1" lang="zh-CN" sz="6000" spc="-1" strike="noStrike">
                <a:solidFill>
                  <a:srgbClr val="0000ff"/>
                </a:solidFill>
                <a:latin typeface="Arial Black"/>
                <a:ea typeface="隶书"/>
              </a:rPr>
              <a:t>题。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295280" y="762120"/>
            <a:ext cx="1752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作业</a:t>
            </a: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: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042800" y="0"/>
            <a:ext cx="886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0" spc="-1" strike="noStrike">
                <a:solidFill>
                  <a:srgbClr val="ffff00"/>
                </a:solidFill>
                <a:latin typeface="UniversalMath1 BT"/>
                <a:ea typeface="UniversalMath1 BT"/>
              </a:rPr>
              <a:t>月</a:t>
            </a:r>
            <a:r>
              <a:rPr b="0" i="1" lang="zh-CN" sz="3200" spc="-1" strike="noStrike">
                <a:solidFill>
                  <a:srgbClr val="ffff00"/>
                </a:solidFill>
                <a:latin typeface="UniversalMath1 BT"/>
                <a:ea typeface="UniversalMath1 BT"/>
              </a:rPr>
              <a:t>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52320" y="380880"/>
            <a:ext cx="736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0" spc="-1" strike="noStrike">
                <a:solidFill>
                  <a:srgbClr val="ffff00"/>
                </a:solidFill>
                <a:latin typeface="UniversalMath1 BT"/>
                <a:ea typeface="UniversalMath1 BT"/>
              </a:rPr>
              <a:t>年</a:t>
            </a:r>
            <a:endParaRPr b="0" lang="en-US" sz="1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52920" y="365040"/>
            <a:ext cx="736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0" spc="-1" strike="noStrike">
                <a:solidFill>
                  <a:srgbClr val="ffff00"/>
                </a:solidFill>
                <a:latin typeface="UniversalMath1 BT"/>
                <a:ea typeface="UniversalMath1 BT"/>
              </a:rPr>
              <a:t>日</a:t>
            </a:r>
            <a:endParaRPr b="0" lang="en-US" sz="1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08240" y="2971800"/>
            <a:ext cx="37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UniversalMath1 BT"/>
                <a:ea typeface="UniversalMath1 BT"/>
              </a:rPr>
              <a:t>小学数学第六册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7" name="0033" descr=""/>
          <p:cNvPicPr/>
          <p:nvPr/>
        </p:nvPicPr>
        <p:blipFill>
          <a:blip r:embed="rId2"/>
          <a:stretch/>
        </p:blipFill>
        <p:spPr>
          <a:xfrm>
            <a:off x="3276720" y="3429000"/>
            <a:ext cx="2628720" cy="1143000"/>
          </a:xfrm>
          <a:prstGeom prst="rect">
            <a:avLst/>
          </a:prstGeom>
          <a:ln w="0">
            <a:noFill/>
          </a:ln>
        </p:spPr>
      </p:pic>
      <p:pic>
        <p:nvPicPr>
          <p:cNvPr id="108" name="0179" descr=""/>
          <p:cNvPicPr/>
          <p:nvPr/>
        </p:nvPicPr>
        <p:blipFill>
          <a:blip r:embed="rId3"/>
          <a:stretch/>
        </p:blipFill>
        <p:spPr>
          <a:xfrm>
            <a:off x="1371600" y="2108160"/>
            <a:ext cx="6019920" cy="104760"/>
          </a:xfrm>
          <a:prstGeom prst="rect">
            <a:avLst/>
          </a:prstGeom>
          <a:ln w="0">
            <a:noFill/>
          </a:ln>
        </p:spPr>
      </p:pic>
      <p:pic>
        <p:nvPicPr>
          <p:cNvPr id="109" name="0020" descr=""/>
          <p:cNvPicPr/>
          <p:nvPr/>
        </p:nvPicPr>
        <p:blipFill>
          <a:blip r:embed="rId4"/>
          <a:stretch/>
        </p:blipFill>
        <p:spPr>
          <a:xfrm>
            <a:off x="0" y="2546280"/>
            <a:ext cx="9144000" cy="158760"/>
          </a:xfrm>
          <a:prstGeom prst="rect">
            <a:avLst/>
          </a:prstGeom>
          <a:ln w="0">
            <a:noFill/>
          </a:ln>
        </p:spPr>
      </p:pic>
      <p:pic>
        <p:nvPicPr>
          <p:cNvPr id="110" name="五星" descr=""/>
          <p:cNvPicPr/>
          <p:nvPr/>
        </p:nvPicPr>
        <p:blipFill>
          <a:blip r:embed="rId5"/>
          <a:stretch/>
        </p:blipFill>
        <p:spPr>
          <a:xfrm>
            <a:off x="3962520" y="1143000"/>
            <a:ext cx="1234800" cy="114300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rId6" action="ppaction://hlinksldjump"/>
          </p:cNvPr>
          <p:cNvSpPr/>
          <p:nvPr/>
        </p:nvSpPr>
        <p:spPr>
          <a:xfrm>
            <a:off x="189720" y="42480"/>
            <a:ext cx="610560" cy="282960"/>
          </a:xfrm>
          <a:custGeom>
            <a:avLst/>
            <a:gdLst>
              <a:gd name="textAreaLeft" fmla="*/ 18360 w 610560"/>
              <a:gd name="textAreaRight" fmla="*/ 592200 w 610560"/>
              <a:gd name="textAreaTop" fmla="*/ 18360 h 282960"/>
              <a:gd name="textAreaBottom" fmla="*/ 264600 h 282960"/>
            </a:gdLst>
            <a:ahLst/>
            <a:rect l="textAreaLeft" t="textAreaTop" r="textAreaRight" b="textAreaBottom"/>
            <a:pathLst>
              <a:path w="46576" h="21600">
                <a:moveTo>
                  <a:pt x="0" y="0"/>
                </a:moveTo>
                <a:lnTo>
                  <a:pt x="46576" y="0"/>
                </a:lnTo>
                <a:lnTo>
                  <a:pt x="46576" y="21600"/>
                </a:lnTo>
                <a:lnTo>
                  <a:pt x="0" y="21600"/>
                </a:lnTo>
                <a:close/>
              </a:path>
              <a:path fill="lightenLess" w="46576" h="21600">
                <a:moveTo>
                  <a:pt x="0" y="0"/>
                </a:moveTo>
                <a:lnTo>
                  <a:pt x="46576" y="0"/>
                </a:lnTo>
                <a:lnTo>
                  <a:pt x="45176" y="1400"/>
                </a:lnTo>
                <a:lnTo>
                  <a:pt x="1400" y="1400"/>
                </a:lnTo>
                <a:close/>
              </a:path>
              <a:path fill="darken" w="46576" h="21600">
                <a:moveTo>
                  <a:pt x="46576" y="0"/>
                </a:moveTo>
                <a:lnTo>
                  <a:pt x="46576" y="21600"/>
                </a:lnTo>
                <a:lnTo>
                  <a:pt x="45176" y="20200"/>
                </a:lnTo>
                <a:lnTo>
                  <a:pt x="45176" y="1400"/>
                </a:lnTo>
                <a:close/>
              </a:path>
              <a:path fill="darkenLess" w="46576" h="21600">
                <a:moveTo>
                  <a:pt x="46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76" y="20200"/>
                </a:lnTo>
                <a:close/>
              </a:path>
              <a:path fill="lighten" w="46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33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黑体"/>
                <a:ea typeface="Bookman Old Style"/>
              </a:rPr>
              <a:t>2000</a:t>
            </a:r>
            <a:r>
              <a:rPr b="0" lang="zh-CN" sz="1000" spc="-1" strike="noStrike">
                <a:solidFill>
                  <a:srgbClr val="0000ff"/>
                </a:solidFill>
                <a:latin typeface="黑体"/>
                <a:ea typeface="Bookman Old Style"/>
              </a:rPr>
              <a:t>年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">
            <a:hlinkClick r:id="rId7" action="ppaction://hlinksldjump"/>
          </p:cNvPr>
          <p:cNvSpPr/>
          <p:nvPr/>
        </p:nvSpPr>
        <p:spPr>
          <a:xfrm>
            <a:off x="1681920" y="42480"/>
            <a:ext cx="369720" cy="282960"/>
          </a:xfrm>
          <a:custGeom>
            <a:avLst/>
            <a:gdLst>
              <a:gd name="textAreaLeft" fmla="*/ 18360 w 369720"/>
              <a:gd name="textAreaRight" fmla="*/ 351360 w 369720"/>
              <a:gd name="textAreaTop" fmla="*/ 18360 h 282960"/>
              <a:gd name="textAreaBottom" fmla="*/ 264600 h 282960"/>
            </a:gdLst>
            <a:ahLst/>
            <a:rect l="textAreaLeft" t="textAreaTop" r="textAreaRight" b="textAreaBottom"/>
            <a:pathLst>
              <a:path w="28214" h="21600">
                <a:moveTo>
                  <a:pt x="0" y="0"/>
                </a:moveTo>
                <a:lnTo>
                  <a:pt x="28214" y="0"/>
                </a:lnTo>
                <a:lnTo>
                  <a:pt x="28214" y="21600"/>
                </a:lnTo>
                <a:lnTo>
                  <a:pt x="0" y="21600"/>
                </a:lnTo>
                <a:close/>
              </a:path>
              <a:path fill="lightenLess" w="28214" h="21600">
                <a:moveTo>
                  <a:pt x="0" y="0"/>
                </a:moveTo>
                <a:lnTo>
                  <a:pt x="28214" y="0"/>
                </a:lnTo>
                <a:lnTo>
                  <a:pt x="26815" y="1400"/>
                </a:lnTo>
                <a:lnTo>
                  <a:pt x="1400" y="1400"/>
                </a:lnTo>
                <a:close/>
              </a:path>
              <a:path fill="darken" w="28214" h="21600">
                <a:moveTo>
                  <a:pt x="28214" y="0"/>
                </a:moveTo>
                <a:lnTo>
                  <a:pt x="28214" y="21600"/>
                </a:lnTo>
                <a:lnTo>
                  <a:pt x="26815" y="20200"/>
                </a:lnTo>
                <a:lnTo>
                  <a:pt x="26815" y="1400"/>
                </a:lnTo>
                <a:close/>
              </a:path>
              <a:path fill="darkenLess" w="28214" h="21600">
                <a:moveTo>
                  <a:pt x="282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15" y="20200"/>
                </a:lnTo>
                <a:close/>
              </a:path>
              <a:path fill="lighten" w="282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33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黑体"/>
                <a:ea typeface="Bookman Old Style"/>
              </a:rPr>
              <a:t>地球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>
            <a:hlinkClick r:id="rId8" action="ppaction://hlinksldjump"/>
          </p:cNvPr>
          <p:cNvSpPr/>
          <p:nvPr/>
        </p:nvSpPr>
        <p:spPr>
          <a:xfrm>
            <a:off x="2824920" y="42480"/>
            <a:ext cx="369720" cy="282960"/>
          </a:xfrm>
          <a:custGeom>
            <a:avLst/>
            <a:gdLst>
              <a:gd name="textAreaLeft" fmla="*/ 18360 w 369720"/>
              <a:gd name="textAreaRight" fmla="*/ 351360 w 369720"/>
              <a:gd name="textAreaTop" fmla="*/ 18360 h 282960"/>
              <a:gd name="textAreaBottom" fmla="*/ 264600 h 282960"/>
            </a:gdLst>
            <a:ahLst/>
            <a:rect l="textAreaLeft" t="textAreaTop" r="textAreaRight" b="textAreaBottom"/>
            <a:pathLst>
              <a:path w="28214" h="21600">
                <a:moveTo>
                  <a:pt x="0" y="0"/>
                </a:moveTo>
                <a:lnTo>
                  <a:pt x="28214" y="0"/>
                </a:lnTo>
                <a:lnTo>
                  <a:pt x="28214" y="21600"/>
                </a:lnTo>
                <a:lnTo>
                  <a:pt x="0" y="21600"/>
                </a:lnTo>
                <a:close/>
              </a:path>
              <a:path fill="lightenLess" w="28214" h="21600">
                <a:moveTo>
                  <a:pt x="0" y="0"/>
                </a:moveTo>
                <a:lnTo>
                  <a:pt x="28214" y="0"/>
                </a:lnTo>
                <a:lnTo>
                  <a:pt x="26815" y="1400"/>
                </a:lnTo>
                <a:lnTo>
                  <a:pt x="1400" y="1400"/>
                </a:lnTo>
                <a:close/>
              </a:path>
              <a:path fill="darken" w="28214" h="21600">
                <a:moveTo>
                  <a:pt x="28214" y="0"/>
                </a:moveTo>
                <a:lnTo>
                  <a:pt x="28214" y="21600"/>
                </a:lnTo>
                <a:lnTo>
                  <a:pt x="26815" y="20200"/>
                </a:lnTo>
                <a:lnTo>
                  <a:pt x="26815" y="1400"/>
                </a:lnTo>
                <a:close/>
              </a:path>
              <a:path fill="darkenLess" w="28214" h="21600">
                <a:moveTo>
                  <a:pt x="282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15" y="20200"/>
                </a:lnTo>
                <a:close/>
              </a:path>
              <a:path fill="lighten" w="282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33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黑体"/>
                <a:ea typeface="Bookman Old Style"/>
              </a:rPr>
              <a:t>节日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>
            <a:hlinkClick r:id="rId9" action="ppaction://hlinksldjump"/>
          </p:cNvPr>
          <p:cNvSpPr/>
          <p:nvPr/>
        </p:nvSpPr>
        <p:spPr>
          <a:xfrm>
            <a:off x="3891960" y="42480"/>
            <a:ext cx="369720" cy="282960"/>
          </a:xfrm>
          <a:custGeom>
            <a:avLst/>
            <a:gdLst>
              <a:gd name="textAreaLeft" fmla="*/ 18360 w 369720"/>
              <a:gd name="textAreaRight" fmla="*/ 351360 w 369720"/>
              <a:gd name="textAreaTop" fmla="*/ 18360 h 282960"/>
              <a:gd name="textAreaBottom" fmla="*/ 264600 h 282960"/>
            </a:gdLst>
            <a:ahLst/>
            <a:rect l="textAreaLeft" t="textAreaTop" r="textAreaRight" b="textAreaBottom"/>
            <a:pathLst>
              <a:path w="28214" h="21600">
                <a:moveTo>
                  <a:pt x="0" y="0"/>
                </a:moveTo>
                <a:lnTo>
                  <a:pt x="28214" y="0"/>
                </a:lnTo>
                <a:lnTo>
                  <a:pt x="28214" y="21600"/>
                </a:lnTo>
                <a:lnTo>
                  <a:pt x="0" y="21600"/>
                </a:lnTo>
                <a:close/>
              </a:path>
              <a:path fill="lightenLess" w="28214" h="21600">
                <a:moveTo>
                  <a:pt x="0" y="0"/>
                </a:moveTo>
                <a:lnTo>
                  <a:pt x="28214" y="0"/>
                </a:lnTo>
                <a:lnTo>
                  <a:pt x="26815" y="1400"/>
                </a:lnTo>
                <a:lnTo>
                  <a:pt x="1400" y="1400"/>
                </a:lnTo>
                <a:close/>
              </a:path>
              <a:path fill="darken" w="28214" h="21600">
                <a:moveTo>
                  <a:pt x="28214" y="0"/>
                </a:moveTo>
                <a:lnTo>
                  <a:pt x="28214" y="21600"/>
                </a:lnTo>
                <a:lnTo>
                  <a:pt x="26815" y="20200"/>
                </a:lnTo>
                <a:lnTo>
                  <a:pt x="26815" y="1400"/>
                </a:lnTo>
                <a:close/>
              </a:path>
              <a:path fill="darkenLess" w="28214" h="21600">
                <a:moveTo>
                  <a:pt x="282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15" y="20200"/>
                </a:lnTo>
                <a:close/>
              </a:path>
              <a:path fill="lighten" w="282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33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黑体"/>
                <a:ea typeface="Bookman Old Style"/>
              </a:rPr>
              <a:t>平闰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>
            <a:hlinkClick r:id="rId10" action="ppaction://hlinksldjump"/>
          </p:cNvPr>
          <p:cNvSpPr/>
          <p:nvPr/>
        </p:nvSpPr>
        <p:spPr>
          <a:xfrm>
            <a:off x="5187240" y="42480"/>
            <a:ext cx="369720" cy="282960"/>
          </a:xfrm>
          <a:custGeom>
            <a:avLst/>
            <a:gdLst>
              <a:gd name="textAreaLeft" fmla="*/ 18360 w 369720"/>
              <a:gd name="textAreaRight" fmla="*/ 351360 w 369720"/>
              <a:gd name="textAreaTop" fmla="*/ 18360 h 282960"/>
              <a:gd name="textAreaBottom" fmla="*/ 264600 h 282960"/>
            </a:gdLst>
            <a:ahLst/>
            <a:rect l="textAreaLeft" t="textAreaTop" r="textAreaRight" b="textAreaBottom"/>
            <a:pathLst>
              <a:path w="28214" h="21600">
                <a:moveTo>
                  <a:pt x="0" y="0"/>
                </a:moveTo>
                <a:lnTo>
                  <a:pt x="28214" y="0"/>
                </a:lnTo>
                <a:lnTo>
                  <a:pt x="28214" y="21600"/>
                </a:lnTo>
                <a:lnTo>
                  <a:pt x="0" y="21600"/>
                </a:lnTo>
                <a:close/>
              </a:path>
              <a:path fill="lightenLess" w="28214" h="21600">
                <a:moveTo>
                  <a:pt x="0" y="0"/>
                </a:moveTo>
                <a:lnTo>
                  <a:pt x="28214" y="0"/>
                </a:lnTo>
                <a:lnTo>
                  <a:pt x="26815" y="1400"/>
                </a:lnTo>
                <a:lnTo>
                  <a:pt x="1400" y="1400"/>
                </a:lnTo>
                <a:close/>
              </a:path>
              <a:path fill="darken" w="28214" h="21600">
                <a:moveTo>
                  <a:pt x="28214" y="0"/>
                </a:moveTo>
                <a:lnTo>
                  <a:pt x="28214" y="21600"/>
                </a:lnTo>
                <a:lnTo>
                  <a:pt x="26815" y="20200"/>
                </a:lnTo>
                <a:lnTo>
                  <a:pt x="26815" y="1400"/>
                </a:lnTo>
                <a:close/>
              </a:path>
              <a:path fill="darkenLess" w="28214" h="21600">
                <a:moveTo>
                  <a:pt x="282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15" y="20200"/>
                </a:lnTo>
                <a:close/>
              </a:path>
              <a:path fill="lighten" w="282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33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黑体"/>
                <a:ea typeface="Bookman Old Style"/>
              </a:rPr>
              <a:t>拳头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>
            <a:hlinkClick r:id="rId11" action="ppaction://hlinksldjump"/>
          </p:cNvPr>
          <p:cNvSpPr/>
          <p:nvPr/>
        </p:nvSpPr>
        <p:spPr>
          <a:xfrm>
            <a:off x="6253920" y="42480"/>
            <a:ext cx="369720" cy="282960"/>
          </a:xfrm>
          <a:custGeom>
            <a:avLst/>
            <a:gdLst>
              <a:gd name="textAreaLeft" fmla="*/ 18360 w 369720"/>
              <a:gd name="textAreaRight" fmla="*/ 351360 w 369720"/>
              <a:gd name="textAreaTop" fmla="*/ 18360 h 282960"/>
              <a:gd name="textAreaBottom" fmla="*/ 264600 h 282960"/>
            </a:gdLst>
            <a:ahLst/>
            <a:rect l="textAreaLeft" t="textAreaTop" r="textAreaRight" b="textAreaBottom"/>
            <a:pathLst>
              <a:path w="28214" h="21600">
                <a:moveTo>
                  <a:pt x="0" y="0"/>
                </a:moveTo>
                <a:lnTo>
                  <a:pt x="28214" y="0"/>
                </a:lnTo>
                <a:lnTo>
                  <a:pt x="28214" y="21600"/>
                </a:lnTo>
                <a:lnTo>
                  <a:pt x="0" y="21600"/>
                </a:lnTo>
                <a:close/>
              </a:path>
              <a:path fill="lightenLess" w="28214" h="21600">
                <a:moveTo>
                  <a:pt x="0" y="0"/>
                </a:moveTo>
                <a:lnTo>
                  <a:pt x="28214" y="0"/>
                </a:lnTo>
                <a:lnTo>
                  <a:pt x="26815" y="1400"/>
                </a:lnTo>
                <a:lnTo>
                  <a:pt x="1400" y="1400"/>
                </a:lnTo>
                <a:close/>
              </a:path>
              <a:path fill="darken" w="28214" h="21600">
                <a:moveTo>
                  <a:pt x="28214" y="0"/>
                </a:moveTo>
                <a:lnTo>
                  <a:pt x="28214" y="21600"/>
                </a:lnTo>
                <a:lnTo>
                  <a:pt x="26815" y="20200"/>
                </a:lnTo>
                <a:lnTo>
                  <a:pt x="26815" y="1400"/>
                </a:lnTo>
                <a:close/>
              </a:path>
              <a:path fill="darkenLess" w="28214" h="21600">
                <a:moveTo>
                  <a:pt x="282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15" y="20200"/>
                </a:lnTo>
                <a:close/>
              </a:path>
              <a:path fill="lighten" w="282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33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黑体"/>
                <a:ea typeface="Bookman Old Style"/>
              </a:rPr>
              <a:t>歌决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">
            <a:hlinkClick r:id="rId12" action="ppaction://hlinksldjump"/>
          </p:cNvPr>
          <p:cNvSpPr/>
          <p:nvPr/>
        </p:nvSpPr>
        <p:spPr>
          <a:xfrm>
            <a:off x="7396920" y="42480"/>
            <a:ext cx="369720" cy="282960"/>
          </a:xfrm>
          <a:custGeom>
            <a:avLst/>
            <a:gdLst>
              <a:gd name="textAreaLeft" fmla="*/ 18360 w 369720"/>
              <a:gd name="textAreaRight" fmla="*/ 351360 w 369720"/>
              <a:gd name="textAreaTop" fmla="*/ 18360 h 282960"/>
              <a:gd name="textAreaBottom" fmla="*/ 264600 h 282960"/>
            </a:gdLst>
            <a:ahLst/>
            <a:rect l="textAreaLeft" t="textAreaTop" r="textAreaRight" b="textAreaBottom"/>
            <a:pathLst>
              <a:path w="28214" h="21600">
                <a:moveTo>
                  <a:pt x="0" y="0"/>
                </a:moveTo>
                <a:lnTo>
                  <a:pt x="28214" y="0"/>
                </a:lnTo>
                <a:lnTo>
                  <a:pt x="28214" y="21600"/>
                </a:lnTo>
                <a:lnTo>
                  <a:pt x="0" y="21600"/>
                </a:lnTo>
                <a:close/>
              </a:path>
              <a:path fill="lightenLess" w="28214" h="21600">
                <a:moveTo>
                  <a:pt x="0" y="0"/>
                </a:moveTo>
                <a:lnTo>
                  <a:pt x="28214" y="0"/>
                </a:lnTo>
                <a:lnTo>
                  <a:pt x="26815" y="1400"/>
                </a:lnTo>
                <a:lnTo>
                  <a:pt x="1400" y="1400"/>
                </a:lnTo>
                <a:close/>
              </a:path>
              <a:path fill="darken" w="28214" h="21600">
                <a:moveTo>
                  <a:pt x="28214" y="0"/>
                </a:moveTo>
                <a:lnTo>
                  <a:pt x="28214" y="21600"/>
                </a:lnTo>
                <a:lnTo>
                  <a:pt x="26815" y="20200"/>
                </a:lnTo>
                <a:lnTo>
                  <a:pt x="26815" y="1400"/>
                </a:lnTo>
                <a:close/>
              </a:path>
              <a:path fill="darkenLess" w="28214" h="21600">
                <a:moveTo>
                  <a:pt x="282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15" y="20200"/>
                </a:lnTo>
                <a:close/>
              </a:path>
              <a:path fill="lighten" w="282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33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黑体"/>
                <a:ea typeface="Bookman Old Style"/>
              </a:rPr>
              <a:t>练习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454600" y="7560"/>
            <a:ext cx="446760" cy="282960"/>
          </a:xfrm>
          <a:custGeom>
            <a:avLst/>
            <a:gdLst>
              <a:gd name="textAreaLeft" fmla="*/ 18360 w 446760"/>
              <a:gd name="textAreaRight" fmla="*/ 428400 w 446760"/>
              <a:gd name="textAreaTop" fmla="*/ 18360 h 282960"/>
              <a:gd name="textAreaBottom" fmla="*/ 264600 h 282960"/>
            </a:gdLst>
            <a:ahLst/>
            <a:rect l="textAreaLeft" t="textAreaTop" r="textAreaRight" b="textAreaBottom"/>
            <a:pathLst>
              <a:path w="34088" h="21600">
                <a:moveTo>
                  <a:pt x="0" y="0"/>
                </a:moveTo>
                <a:lnTo>
                  <a:pt x="34088" y="0"/>
                </a:lnTo>
                <a:lnTo>
                  <a:pt x="34088" y="21600"/>
                </a:lnTo>
                <a:lnTo>
                  <a:pt x="0" y="21600"/>
                </a:lnTo>
                <a:close/>
              </a:path>
              <a:path fill="lightenLess" w="34088" h="21600">
                <a:moveTo>
                  <a:pt x="0" y="0"/>
                </a:moveTo>
                <a:lnTo>
                  <a:pt x="34088" y="0"/>
                </a:lnTo>
                <a:lnTo>
                  <a:pt x="32688" y="1400"/>
                </a:lnTo>
                <a:lnTo>
                  <a:pt x="1400" y="1400"/>
                </a:lnTo>
                <a:close/>
              </a:path>
              <a:path fill="darken" w="34088" h="21600">
                <a:moveTo>
                  <a:pt x="34088" y="0"/>
                </a:moveTo>
                <a:lnTo>
                  <a:pt x="34088" y="21600"/>
                </a:lnTo>
                <a:lnTo>
                  <a:pt x="32688" y="20200"/>
                </a:lnTo>
                <a:lnTo>
                  <a:pt x="32688" y="1400"/>
                </a:lnTo>
                <a:close/>
              </a:path>
              <a:path fill="darkenLess" w="34088" h="21600">
                <a:moveTo>
                  <a:pt x="34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88" y="20200"/>
                </a:lnTo>
                <a:close/>
              </a:path>
              <a:path fill="lighten" w="34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33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" spc="-1" strike="noStrike">
                <a:solidFill>
                  <a:srgbClr val="ffff00"/>
                </a:solidFill>
                <a:latin typeface="幼圆"/>
                <a:ea typeface="隶书"/>
              </a:rPr>
              <a:t>练习二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590920" y="-9216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0000"/>
                </a:solidFill>
                <a:latin typeface="Arial Black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  <a:ea typeface="隶书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  <a:ea typeface="隶书"/>
              </a:rPr>
              <a:t>2000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  <a:ea typeface="隶书"/>
              </a:rPr>
              <a:t>年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1" name="200001%20copy" descr=""/>
          <p:cNvPicPr/>
          <p:nvPr/>
        </p:nvPicPr>
        <p:blipFill>
          <a:blip r:embed="rId1"/>
          <a:stretch/>
        </p:blipFill>
        <p:spPr>
          <a:xfrm>
            <a:off x="0" y="60948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122" name="200002%20copy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123" name="200003%20copy" descr=""/>
          <p:cNvPicPr/>
          <p:nvPr/>
        </p:nvPicPr>
        <p:blipFill>
          <a:blip r:embed="rId3"/>
          <a:stretch/>
        </p:blipFill>
        <p:spPr>
          <a:xfrm>
            <a:off x="4572000" y="60948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124" name="200004%20copy" descr=""/>
          <p:cNvPicPr/>
          <p:nvPr/>
        </p:nvPicPr>
        <p:blipFill>
          <a:blip r:embed="rId4"/>
          <a:stretch/>
        </p:blipFill>
        <p:spPr>
          <a:xfrm>
            <a:off x="6858000" y="60948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125" name="0092" descr=""/>
          <p:cNvPicPr/>
          <p:nvPr/>
        </p:nvPicPr>
        <p:blipFill>
          <a:blip r:embed="rId5"/>
          <a:stretch/>
        </p:blipFill>
        <p:spPr>
          <a:xfrm>
            <a:off x="0" y="533520"/>
            <a:ext cx="9144000" cy="75960"/>
          </a:xfrm>
          <a:prstGeom prst="rect">
            <a:avLst/>
          </a:prstGeom>
          <a:ln w="0">
            <a:noFill/>
          </a:ln>
        </p:spPr>
      </p:pic>
      <p:pic>
        <p:nvPicPr>
          <p:cNvPr id="126" name="200005%20copy" descr=""/>
          <p:cNvPicPr/>
          <p:nvPr/>
        </p:nvPicPr>
        <p:blipFill>
          <a:blip r:embed="rId6"/>
          <a:stretch/>
        </p:blipFill>
        <p:spPr>
          <a:xfrm>
            <a:off x="0" y="2743200"/>
            <a:ext cx="2286000" cy="2181240"/>
          </a:xfrm>
          <a:prstGeom prst="rect">
            <a:avLst/>
          </a:prstGeom>
          <a:ln w="0">
            <a:noFill/>
          </a:ln>
        </p:spPr>
      </p:pic>
      <p:pic>
        <p:nvPicPr>
          <p:cNvPr id="127" name="200006%20copy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286000" y="274320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128" name="200007%20copy" descr=""/>
          <p:cNvPicPr/>
          <p:nvPr/>
        </p:nvPicPr>
        <p:blipFill>
          <a:blip r:embed="rId9"/>
          <a:stretch/>
        </p:blipFill>
        <p:spPr>
          <a:xfrm>
            <a:off x="4572000" y="274320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129" name="200008%20copy" descr=""/>
          <p:cNvPicPr/>
          <p:nvPr/>
        </p:nvPicPr>
        <p:blipFill>
          <a:blip r:embed="rId10"/>
          <a:stretch/>
        </p:blipFill>
        <p:spPr>
          <a:xfrm>
            <a:off x="6858000" y="2743200"/>
            <a:ext cx="2286000" cy="21668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2743200"/>
            <a:ext cx="9144000" cy="0"/>
          </a:xfrm>
          <a:prstGeom prst="line">
            <a:avLst/>
          </a:prstGeom>
          <a:ln w="316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1" name="200009%20copy" descr=""/>
          <p:cNvPicPr/>
          <p:nvPr/>
        </p:nvPicPr>
        <p:blipFill>
          <a:blip r:embed="rId11"/>
          <a:stretch/>
        </p:blipFill>
        <p:spPr>
          <a:xfrm>
            <a:off x="0" y="4876920"/>
            <a:ext cx="2286000" cy="1981080"/>
          </a:xfrm>
          <a:prstGeom prst="rect">
            <a:avLst/>
          </a:prstGeom>
          <a:ln w="0">
            <a:noFill/>
          </a:ln>
        </p:spPr>
      </p:pic>
      <p:pic>
        <p:nvPicPr>
          <p:cNvPr id="132" name="200010%20copy" descr=""/>
          <p:cNvPicPr/>
          <p:nvPr/>
        </p:nvPicPr>
        <p:blipFill>
          <a:blip r:embed="rId12"/>
          <a:stretch/>
        </p:blipFill>
        <p:spPr>
          <a:xfrm>
            <a:off x="2286000" y="4876920"/>
            <a:ext cx="2286000" cy="1981080"/>
          </a:xfrm>
          <a:prstGeom prst="rect">
            <a:avLst/>
          </a:prstGeom>
          <a:ln w="0">
            <a:noFill/>
          </a:ln>
        </p:spPr>
      </p:pic>
      <p:pic>
        <p:nvPicPr>
          <p:cNvPr id="133" name="200011%20copy" descr=""/>
          <p:cNvPicPr/>
          <p:nvPr/>
        </p:nvPicPr>
        <p:blipFill>
          <a:blip r:embed="rId13"/>
          <a:stretch/>
        </p:blipFill>
        <p:spPr>
          <a:xfrm>
            <a:off x="4572000" y="4876920"/>
            <a:ext cx="2286000" cy="1981080"/>
          </a:xfrm>
          <a:prstGeom prst="rect">
            <a:avLst/>
          </a:prstGeom>
          <a:ln w="0">
            <a:noFill/>
          </a:ln>
        </p:spPr>
      </p:pic>
      <p:pic>
        <p:nvPicPr>
          <p:cNvPr id="134" name="200012%20copy" descr=""/>
          <p:cNvPicPr/>
          <p:nvPr/>
        </p:nvPicPr>
        <p:blipFill>
          <a:blip r:embed="rId14"/>
          <a:stretch/>
        </p:blipFill>
        <p:spPr>
          <a:xfrm>
            <a:off x="6858000" y="4876920"/>
            <a:ext cx="2286000" cy="1981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609480"/>
            <a:ext cx="0" cy="6324840"/>
          </a:xfrm>
          <a:prstGeom prst="line">
            <a:avLst/>
          </a:prstGeom>
          <a:ln w="316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609480"/>
            <a:ext cx="0" cy="624852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609480"/>
            <a:ext cx="0" cy="6324840"/>
          </a:xfrm>
          <a:prstGeom prst="line">
            <a:avLst/>
          </a:prstGeom>
          <a:ln w="316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876920"/>
            <a:ext cx="9144000" cy="0"/>
          </a:xfrm>
          <a:prstGeom prst="line">
            <a:avLst/>
          </a:prstGeom>
          <a:ln w="316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>
            <a:hlinkClick r:id="rId15" action="ppaction://hlinksldjump"/>
          </p:cNvPr>
          <p:cNvSpPr/>
          <p:nvPr/>
        </p:nvSpPr>
        <p:spPr>
          <a:xfrm>
            <a:off x="8534520" y="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671120" y="568440"/>
            <a:ext cx="457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66ff33"/>
                </a:solidFill>
                <a:latin typeface="黑体"/>
                <a:ea typeface="隶书"/>
              </a:rPr>
              <a:t>你能说出这些节日的日期吗</a:t>
            </a:r>
            <a:r>
              <a:rPr b="0" i="1" lang="zh-CN" sz="4400" spc="-1" strike="noStrike">
                <a:solidFill>
                  <a:srgbClr val="66ff33"/>
                </a:solidFill>
                <a:latin typeface="黑体"/>
                <a:ea typeface="隶书"/>
              </a:rPr>
              <a:t>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03920" y="1362600"/>
            <a:ext cx="1001520" cy="667800"/>
          </a:xfrm>
          <a:custGeom>
            <a:avLst/>
            <a:gdLst>
              <a:gd name="textAreaLeft" fmla="*/ 43200 w 1001520"/>
              <a:gd name="textAreaRight" fmla="*/ 958320 w 100152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2388" h="21600">
                <a:moveTo>
                  <a:pt x="0" y="0"/>
                </a:moveTo>
                <a:lnTo>
                  <a:pt x="32388" y="0"/>
                </a:lnTo>
                <a:lnTo>
                  <a:pt x="32388" y="21600"/>
                </a:lnTo>
                <a:lnTo>
                  <a:pt x="0" y="21600"/>
                </a:lnTo>
                <a:close/>
              </a:path>
              <a:path fill="lightenLess" w="32388" h="21600">
                <a:moveTo>
                  <a:pt x="0" y="0"/>
                </a:moveTo>
                <a:lnTo>
                  <a:pt x="32388" y="0"/>
                </a:lnTo>
                <a:lnTo>
                  <a:pt x="30988" y="1400"/>
                </a:lnTo>
                <a:lnTo>
                  <a:pt x="1400" y="1400"/>
                </a:lnTo>
                <a:close/>
              </a:path>
              <a:path fill="darken" w="32388" h="21600">
                <a:moveTo>
                  <a:pt x="32388" y="0"/>
                </a:moveTo>
                <a:lnTo>
                  <a:pt x="32388" y="21600"/>
                </a:lnTo>
                <a:lnTo>
                  <a:pt x="30988" y="20200"/>
                </a:lnTo>
                <a:lnTo>
                  <a:pt x="30988" y="1400"/>
                </a:lnTo>
                <a:close/>
              </a:path>
              <a:path fill="darkenLess" w="32388" h="21600">
                <a:moveTo>
                  <a:pt x="323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8" y="20200"/>
                </a:lnTo>
                <a:close/>
              </a:path>
              <a:path fill="lighten" w="323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Bookman Old Style"/>
              </a:rPr>
              <a:t>儿童节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1560" y="2209680"/>
            <a:ext cx="173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ff"/>
                </a:solidFill>
                <a:latin typeface="黑体"/>
              </a:rPr>
              <a:t>6</a:t>
            </a:r>
            <a:r>
              <a:rPr b="0" lang="zh-CN" sz="4000" spc="-1" strike="noStrike">
                <a:solidFill>
                  <a:srgbClr val="ff99ff"/>
                </a:solidFill>
                <a:latin typeface="黑体"/>
              </a:rPr>
              <a:t>月</a:t>
            </a:r>
            <a:r>
              <a:rPr b="0" lang="zh-CN" sz="4000" spc="-1" strike="noStrike">
                <a:solidFill>
                  <a:srgbClr val="ff99ff"/>
                </a:solidFill>
                <a:latin typeface="黑体"/>
              </a:rPr>
              <a:t>1</a:t>
            </a:r>
            <a:r>
              <a:rPr b="0" lang="zh-CN" sz="4000" spc="-1" strike="noStrike">
                <a:solidFill>
                  <a:srgbClr val="ff99ff"/>
                </a:solidFill>
                <a:latin typeface="黑体"/>
              </a:rPr>
              <a:t>日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71240" y="1362600"/>
            <a:ext cx="1001520" cy="667800"/>
          </a:xfrm>
          <a:custGeom>
            <a:avLst/>
            <a:gdLst>
              <a:gd name="textAreaLeft" fmla="*/ 43200 w 1001520"/>
              <a:gd name="textAreaRight" fmla="*/ 958320 w 100152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2388" h="21600">
                <a:moveTo>
                  <a:pt x="0" y="0"/>
                </a:moveTo>
                <a:lnTo>
                  <a:pt x="32388" y="0"/>
                </a:lnTo>
                <a:lnTo>
                  <a:pt x="32388" y="21600"/>
                </a:lnTo>
                <a:lnTo>
                  <a:pt x="0" y="21600"/>
                </a:lnTo>
                <a:close/>
              </a:path>
              <a:path fill="lightenLess" w="32388" h="21600">
                <a:moveTo>
                  <a:pt x="0" y="0"/>
                </a:moveTo>
                <a:lnTo>
                  <a:pt x="32388" y="0"/>
                </a:lnTo>
                <a:lnTo>
                  <a:pt x="30988" y="1400"/>
                </a:lnTo>
                <a:lnTo>
                  <a:pt x="1400" y="1400"/>
                </a:lnTo>
                <a:close/>
              </a:path>
              <a:path fill="darken" w="32388" h="21600">
                <a:moveTo>
                  <a:pt x="32388" y="0"/>
                </a:moveTo>
                <a:lnTo>
                  <a:pt x="32388" y="21600"/>
                </a:lnTo>
                <a:lnTo>
                  <a:pt x="30988" y="20200"/>
                </a:lnTo>
                <a:lnTo>
                  <a:pt x="30988" y="1400"/>
                </a:lnTo>
                <a:close/>
              </a:path>
              <a:path fill="darkenLess" w="32388" h="21600">
                <a:moveTo>
                  <a:pt x="323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8" y="20200"/>
                </a:lnTo>
                <a:close/>
              </a:path>
              <a:path fill="lighten" w="323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Bookman Old Style"/>
              </a:rPr>
              <a:t>教师节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39640" y="1362600"/>
            <a:ext cx="1001520" cy="667800"/>
          </a:xfrm>
          <a:custGeom>
            <a:avLst/>
            <a:gdLst>
              <a:gd name="textAreaLeft" fmla="*/ 43200 w 1001520"/>
              <a:gd name="textAreaRight" fmla="*/ 958320 w 100152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2388" h="21600">
                <a:moveTo>
                  <a:pt x="0" y="0"/>
                </a:moveTo>
                <a:lnTo>
                  <a:pt x="32388" y="0"/>
                </a:lnTo>
                <a:lnTo>
                  <a:pt x="32388" y="21600"/>
                </a:lnTo>
                <a:lnTo>
                  <a:pt x="0" y="21600"/>
                </a:lnTo>
                <a:close/>
              </a:path>
              <a:path fill="lightenLess" w="32388" h="21600">
                <a:moveTo>
                  <a:pt x="0" y="0"/>
                </a:moveTo>
                <a:lnTo>
                  <a:pt x="32388" y="0"/>
                </a:lnTo>
                <a:lnTo>
                  <a:pt x="30988" y="1400"/>
                </a:lnTo>
                <a:lnTo>
                  <a:pt x="1400" y="1400"/>
                </a:lnTo>
                <a:close/>
              </a:path>
              <a:path fill="darken" w="32388" h="21600">
                <a:moveTo>
                  <a:pt x="32388" y="0"/>
                </a:moveTo>
                <a:lnTo>
                  <a:pt x="32388" y="21600"/>
                </a:lnTo>
                <a:lnTo>
                  <a:pt x="30988" y="20200"/>
                </a:lnTo>
                <a:lnTo>
                  <a:pt x="30988" y="1400"/>
                </a:lnTo>
                <a:close/>
              </a:path>
              <a:path fill="darkenLess" w="32388" h="21600">
                <a:moveTo>
                  <a:pt x="323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8" y="20200"/>
                </a:lnTo>
                <a:close/>
              </a:path>
              <a:path fill="lighten" w="323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Bookman Old Style"/>
              </a:rPr>
              <a:t>劳动节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893560" y="2962800"/>
            <a:ext cx="1731600" cy="667800"/>
          </a:xfrm>
          <a:custGeom>
            <a:avLst/>
            <a:gdLst>
              <a:gd name="textAreaLeft" fmla="*/ 43200 w 1731600"/>
              <a:gd name="textAreaRight" fmla="*/ 1688400 w 173160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55990" h="21600">
                <a:moveTo>
                  <a:pt x="0" y="0"/>
                </a:moveTo>
                <a:lnTo>
                  <a:pt x="55990" y="0"/>
                </a:lnTo>
                <a:lnTo>
                  <a:pt x="55990" y="21600"/>
                </a:lnTo>
                <a:lnTo>
                  <a:pt x="0" y="21600"/>
                </a:lnTo>
                <a:close/>
              </a:path>
              <a:path fill="lightenLess" w="55990" h="21600">
                <a:moveTo>
                  <a:pt x="0" y="0"/>
                </a:moveTo>
                <a:lnTo>
                  <a:pt x="55990" y="0"/>
                </a:lnTo>
                <a:lnTo>
                  <a:pt x="54590" y="1400"/>
                </a:lnTo>
                <a:lnTo>
                  <a:pt x="1400" y="1400"/>
                </a:lnTo>
                <a:close/>
              </a:path>
              <a:path fill="darken" w="55990" h="21600">
                <a:moveTo>
                  <a:pt x="55990" y="0"/>
                </a:moveTo>
                <a:lnTo>
                  <a:pt x="55990" y="21600"/>
                </a:lnTo>
                <a:lnTo>
                  <a:pt x="54590" y="20200"/>
                </a:lnTo>
                <a:lnTo>
                  <a:pt x="54590" y="1400"/>
                </a:lnTo>
                <a:close/>
              </a:path>
              <a:path fill="darkenLess" w="55990" h="21600">
                <a:moveTo>
                  <a:pt x="55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590" y="20200"/>
                </a:lnTo>
                <a:close/>
              </a:path>
              <a:path fill="lighten" w="55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Bookman Old Style"/>
              </a:rPr>
              <a:t>澳门回归祖国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50160" y="2962800"/>
            <a:ext cx="1731600" cy="667800"/>
          </a:xfrm>
          <a:custGeom>
            <a:avLst/>
            <a:gdLst>
              <a:gd name="textAreaLeft" fmla="*/ 43200 w 1731600"/>
              <a:gd name="textAreaRight" fmla="*/ 1688400 w 173160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55990" h="21600">
                <a:moveTo>
                  <a:pt x="0" y="0"/>
                </a:moveTo>
                <a:lnTo>
                  <a:pt x="55990" y="0"/>
                </a:lnTo>
                <a:lnTo>
                  <a:pt x="55990" y="21600"/>
                </a:lnTo>
                <a:lnTo>
                  <a:pt x="0" y="21600"/>
                </a:lnTo>
                <a:close/>
              </a:path>
              <a:path fill="lightenLess" w="55990" h="21600">
                <a:moveTo>
                  <a:pt x="0" y="0"/>
                </a:moveTo>
                <a:lnTo>
                  <a:pt x="55990" y="0"/>
                </a:lnTo>
                <a:lnTo>
                  <a:pt x="54590" y="1400"/>
                </a:lnTo>
                <a:lnTo>
                  <a:pt x="1400" y="1400"/>
                </a:lnTo>
                <a:close/>
              </a:path>
              <a:path fill="darken" w="55990" h="21600">
                <a:moveTo>
                  <a:pt x="55990" y="0"/>
                </a:moveTo>
                <a:lnTo>
                  <a:pt x="55990" y="21600"/>
                </a:lnTo>
                <a:lnTo>
                  <a:pt x="54590" y="20200"/>
                </a:lnTo>
                <a:lnTo>
                  <a:pt x="54590" y="1400"/>
                </a:lnTo>
                <a:close/>
              </a:path>
              <a:path fill="darkenLess" w="55990" h="21600">
                <a:moveTo>
                  <a:pt x="55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590" y="20200"/>
                </a:lnTo>
                <a:close/>
              </a:path>
              <a:path fill="lighten" w="55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Bookman Old Style"/>
              </a:rPr>
              <a:t>香港回归祖国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20280" y="4370760"/>
            <a:ext cx="2462400" cy="667800"/>
          </a:xfrm>
          <a:custGeom>
            <a:avLst/>
            <a:gdLst>
              <a:gd name="textAreaLeft" fmla="*/ 43200 w 2462400"/>
              <a:gd name="textAreaRight" fmla="*/ 2419200 w 246240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79615" h="21600">
                <a:moveTo>
                  <a:pt x="0" y="0"/>
                </a:moveTo>
                <a:lnTo>
                  <a:pt x="79615" y="0"/>
                </a:lnTo>
                <a:lnTo>
                  <a:pt x="79615" y="21600"/>
                </a:lnTo>
                <a:lnTo>
                  <a:pt x="0" y="21600"/>
                </a:lnTo>
                <a:close/>
              </a:path>
              <a:path fill="lightenLess" w="79615" h="21600">
                <a:moveTo>
                  <a:pt x="0" y="0"/>
                </a:moveTo>
                <a:lnTo>
                  <a:pt x="79615" y="0"/>
                </a:lnTo>
                <a:lnTo>
                  <a:pt x="78215" y="1400"/>
                </a:lnTo>
                <a:lnTo>
                  <a:pt x="1400" y="1400"/>
                </a:lnTo>
                <a:close/>
              </a:path>
              <a:path fill="darken" w="79615" h="21600">
                <a:moveTo>
                  <a:pt x="79615" y="0"/>
                </a:moveTo>
                <a:lnTo>
                  <a:pt x="79615" y="21600"/>
                </a:lnTo>
                <a:lnTo>
                  <a:pt x="78215" y="20200"/>
                </a:lnTo>
                <a:lnTo>
                  <a:pt x="78215" y="1400"/>
                </a:lnTo>
                <a:close/>
              </a:path>
              <a:path fill="darkenLess" w="79615" h="21600">
                <a:moveTo>
                  <a:pt x="79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215" y="20200"/>
                </a:lnTo>
                <a:close/>
              </a:path>
              <a:path fill="lighten" w="79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Bookman Old Style"/>
              </a:rPr>
              <a:t>中华人民共和国成立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59680" y="2133720"/>
            <a:ext cx="20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ff"/>
                </a:solidFill>
                <a:latin typeface="黑体"/>
              </a:rPr>
              <a:t>9</a:t>
            </a:r>
            <a:r>
              <a:rPr b="0" lang="zh-CN" sz="4000" spc="-1" strike="noStrike">
                <a:solidFill>
                  <a:srgbClr val="ff99ff"/>
                </a:solidFill>
                <a:latin typeface="黑体"/>
              </a:rPr>
              <a:t>月</a:t>
            </a:r>
            <a:r>
              <a:rPr b="0" lang="zh-CN" sz="4000" spc="-1" strike="noStrike">
                <a:solidFill>
                  <a:srgbClr val="ff99ff"/>
                </a:solidFill>
                <a:latin typeface="黑体"/>
              </a:rPr>
              <a:t>10</a:t>
            </a:r>
            <a:r>
              <a:rPr b="0" lang="zh-CN" sz="4000" spc="-1" strike="noStrike">
                <a:solidFill>
                  <a:srgbClr val="ff99ff"/>
                </a:solidFill>
                <a:latin typeface="黑体"/>
              </a:rPr>
              <a:t>日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24280" y="2060640"/>
            <a:ext cx="173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ff"/>
                </a:solidFill>
                <a:latin typeface="黑体"/>
              </a:rPr>
              <a:t>5</a:t>
            </a:r>
            <a:r>
              <a:rPr b="0" lang="zh-CN" sz="4000" spc="-1" strike="noStrike">
                <a:solidFill>
                  <a:srgbClr val="ff99ff"/>
                </a:solidFill>
                <a:latin typeface="黑体"/>
              </a:rPr>
              <a:t>月</a:t>
            </a:r>
            <a:r>
              <a:rPr b="0" lang="zh-CN" sz="4000" spc="-1" strike="noStrike">
                <a:solidFill>
                  <a:srgbClr val="ff99ff"/>
                </a:solidFill>
                <a:latin typeface="黑体"/>
              </a:rPr>
              <a:t>1</a:t>
            </a:r>
            <a:r>
              <a:rPr b="0" lang="zh-CN" sz="4000" spc="-1" strike="noStrike">
                <a:solidFill>
                  <a:srgbClr val="ff99ff"/>
                </a:solidFill>
                <a:latin typeface="黑体"/>
              </a:rPr>
              <a:t>日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93760" y="3621240"/>
            <a:ext cx="402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ff"/>
                </a:solidFill>
                <a:latin typeface="黑体"/>
              </a:rPr>
              <a:t>1999</a:t>
            </a:r>
            <a:r>
              <a:rPr b="0" lang="zh-CN" sz="4000" spc="-1" strike="noStrike">
                <a:solidFill>
                  <a:srgbClr val="ff99ff"/>
                </a:solidFill>
                <a:latin typeface="黑体"/>
              </a:rPr>
              <a:t>年</a:t>
            </a:r>
            <a:r>
              <a:rPr b="0" lang="zh-CN" sz="4000" spc="-1" strike="noStrike">
                <a:solidFill>
                  <a:srgbClr val="ff99ff"/>
                </a:solidFill>
                <a:latin typeface="黑体"/>
              </a:rPr>
              <a:t>12</a:t>
            </a:r>
            <a:r>
              <a:rPr b="0" lang="zh-CN" sz="4000" spc="-1" strike="noStrike">
                <a:solidFill>
                  <a:srgbClr val="ff99ff"/>
                </a:solidFill>
                <a:latin typeface="黑体"/>
              </a:rPr>
              <a:t>月</a:t>
            </a:r>
            <a:r>
              <a:rPr b="0" lang="zh-CN" sz="4000" spc="-1" strike="noStrike">
                <a:solidFill>
                  <a:srgbClr val="ff99ff"/>
                </a:solidFill>
                <a:latin typeface="黑体"/>
              </a:rPr>
              <a:t>20</a:t>
            </a:r>
            <a:r>
              <a:rPr b="0" lang="zh-CN" sz="4000" spc="-1" strike="noStrike">
                <a:solidFill>
                  <a:srgbClr val="ff99ff"/>
                </a:solidFill>
                <a:latin typeface="黑体"/>
              </a:rPr>
              <a:t>日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3560" y="3621240"/>
            <a:ext cx="344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ff"/>
                </a:solidFill>
                <a:latin typeface="黑体"/>
              </a:rPr>
              <a:t>1997</a:t>
            </a:r>
            <a:r>
              <a:rPr b="0" lang="zh-CN" sz="4000" spc="-1" strike="noStrike">
                <a:solidFill>
                  <a:srgbClr val="ff99ff"/>
                </a:solidFill>
                <a:latin typeface="黑体"/>
              </a:rPr>
              <a:t>年</a:t>
            </a:r>
            <a:r>
              <a:rPr b="0" lang="zh-CN" sz="4000" spc="-1" strike="noStrike">
                <a:solidFill>
                  <a:srgbClr val="ff99ff"/>
                </a:solidFill>
                <a:latin typeface="黑体"/>
              </a:rPr>
              <a:t>7</a:t>
            </a:r>
            <a:r>
              <a:rPr b="0" lang="zh-CN" sz="4000" spc="-1" strike="noStrike">
                <a:solidFill>
                  <a:srgbClr val="ff99ff"/>
                </a:solidFill>
                <a:latin typeface="黑体"/>
              </a:rPr>
              <a:t>月</a:t>
            </a:r>
            <a:r>
              <a:rPr b="0" lang="zh-CN" sz="4000" spc="-1" strike="noStrike">
                <a:solidFill>
                  <a:srgbClr val="ff99ff"/>
                </a:solidFill>
                <a:latin typeface="黑体"/>
              </a:rPr>
              <a:t>1</a:t>
            </a:r>
            <a:r>
              <a:rPr b="0" lang="zh-CN" sz="4000" spc="-1" strike="noStrike">
                <a:solidFill>
                  <a:srgbClr val="ff99ff"/>
                </a:solidFill>
                <a:latin typeface="黑体"/>
              </a:rPr>
              <a:t>日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85960" y="5089680"/>
            <a:ext cx="373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ff"/>
                </a:solidFill>
                <a:latin typeface="黑体"/>
              </a:rPr>
              <a:t>1949</a:t>
            </a:r>
            <a:r>
              <a:rPr b="0" lang="zh-CN" sz="4000" spc="-1" strike="noStrike">
                <a:solidFill>
                  <a:srgbClr val="ff99ff"/>
                </a:solidFill>
                <a:latin typeface="黑体"/>
              </a:rPr>
              <a:t>年</a:t>
            </a:r>
            <a:r>
              <a:rPr b="0" lang="zh-CN" sz="4000" spc="-1" strike="noStrike">
                <a:solidFill>
                  <a:srgbClr val="ff99ff"/>
                </a:solidFill>
                <a:latin typeface="黑体"/>
              </a:rPr>
              <a:t>10</a:t>
            </a:r>
            <a:r>
              <a:rPr b="0" lang="zh-CN" sz="4000" spc="-1" strike="noStrike">
                <a:solidFill>
                  <a:srgbClr val="ff99ff"/>
                </a:solidFill>
                <a:latin typeface="黑体"/>
              </a:rPr>
              <a:t>月</a:t>
            </a:r>
            <a:r>
              <a:rPr b="0" lang="zh-CN" sz="4000" spc="-1" strike="noStrike">
                <a:solidFill>
                  <a:srgbClr val="ff99ff"/>
                </a:solidFill>
                <a:latin typeface="黑体"/>
              </a:rPr>
              <a:t>1</a:t>
            </a:r>
            <a:r>
              <a:rPr b="0" lang="zh-CN" sz="4000" spc="-1" strike="noStrike">
                <a:solidFill>
                  <a:srgbClr val="ff99ff"/>
                </a:solidFill>
                <a:latin typeface="黑体"/>
              </a:rPr>
              <a:t>日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547200" y="90000"/>
            <a:ext cx="610560" cy="282960"/>
          </a:xfrm>
          <a:custGeom>
            <a:avLst/>
            <a:gdLst>
              <a:gd name="textAreaLeft" fmla="*/ 18360 w 610560"/>
              <a:gd name="textAreaRight" fmla="*/ 592200 w 610560"/>
              <a:gd name="textAreaTop" fmla="*/ 18360 h 282960"/>
              <a:gd name="textAreaBottom" fmla="*/ 264600 h 282960"/>
            </a:gdLst>
            <a:ahLst/>
            <a:rect l="textAreaLeft" t="textAreaTop" r="textAreaRight" b="textAreaBottom"/>
            <a:pathLst>
              <a:path w="46576" h="21600">
                <a:moveTo>
                  <a:pt x="0" y="0"/>
                </a:moveTo>
                <a:lnTo>
                  <a:pt x="46576" y="0"/>
                </a:lnTo>
                <a:lnTo>
                  <a:pt x="46576" y="21600"/>
                </a:lnTo>
                <a:lnTo>
                  <a:pt x="0" y="21600"/>
                </a:lnTo>
                <a:close/>
              </a:path>
              <a:path fill="lightenLess" w="46576" h="21600">
                <a:moveTo>
                  <a:pt x="0" y="0"/>
                </a:moveTo>
                <a:lnTo>
                  <a:pt x="46576" y="0"/>
                </a:lnTo>
                <a:lnTo>
                  <a:pt x="45176" y="1400"/>
                </a:lnTo>
                <a:lnTo>
                  <a:pt x="1400" y="1400"/>
                </a:lnTo>
                <a:close/>
              </a:path>
              <a:path fill="darken" w="46576" h="21600">
                <a:moveTo>
                  <a:pt x="46576" y="0"/>
                </a:moveTo>
                <a:lnTo>
                  <a:pt x="46576" y="21600"/>
                </a:lnTo>
                <a:lnTo>
                  <a:pt x="45176" y="20200"/>
                </a:lnTo>
                <a:lnTo>
                  <a:pt x="45176" y="1400"/>
                </a:lnTo>
                <a:close/>
              </a:path>
              <a:path fill="darkenLess" w="46576" h="21600">
                <a:moveTo>
                  <a:pt x="46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76" y="20200"/>
                </a:lnTo>
                <a:close/>
              </a:path>
              <a:path fill="lighten" w="46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33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黑体"/>
                <a:ea typeface="Bookman Old Style"/>
              </a:rPr>
              <a:t>2000</a:t>
            </a:r>
            <a:r>
              <a:rPr b="0" lang="zh-CN" sz="1000" spc="-1" strike="noStrike">
                <a:solidFill>
                  <a:srgbClr val="0000ff"/>
                </a:solidFill>
                <a:latin typeface="黑体"/>
                <a:ea typeface="Bookman Old Style"/>
              </a:rPr>
              <a:t>年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">
            <a:hlinkClick r:id="rId3" action="ppaction://hlinksldjump"/>
          </p:cNvPr>
          <p:cNvSpPr/>
          <p:nvPr/>
        </p:nvSpPr>
        <p:spPr>
          <a:xfrm>
            <a:off x="2039400" y="90000"/>
            <a:ext cx="369720" cy="282960"/>
          </a:xfrm>
          <a:custGeom>
            <a:avLst/>
            <a:gdLst>
              <a:gd name="textAreaLeft" fmla="*/ 18360 w 369720"/>
              <a:gd name="textAreaRight" fmla="*/ 351360 w 369720"/>
              <a:gd name="textAreaTop" fmla="*/ 18360 h 282960"/>
              <a:gd name="textAreaBottom" fmla="*/ 264600 h 282960"/>
            </a:gdLst>
            <a:ahLst/>
            <a:rect l="textAreaLeft" t="textAreaTop" r="textAreaRight" b="textAreaBottom"/>
            <a:pathLst>
              <a:path w="28214" h="21600">
                <a:moveTo>
                  <a:pt x="0" y="0"/>
                </a:moveTo>
                <a:lnTo>
                  <a:pt x="28214" y="0"/>
                </a:lnTo>
                <a:lnTo>
                  <a:pt x="28214" y="21600"/>
                </a:lnTo>
                <a:lnTo>
                  <a:pt x="0" y="21600"/>
                </a:lnTo>
                <a:close/>
              </a:path>
              <a:path fill="lightenLess" w="28214" h="21600">
                <a:moveTo>
                  <a:pt x="0" y="0"/>
                </a:moveTo>
                <a:lnTo>
                  <a:pt x="28214" y="0"/>
                </a:lnTo>
                <a:lnTo>
                  <a:pt x="26815" y="1400"/>
                </a:lnTo>
                <a:lnTo>
                  <a:pt x="1400" y="1400"/>
                </a:lnTo>
                <a:close/>
              </a:path>
              <a:path fill="darken" w="28214" h="21600">
                <a:moveTo>
                  <a:pt x="28214" y="0"/>
                </a:moveTo>
                <a:lnTo>
                  <a:pt x="28214" y="21600"/>
                </a:lnTo>
                <a:lnTo>
                  <a:pt x="26815" y="20200"/>
                </a:lnTo>
                <a:lnTo>
                  <a:pt x="26815" y="1400"/>
                </a:lnTo>
                <a:close/>
              </a:path>
              <a:path fill="darkenLess" w="28214" h="21600">
                <a:moveTo>
                  <a:pt x="282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15" y="20200"/>
                </a:lnTo>
                <a:close/>
              </a:path>
              <a:path fill="lighten" w="282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33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黑体"/>
                <a:ea typeface="Bookman Old Style"/>
              </a:rPr>
              <a:t>地球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">
            <a:hlinkClick r:id="rId4" action="ppaction://hlinksldjump"/>
          </p:cNvPr>
          <p:cNvSpPr/>
          <p:nvPr/>
        </p:nvSpPr>
        <p:spPr>
          <a:xfrm>
            <a:off x="3182400" y="90000"/>
            <a:ext cx="369720" cy="282960"/>
          </a:xfrm>
          <a:custGeom>
            <a:avLst/>
            <a:gdLst>
              <a:gd name="textAreaLeft" fmla="*/ 18360 w 369720"/>
              <a:gd name="textAreaRight" fmla="*/ 351360 w 369720"/>
              <a:gd name="textAreaTop" fmla="*/ 18360 h 282960"/>
              <a:gd name="textAreaBottom" fmla="*/ 264600 h 282960"/>
            </a:gdLst>
            <a:ahLst/>
            <a:rect l="textAreaLeft" t="textAreaTop" r="textAreaRight" b="textAreaBottom"/>
            <a:pathLst>
              <a:path w="28214" h="21600">
                <a:moveTo>
                  <a:pt x="0" y="0"/>
                </a:moveTo>
                <a:lnTo>
                  <a:pt x="28214" y="0"/>
                </a:lnTo>
                <a:lnTo>
                  <a:pt x="28214" y="21600"/>
                </a:lnTo>
                <a:lnTo>
                  <a:pt x="0" y="21600"/>
                </a:lnTo>
                <a:close/>
              </a:path>
              <a:path fill="lightenLess" w="28214" h="21600">
                <a:moveTo>
                  <a:pt x="0" y="0"/>
                </a:moveTo>
                <a:lnTo>
                  <a:pt x="28214" y="0"/>
                </a:lnTo>
                <a:lnTo>
                  <a:pt x="26815" y="1400"/>
                </a:lnTo>
                <a:lnTo>
                  <a:pt x="1400" y="1400"/>
                </a:lnTo>
                <a:close/>
              </a:path>
              <a:path fill="darken" w="28214" h="21600">
                <a:moveTo>
                  <a:pt x="28214" y="0"/>
                </a:moveTo>
                <a:lnTo>
                  <a:pt x="28214" y="21600"/>
                </a:lnTo>
                <a:lnTo>
                  <a:pt x="26815" y="20200"/>
                </a:lnTo>
                <a:lnTo>
                  <a:pt x="26815" y="1400"/>
                </a:lnTo>
                <a:close/>
              </a:path>
              <a:path fill="darkenLess" w="28214" h="21600">
                <a:moveTo>
                  <a:pt x="282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15" y="20200"/>
                </a:lnTo>
                <a:close/>
              </a:path>
              <a:path fill="lighten" w="282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33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黑体"/>
                <a:ea typeface="Bookman Old Style"/>
              </a:rPr>
              <a:t>节日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">
            <a:hlinkClick r:id="rId5" action="ppaction://hlinksldjump"/>
          </p:cNvPr>
          <p:cNvSpPr/>
          <p:nvPr/>
        </p:nvSpPr>
        <p:spPr>
          <a:xfrm>
            <a:off x="4249080" y="90000"/>
            <a:ext cx="369720" cy="282960"/>
          </a:xfrm>
          <a:custGeom>
            <a:avLst/>
            <a:gdLst>
              <a:gd name="textAreaLeft" fmla="*/ 18360 w 369720"/>
              <a:gd name="textAreaRight" fmla="*/ 351360 w 369720"/>
              <a:gd name="textAreaTop" fmla="*/ 18360 h 282960"/>
              <a:gd name="textAreaBottom" fmla="*/ 264600 h 282960"/>
            </a:gdLst>
            <a:ahLst/>
            <a:rect l="textAreaLeft" t="textAreaTop" r="textAreaRight" b="textAreaBottom"/>
            <a:pathLst>
              <a:path w="28214" h="21600">
                <a:moveTo>
                  <a:pt x="0" y="0"/>
                </a:moveTo>
                <a:lnTo>
                  <a:pt x="28214" y="0"/>
                </a:lnTo>
                <a:lnTo>
                  <a:pt x="28214" y="21600"/>
                </a:lnTo>
                <a:lnTo>
                  <a:pt x="0" y="21600"/>
                </a:lnTo>
                <a:close/>
              </a:path>
              <a:path fill="lightenLess" w="28214" h="21600">
                <a:moveTo>
                  <a:pt x="0" y="0"/>
                </a:moveTo>
                <a:lnTo>
                  <a:pt x="28214" y="0"/>
                </a:lnTo>
                <a:lnTo>
                  <a:pt x="26815" y="1400"/>
                </a:lnTo>
                <a:lnTo>
                  <a:pt x="1400" y="1400"/>
                </a:lnTo>
                <a:close/>
              </a:path>
              <a:path fill="darken" w="28214" h="21600">
                <a:moveTo>
                  <a:pt x="28214" y="0"/>
                </a:moveTo>
                <a:lnTo>
                  <a:pt x="28214" y="21600"/>
                </a:lnTo>
                <a:lnTo>
                  <a:pt x="26815" y="20200"/>
                </a:lnTo>
                <a:lnTo>
                  <a:pt x="26815" y="1400"/>
                </a:lnTo>
                <a:close/>
              </a:path>
              <a:path fill="darkenLess" w="28214" h="21600">
                <a:moveTo>
                  <a:pt x="282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15" y="20200"/>
                </a:lnTo>
                <a:close/>
              </a:path>
              <a:path fill="lighten" w="282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33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黑体"/>
                <a:ea typeface="Bookman Old Style"/>
              </a:rPr>
              <a:t>平闰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">
            <a:hlinkClick r:id="rId6" action="ppaction://hlinksldjump"/>
          </p:cNvPr>
          <p:cNvSpPr/>
          <p:nvPr/>
        </p:nvSpPr>
        <p:spPr>
          <a:xfrm>
            <a:off x="5544360" y="90000"/>
            <a:ext cx="369720" cy="282960"/>
          </a:xfrm>
          <a:custGeom>
            <a:avLst/>
            <a:gdLst>
              <a:gd name="textAreaLeft" fmla="*/ 18360 w 369720"/>
              <a:gd name="textAreaRight" fmla="*/ 351360 w 369720"/>
              <a:gd name="textAreaTop" fmla="*/ 18360 h 282960"/>
              <a:gd name="textAreaBottom" fmla="*/ 264600 h 282960"/>
            </a:gdLst>
            <a:ahLst/>
            <a:rect l="textAreaLeft" t="textAreaTop" r="textAreaRight" b="textAreaBottom"/>
            <a:pathLst>
              <a:path w="28214" h="21600">
                <a:moveTo>
                  <a:pt x="0" y="0"/>
                </a:moveTo>
                <a:lnTo>
                  <a:pt x="28214" y="0"/>
                </a:lnTo>
                <a:lnTo>
                  <a:pt x="28214" y="21600"/>
                </a:lnTo>
                <a:lnTo>
                  <a:pt x="0" y="21600"/>
                </a:lnTo>
                <a:close/>
              </a:path>
              <a:path fill="lightenLess" w="28214" h="21600">
                <a:moveTo>
                  <a:pt x="0" y="0"/>
                </a:moveTo>
                <a:lnTo>
                  <a:pt x="28214" y="0"/>
                </a:lnTo>
                <a:lnTo>
                  <a:pt x="26815" y="1400"/>
                </a:lnTo>
                <a:lnTo>
                  <a:pt x="1400" y="1400"/>
                </a:lnTo>
                <a:close/>
              </a:path>
              <a:path fill="darken" w="28214" h="21600">
                <a:moveTo>
                  <a:pt x="28214" y="0"/>
                </a:moveTo>
                <a:lnTo>
                  <a:pt x="28214" y="21600"/>
                </a:lnTo>
                <a:lnTo>
                  <a:pt x="26815" y="20200"/>
                </a:lnTo>
                <a:lnTo>
                  <a:pt x="26815" y="1400"/>
                </a:lnTo>
                <a:close/>
              </a:path>
              <a:path fill="darkenLess" w="28214" h="21600">
                <a:moveTo>
                  <a:pt x="282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15" y="20200"/>
                </a:lnTo>
                <a:close/>
              </a:path>
              <a:path fill="lighten" w="282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33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黑体"/>
                <a:ea typeface="Bookman Old Style"/>
              </a:rPr>
              <a:t>拳头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">
            <a:hlinkClick r:id="rId7" action="ppaction://hlinksldjump"/>
          </p:cNvPr>
          <p:cNvSpPr/>
          <p:nvPr/>
        </p:nvSpPr>
        <p:spPr>
          <a:xfrm>
            <a:off x="6611400" y="90000"/>
            <a:ext cx="369720" cy="282960"/>
          </a:xfrm>
          <a:custGeom>
            <a:avLst/>
            <a:gdLst>
              <a:gd name="textAreaLeft" fmla="*/ 18360 w 369720"/>
              <a:gd name="textAreaRight" fmla="*/ 351360 w 369720"/>
              <a:gd name="textAreaTop" fmla="*/ 18360 h 282960"/>
              <a:gd name="textAreaBottom" fmla="*/ 264600 h 282960"/>
            </a:gdLst>
            <a:ahLst/>
            <a:rect l="textAreaLeft" t="textAreaTop" r="textAreaRight" b="textAreaBottom"/>
            <a:pathLst>
              <a:path w="28214" h="21600">
                <a:moveTo>
                  <a:pt x="0" y="0"/>
                </a:moveTo>
                <a:lnTo>
                  <a:pt x="28214" y="0"/>
                </a:lnTo>
                <a:lnTo>
                  <a:pt x="28214" y="21600"/>
                </a:lnTo>
                <a:lnTo>
                  <a:pt x="0" y="21600"/>
                </a:lnTo>
                <a:close/>
              </a:path>
              <a:path fill="lightenLess" w="28214" h="21600">
                <a:moveTo>
                  <a:pt x="0" y="0"/>
                </a:moveTo>
                <a:lnTo>
                  <a:pt x="28214" y="0"/>
                </a:lnTo>
                <a:lnTo>
                  <a:pt x="26815" y="1400"/>
                </a:lnTo>
                <a:lnTo>
                  <a:pt x="1400" y="1400"/>
                </a:lnTo>
                <a:close/>
              </a:path>
              <a:path fill="darken" w="28214" h="21600">
                <a:moveTo>
                  <a:pt x="28214" y="0"/>
                </a:moveTo>
                <a:lnTo>
                  <a:pt x="28214" y="21600"/>
                </a:lnTo>
                <a:lnTo>
                  <a:pt x="26815" y="20200"/>
                </a:lnTo>
                <a:lnTo>
                  <a:pt x="26815" y="1400"/>
                </a:lnTo>
                <a:close/>
              </a:path>
              <a:path fill="darkenLess" w="28214" h="21600">
                <a:moveTo>
                  <a:pt x="282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15" y="20200"/>
                </a:lnTo>
                <a:close/>
              </a:path>
              <a:path fill="lighten" w="282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33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黑体"/>
                <a:ea typeface="Bookman Old Style"/>
              </a:rPr>
              <a:t>歌决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">
            <a:hlinkClick r:id="rId8" action="ppaction://hlinksldjump"/>
          </p:cNvPr>
          <p:cNvSpPr/>
          <p:nvPr/>
        </p:nvSpPr>
        <p:spPr>
          <a:xfrm>
            <a:off x="7754400" y="90000"/>
            <a:ext cx="369720" cy="282960"/>
          </a:xfrm>
          <a:custGeom>
            <a:avLst/>
            <a:gdLst>
              <a:gd name="textAreaLeft" fmla="*/ 18360 w 369720"/>
              <a:gd name="textAreaRight" fmla="*/ 351360 w 369720"/>
              <a:gd name="textAreaTop" fmla="*/ 18360 h 282960"/>
              <a:gd name="textAreaBottom" fmla="*/ 264600 h 282960"/>
            </a:gdLst>
            <a:ahLst/>
            <a:rect l="textAreaLeft" t="textAreaTop" r="textAreaRight" b="textAreaBottom"/>
            <a:pathLst>
              <a:path w="28214" h="21600">
                <a:moveTo>
                  <a:pt x="0" y="0"/>
                </a:moveTo>
                <a:lnTo>
                  <a:pt x="28214" y="0"/>
                </a:lnTo>
                <a:lnTo>
                  <a:pt x="28214" y="21600"/>
                </a:lnTo>
                <a:lnTo>
                  <a:pt x="0" y="21600"/>
                </a:lnTo>
                <a:close/>
              </a:path>
              <a:path fill="lightenLess" w="28214" h="21600">
                <a:moveTo>
                  <a:pt x="0" y="0"/>
                </a:moveTo>
                <a:lnTo>
                  <a:pt x="28214" y="0"/>
                </a:lnTo>
                <a:lnTo>
                  <a:pt x="26815" y="1400"/>
                </a:lnTo>
                <a:lnTo>
                  <a:pt x="1400" y="1400"/>
                </a:lnTo>
                <a:close/>
              </a:path>
              <a:path fill="darken" w="28214" h="21600">
                <a:moveTo>
                  <a:pt x="28214" y="0"/>
                </a:moveTo>
                <a:lnTo>
                  <a:pt x="28214" y="21600"/>
                </a:lnTo>
                <a:lnTo>
                  <a:pt x="26815" y="20200"/>
                </a:lnTo>
                <a:lnTo>
                  <a:pt x="26815" y="1400"/>
                </a:lnTo>
                <a:close/>
              </a:path>
              <a:path fill="darkenLess" w="28214" h="21600">
                <a:moveTo>
                  <a:pt x="282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15" y="20200"/>
                </a:lnTo>
                <a:close/>
              </a:path>
              <a:path fill="lighten" w="282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33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黑体"/>
                <a:ea typeface="Bookman Old Style"/>
              </a:rPr>
              <a:t>练习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">
            <a:hlinkClick r:id="rId9" action="ppaction://hlinksldjump"/>
          </p:cNvPr>
          <p:cNvSpPr/>
          <p:nvPr/>
        </p:nvSpPr>
        <p:spPr>
          <a:xfrm>
            <a:off x="8610480" y="-106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066680" y="2057400"/>
            <a:ext cx="723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幼圆"/>
                <a:ea typeface="隶书"/>
              </a:rPr>
              <a:t>平年是</a:t>
            </a:r>
            <a:r>
              <a:rPr b="1" lang="zh-CN" sz="6000" spc="-1" strike="noStrike">
                <a:solidFill>
                  <a:srgbClr val="0000ff"/>
                </a:solidFill>
                <a:latin typeface="幼圆"/>
                <a:ea typeface="隶书"/>
              </a:rPr>
              <a:t>28</a:t>
            </a:r>
            <a:r>
              <a:rPr b="1" lang="zh-CN" sz="6000" spc="-1" strike="noStrike">
                <a:solidFill>
                  <a:srgbClr val="0000ff"/>
                </a:solidFill>
                <a:latin typeface="幼圆"/>
                <a:ea typeface="隶书"/>
              </a:rPr>
              <a:t>天，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幼圆"/>
                <a:ea typeface="隶书"/>
              </a:rPr>
              <a:t>闰年是</a:t>
            </a:r>
            <a:r>
              <a:rPr b="1" lang="zh-CN" sz="6000" spc="-1" strike="noStrike">
                <a:solidFill>
                  <a:srgbClr val="0000ff"/>
                </a:solidFill>
                <a:latin typeface="幼圆"/>
                <a:ea typeface="隶书"/>
              </a:rPr>
              <a:t>29</a:t>
            </a:r>
            <a:r>
              <a:rPr b="1" lang="zh-CN" sz="6000" spc="-1" strike="noStrike">
                <a:solidFill>
                  <a:srgbClr val="0000ff"/>
                </a:solidFill>
                <a:latin typeface="幼圆"/>
                <a:ea typeface="隶书"/>
              </a:rPr>
              <a:t>天。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8763120" y="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>
            <a:hlinkClick r:id="rId4" action="ppaction://hlinksldjump"/>
          </p:cNvPr>
          <p:cNvSpPr/>
          <p:nvPr/>
        </p:nvSpPr>
        <p:spPr>
          <a:xfrm>
            <a:off x="591480" y="7560"/>
            <a:ext cx="610560" cy="282960"/>
          </a:xfrm>
          <a:custGeom>
            <a:avLst/>
            <a:gdLst>
              <a:gd name="textAreaLeft" fmla="*/ 18360 w 610560"/>
              <a:gd name="textAreaRight" fmla="*/ 592200 w 610560"/>
              <a:gd name="textAreaTop" fmla="*/ 18360 h 282960"/>
              <a:gd name="textAreaBottom" fmla="*/ 264600 h 282960"/>
            </a:gdLst>
            <a:ahLst/>
            <a:rect l="textAreaLeft" t="textAreaTop" r="textAreaRight" b="textAreaBottom"/>
            <a:pathLst>
              <a:path w="46576" h="21600">
                <a:moveTo>
                  <a:pt x="0" y="0"/>
                </a:moveTo>
                <a:lnTo>
                  <a:pt x="46576" y="0"/>
                </a:lnTo>
                <a:lnTo>
                  <a:pt x="46576" y="21600"/>
                </a:lnTo>
                <a:lnTo>
                  <a:pt x="0" y="21600"/>
                </a:lnTo>
                <a:close/>
              </a:path>
              <a:path fill="lightenLess" w="46576" h="21600">
                <a:moveTo>
                  <a:pt x="0" y="0"/>
                </a:moveTo>
                <a:lnTo>
                  <a:pt x="46576" y="0"/>
                </a:lnTo>
                <a:lnTo>
                  <a:pt x="45176" y="1400"/>
                </a:lnTo>
                <a:lnTo>
                  <a:pt x="1400" y="1400"/>
                </a:lnTo>
                <a:close/>
              </a:path>
              <a:path fill="darken" w="46576" h="21600">
                <a:moveTo>
                  <a:pt x="46576" y="0"/>
                </a:moveTo>
                <a:lnTo>
                  <a:pt x="46576" y="21600"/>
                </a:lnTo>
                <a:lnTo>
                  <a:pt x="45176" y="20200"/>
                </a:lnTo>
                <a:lnTo>
                  <a:pt x="45176" y="1400"/>
                </a:lnTo>
                <a:close/>
              </a:path>
              <a:path fill="darkenLess" w="46576" h="21600">
                <a:moveTo>
                  <a:pt x="46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76" y="20200"/>
                </a:lnTo>
                <a:close/>
              </a:path>
              <a:path fill="lighten" w="46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33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黑体"/>
                <a:ea typeface="Bookman Old Style"/>
              </a:rPr>
              <a:t>2000</a:t>
            </a:r>
            <a:r>
              <a:rPr b="0" lang="zh-CN" sz="1000" spc="-1" strike="noStrike">
                <a:solidFill>
                  <a:srgbClr val="0000ff"/>
                </a:solidFill>
                <a:latin typeface="黑体"/>
                <a:ea typeface="Bookman Old Style"/>
              </a:rPr>
              <a:t>年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">
            <a:hlinkClick r:id="rId5" action="ppaction://hlinksldjump"/>
          </p:cNvPr>
          <p:cNvSpPr/>
          <p:nvPr/>
        </p:nvSpPr>
        <p:spPr>
          <a:xfrm>
            <a:off x="2083680" y="7560"/>
            <a:ext cx="369720" cy="282960"/>
          </a:xfrm>
          <a:custGeom>
            <a:avLst/>
            <a:gdLst>
              <a:gd name="textAreaLeft" fmla="*/ 18360 w 369720"/>
              <a:gd name="textAreaRight" fmla="*/ 351360 w 369720"/>
              <a:gd name="textAreaTop" fmla="*/ 18360 h 282960"/>
              <a:gd name="textAreaBottom" fmla="*/ 264600 h 282960"/>
            </a:gdLst>
            <a:ahLst/>
            <a:rect l="textAreaLeft" t="textAreaTop" r="textAreaRight" b="textAreaBottom"/>
            <a:pathLst>
              <a:path w="28214" h="21600">
                <a:moveTo>
                  <a:pt x="0" y="0"/>
                </a:moveTo>
                <a:lnTo>
                  <a:pt x="28214" y="0"/>
                </a:lnTo>
                <a:lnTo>
                  <a:pt x="28214" y="21600"/>
                </a:lnTo>
                <a:lnTo>
                  <a:pt x="0" y="21600"/>
                </a:lnTo>
                <a:close/>
              </a:path>
              <a:path fill="lightenLess" w="28214" h="21600">
                <a:moveTo>
                  <a:pt x="0" y="0"/>
                </a:moveTo>
                <a:lnTo>
                  <a:pt x="28214" y="0"/>
                </a:lnTo>
                <a:lnTo>
                  <a:pt x="26815" y="1400"/>
                </a:lnTo>
                <a:lnTo>
                  <a:pt x="1400" y="1400"/>
                </a:lnTo>
                <a:close/>
              </a:path>
              <a:path fill="darken" w="28214" h="21600">
                <a:moveTo>
                  <a:pt x="28214" y="0"/>
                </a:moveTo>
                <a:lnTo>
                  <a:pt x="28214" y="21600"/>
                </a:lnTo>
                <a:lnTo>
                  <a:pt x="26815" y="20200"/>
                </a:lnTo>
                <a:lnTo>
                  <a:pt x="26815" y="1400"/>
                </a:lnTo>
                <a:close/>
              </a:path>
              <a:path fill="darkenLess" w="28214" h="21600">
                <a:moveTo>
                  <a:pt x="282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15" y="20200"/>
                </a:lnTo>
                <a:close/>
              </a:path>
              <a:path fill="lighten" w="282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33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黑体"/>
                <a:ea typeface="Bookman Old Style"/>
              </a:rPr>
              <a:t>地球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">
            <a:hlinkClick r:id="rId6" action="ppaction://hlinksldjump"/>
          </p:cNvPr>
          <p:cNvSpPr/>
          <p:nvPr/>
        </p:nvSpPr>
        <p:spPr>
          <a:xfrm>
            <a:off x="3226680" y="7560"/>
            <a:ext cx="369720" cy="282960"/>
          </a:xfrm>
          <a:custGeom>
            <a:avLst/>
            <a:gdLst>
              <a:gd name="textAreaLeft" fmla="*/ 18360 w 369720"/>
              <a:gd name="textAreaRight" fmla="*/ 351360 w 369720"/>
              <a:gd name="textAreaTop" fmla="*/ 18360 h 282960"/>
              <a:gd name="textAreaBottom" fmla="*/ 264600 h 282960"/>
            </a:gdLst>
            <a:ahLst/>
            <a:rect l="textAreaLeft" t="textAreaTop" r="textAreaRight" b="textAreaBottom"/>
            <a:pathLst>
              <a:path w="28214" h="21600">
                <a:moveTo>
                  <a:pt x="0" y="0"/>
                </a:moveTo>
                <a:lnTo>
                  <a:pt x="28214" y="0"/>
                </a:lnTo>
                <a:lnTo>
                  <a:pt x="28214" y="21600"/>
                </a:lnTo>
                <a:lnTo>
                  <a:pt x="0" y="21600"/>
                </a:lnTo>
                <a:close/>
              </a:path>
              <a:path fill="lightenLess" w="28214" h="21600">
                <a:moveTo>
                  <a:pt x="0" y="0"/>
                </a:moveTo>
                <a:lnTo>
                  <a:pt x="28214" y="0"/>
                </a:lnTo>
                <a:lnTo>
                  <a:pt x="26815" y="1400"/>
                </a:lnTo>
                <a:lnTo>
                  <a:pt x="1400" y="1400"/>
                </a:lnTo>
                <a:close/>
              </a:path>
              <a:path fill="darken" w="28214" h="21600">
                <a:moveTo>
                  <a:pt x="28214" y="0"/>
                </a:moveTo>
                <a:lnTo>
                  <a:pt x="28214" y="21600"/>
                </a:lnTo>
                <a:lnTo>
                  <a:pt x="26815" y="20200"/>
                </a:lnTo>
                <a:lnTo>
                  <a:pt x="26815" y="1400"/>
                </a:lnTo>
                <a:close/>
              </a:path>
              <a:path fill="darkenLess" w="28214" h="21600">
                <a:moveTo>
                  <a:pt x="282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15" y="20200"/>
                </a:lnTo>
                <a:close/>
              </a:path>
              <a:path fill="lighten" w="282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33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黑体"/>
                <a:ea typeface="Bookman Old Style"/>
              </a:rPr>
              <a:t>节日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">
            <a:hlinkClick r:id="rId7" action="ppaction://hlinksldjump"/>
          </p:cNvPr>
          <p:cNvSpPr/>
          <p:nvPr/>
        </p:nvSpPr>
        <p:spPr>
          <a:xfrm>
            <a:off x="4293360" y="7560"/>
            <a:ext cx="369720" cy="282960"/>
          </a:xfrm>
          <a:custGeom>
            <a:avLst/>
            <a:gdLst>
              <a:gd name="textAreaLeft" fmla="*/ 18360 w 369720"/>
              <a:gd name="textAreaRight" fmla="*/ 351360 w 369720"/>
              <a:gd name="textAreaTop" fmla="*/ 18360 h 282960"/>
              <a:gd name="textAreaBottom" fmla="*/ 264600 h 282960"/>
            </a:gdLst>
            <a:ahLst/>
            <a:rect l="textAreaLeft" t="textAreaTop" r="textAreaRight" b="textAreaBottom"/>
            <a:pathLst>
              <a:path w="28214" h="21600">
                <a:moveTo>
                  <a:pt x="0" y="0"/>
                </a:moveTo>
                <a:lnTo>
                  <a:pt x="28214" y="0"/>
                </a:lnTo>
                <a:lnTo>
                  <a:pt x="28214" y="21600"/>
                </a:lnTo>
                <a:lnTo>
                  <a:pt x="0" y="21600"/>
                </a:lnTo>
                <a:close/>
              </a:path>
              <a:path fill="lightenLess" w="28214" h="21600">
                <a:moveTo>
                  <a:pt x="0" y="0"/>
                </a:moveTo>
                <a:lnTo>
                  <a:pt x="28214" y="0"/>
                </a:lnTo>
                <a:lnTo>
                  <a:pt x="26815" y="1400"/>
                </a:lnTo>
                <a:lnTo>
                  <a:pt x="1400" y="1400"/>
                </a:lnTo>
                <a:close/>
              </a:path>
              <a:path fill="darken" w="28214" h="21600">
                <a:moveTo>
                  <a:pt x="28214" y="0"/>
                </a:moveTo>
                <a:lnTo>
                  <a:pt x="28214" y="21600"/>
                </a:lnTo>
                <a:lnTo>
                  <a:pt x="26815" y="20200"/>
                </a:lnTo>
                <a:lnTo>
                  <a:pt x="26815" y="1400"/>
                </a:lnTo>
                <a:close/>
              </a:path>
              <a:path fill="darkenLess" w="28214" h="21600">
                <a:moveTo>
                  <a:pt x="282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15" y="20200"/>
                </a:lnTo>
                <a:close/>
              </a:path>
              <a:path fill="lighten" w="282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33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黑体"/>
                <a:ea typeface="Bookman Old Style"/>
              </a:rPr>
              <a:t>平闰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>
            <a:hlinkClick r:id="rId8" action="ppaction://hlinksldjump"/>
          </p:cNvPr>
          <p:cNvSpPr/>
          <p:nvPr/>
        </p:nvSpPr>
        <p:spPr>
          <a:xfrm>
            <a:off x="5589000" y="7560"/>
            <a:ext cx="369720" cy="282960"/>
          </a:xfrm>
          <a:custGeom>
            <a:avLst/>
            <a:gdLst>
              <a:gd name="textAreaLeft" fmla="*/ 18360 w 369720"/>
              <a:gd name="textAreaRight" fmla="*/ 351360 w 369720"/>
              <a:gd name="textAreaTop" fmla="*/ 18360 h 282960"/>
              <a:gd name="textAreaBottom" fmla="*/ 264600 h 282960"/>
            </a:gdLst>
            <a:ahLst/>
            <a:rect l="textAreaLeft" t="textAreaTop" r="textAreaRight" b="textAreaBottom"/>
            <a:pathLst>
              <a:path w="28214" h="21600">
                <a:moveTo>
                  <a:pt x="0" y="0"/>
                </a:moveTo>
                <a:lnTo>
                  <a:pt x="28214" y="0"/>
                </a:lnTo>
                <a:lnTo>
                  <a:pt x="28214" y="21600"/>
                </a:lnTo>
                <a:lnTo>
                  <a:pt x="0" y="21600"/>
                </a:lnTo>
                <a:close/>
              </a:path>
              <a:path fill="lightenLess" w="28214" h="21600">
                <a:moveTo>
                  <a:pt x="0" y="0"/>
                </a:moveTo>
                <a:lnTo>
                  <a:pt x="28214" y="0"/>
                </a:lnTo>
                <a:lnTo>
                  <a:pt x="26815" y="1400"/>
                </a:lnTo>
                <a:lnTo>
                  <a:pt x="1400" y="1400"/>
                </a:lnTo>
                <a:close/>
              </a:path>
              <a:path fill="darken" w="28214" h="21600">
                <a:moveTo>
                  <a:pt x="28214" y="0"/>
                </a:moveTo>
                <a:lnTo>
                  <a:pt x="28214" y="21600"/>
                </a:lnTo>
                <a:lnTo>
                  <a:pt x="26815" y="20200"/>
                </a:lnTo>
                <a:lnTo>
                  <a:pt x="26815" y="1400"/>
                </a:lnTo>
                <a:close/>
              </a:path>
              <a:path fill="darkenLess" w="28214" h="21600">
                <a:moveTo>
                  <a:pt x="282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15" y="20200"/>
                </a:lnTo>
                <a:close/>
              </a:path>
              <a:path fill="lighten" w="282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33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黑体"/>
                <a:ea typeface="Bookman Old Style"/>
              </a:rPr>
              <a:t>拳头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">
            <a:hlinkClick r:id="rId9" action="ppaction://hlinksldjump"/>
          </p:cNvPr>
          <p:cNvSpPr/>
          <p:nvPr/>
        </p:nvSpPr>
        <p:spPr>
          <a:xfrm>
            <a:off x="6655680" y="7560"/>
            <a:ext cx="369720" cy="282960"/>
          </a:xfrm>
          <a:custGeom>
            <a:avLst/>
            <a:gdLst>
              <a:gd name="textAreaLeft" fmla="*/ 18360 w 369720"/>
              <a:gd name="textAreaRight" fmla="*/ 351360 w 369720"/>
              <a:gd name="textAreaTop" fmla="*/ 18360 h 282960"/>
              <a:gd name="textAreaBottom" fmla="*/ 264600 h 282960"/>
            </a:gdLst>
            <a:ahLst/>
            <a:rect l="textAreaLeft" t="textAreaTop" r="textAreaRight" b="textAreaBottom"/>
            <a:pathLst>
              <a:path w="28214" h="21600">
                <a:moveTo>
                  <a:pt x="0" y="0"/>
                </a:moveTo>
                <a:lnTo>
                  <a:pt x="28214" y="0"/>
                </a:lnTo>
                <a:lnTo>
                  <a:pt x="28214" y="21600"/>
                </a:lnTo>
                <a:lnTo>
                  <a:pt x="0" y="21600"/>
                </a:lnTo>
                <a:close/>
              </a:path>
              <a:path fill="lightenLess" w="28214" h="21600">
                <a:moveTo>
                  <a:pt x="0" y="0"/>
                </a:moveTo>
                <a:lnTo>
                  <a:pt x="28214" y="0"/>
                </a:lnTo>
                <a:lnTo>
                  <a:pt x="26815" y="1400"/>
                </a:lnTo>
                <a:lnTo>
                  <a:pt x="1400" y="1400"/>
                </a:lnTo>
                <a:close/>
              </a:path>
              <a:path fill="darken" w="28214" h="21600">
                <a:moveTo>
                  <a:pt x="28214" y="0"/>
                </a:moveTo>
                <a:lnTo>
                  <a:pt x="28214" y="21600"/>
                </a:lnTo>
                <a:lnTo>
                  <a:pt x="26815" y="20200"/>
                </a:lnTo>
                <a:lnTo>
                  <a:pt x="26815" y="1400"/>
                </a:lnTo>
                <a:close/>
              </a:path>
              <a:path fill="darkenLess" w="28214" h="21600">
                <a:moveTo>
                  <a:pt x="282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15" y="20200"/>
                </a:lnTo>
                <a:close/>
              </a:path>
              <a:path fill="lighten" w="282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33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黑体"/>
                <a:ea typeface="Bookman Old Style"/>
              </a:rPr>
              <a:t>歌决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">
            <a:hlinkClick r:id="rId10" action="ppaction://hlinksldjump"/>
          </p:cNvPr>
          <p:cNvSpPr/>
          <p:nvPr/>
        </p:nvSpPr>
        <p:spPr>
          <a:xfrm>
            <a:off x="7798680" y="7560"/>
            <a:ext cx="369720" cy="282960"/>
          </a:xfrm>
          <a:custGeom>
            <a:avLst/>
            <a:gdLst>
              <a:gd name="textAreaLeft" fmla="*/ 18360 w 369720"/>
              <a:gd name="textAreaRight" fmla="*/ 351360 w 369720"/>
              <a:gd name="textAreaTop" fmla="*/ 18360 h 282960"/>
              <a:gd name="textAreaBottom" fmla="*/ 264600 h 282960"/>
            </a:gdLst>
            <a:ahLst/>
            <a:rect l="textAreaLeft" t="textAreaTop" r="textAreaRight" b="textAreaBottom"/>
            <a:pathLst>
              <a:path w="28214" h="21600">
                <a:moveTo>
                  <a:pt x="0" y="0"/>
                </a:moveTo>
                <a:lnTo>
                  <a:pt x="28214" y="0"/>
                </a:lnTo>
                <a:lnTo>
                  <a:pt x="28214" y="21600"/>
                </a:lnTo>
                <a:lnTo>
                  <a:pt x="0" y="21600"/>
                </a:lnTo>
                <a:close/>
              </a:path>
              <a:path fill="lightenLess" w="28214" h="21600">
                <a:moveTo>
                  <a:pt x="0" y="0"/>
                </a:moveTo>
                <a:lnTo>
                  <a:pt x="28214" y="0"/>
                </a:lnTo>
                <a:lnTo>
                  <a:pt x="26815" y="1400"/>
                </a:lnTo>
                <a:lnTo>
                  <a:pt x="1400" y="1400"/>
                </a:lnTo>
                <a:close/>
              </a:path>
              <a:path fill="darken" w="28214" h="21600">
                <a:moveTo>
                  <a:pt x="28214" y="0"/>
                </a:moveTo>
                <a:lnTo>
                  <a:pt x="28214" y="21600"/>
                </a:lnTo>
                <a:lnTo>
                  <a:pt x="26815" y="20200"/>
                </a:lnTo>
                <a:lnTo>
                  <a:pt x="26815" y="1400"/>
                </a:lnTo>
                <a:close/>
              </a:path>
              <a:path fill="darkenLess" w="28214" h="21600">
                <a:moveTo>
                  <a:pt x="282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15" y="20200"/>
                </a:lnTo>
                <a:close/>
              </a:path>
              <a:path fill="lighten" w="282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33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黑体"/>
                <a:ea typeface="Bookman Old Style"/>
              </a:rPr>
              <a:t>练习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48160" y="762120"/>
            <a:ext cx="213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幼圆"/>
                <a:ea typeface="幼圆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幼圆"/>
                <a:ea typeface="幼圆"/>
              </a:rPr>
              <a:t>二月</a:t>
            </a:r>
            <a:r>
              <a:rPr b="1" lang="zh-CN" sz="6000" spc="-1" strike="noStrike">
                <a:solidFill>
                  <a:srgbClr val="ff0000"/>
                </a:solidFill>
                <a:latin typeface="Symap"/>
              </a:rPr>
              <a:t>,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8534520" y="6348240"/>
            <a:ext cx="609480" cy="509760"/>
          </a:xfrm>
          <a:custGeom>
            <a:avLst/>
            <a:gdLst>
              <a:gd name="textAreaLeft" fmla="*/ 32760 w 609480"/>
              <a:gd name="textAreaRight" fmla="*/ 576720 w 60948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5822" h="21600">
                <a:moveTo>
                  <a:pt x="0" y="0"/>
                </a:moveTo>
                <a:lnTo>
                  <a:pt x="25822" y="0"/>
                </a:lnTo>
                <a:lnTo>
                  <a:pt x="25822" y="21600"/>
                </a:lnTo>
                <a:lnTo>
                  <a:pt x="0" y="21600"/>
                </a:lnTo>
                <a:close/>
              </a:path>
              <a:path fill="lightenLess" w="25822" h="21600">
                <a:moveTo>
                  <a:pt x="0" y="0"/>
                </a:moveTo>
                <a:lnTo>
                  <a:pt x="25822" y="0"/>
                </a:lnTo>
                <a:lnTo>
                  <a:pt x="24422" y="1400"/>
                </a:lnTo>
                <a:lnTo>
                  <a:pt x="1400" y="1400"/>
                </a:lnTo>
                <a:close/>
              </a:path>
              <a:path fill="darken" w="25822" h="21600">
                <a:moveTo>
                  <a:pt x="25822" y="0"/>
                </a:moveTo>
                <a:lnTo>
                  <a:pt x="25822" y="21600"/>
                </a:lnTo>
                <a:lnTo>
                  <a:pt x="24422" y="20200"/>
                </a:lnTo>
                <a:lnTo>
                  <a:pt x="24422" y="1400"/>
                </a:lnTo>
                <a:close/>
              </a:path>
              <a:path fill="darkenLess" w="25822" h="21600">
                <a:moveTo>
                  <a:pt x="258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22" y="20200"/>
                </a:lnTo>
                <a:close/>
              </a:path>
              <a:path fill="lighten" w="258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22" h="21600">
                <a:moveTo>
                  <a:pt x="5905" y="3794"/>
                </a:moveTo>
                <a:lnTo>
                  <a:pt x="19918" y="10800"/>
                </a:lnTo>
                <a:lnTo>
                  <a:pt x="5905" y="17806"/>
                </a:lnTo>
                <a:close/>
              </a:path>
            </a:pathLst>
          </a:custGeom>
          <a:solidFill>
            <a:srgbClr val="ffff00"/>
          </a:solidFill>
          <a:ln w="414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">
            <a:hlinkClick r:id="rId3" action="ppaction://hlinksldjump"/>
          </p:cNvPr>
          <p:cNvSpPr/>
          <p:nvPr/>
        </p:nvSpPr>
        <p:spPr>
          <a:xfrm>
            <a:off x="8610480" y="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006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744040" y="6618240"/>
            <a:ext cx="399960" cy="239760"/>
          </a:xfrm>
          <a:prstGeom prst="rect">
            <a:avLst/>
          </a:prstGeom>
          <a:ln w="0">
            <a:noFill/>
          </a:ln>
        </p:spPr>
      </p:pic>
      <p:sp>
        <p:nvSpPr>
          <p:cNvPr id="174" name="">
            <a:hlinkClick r:id="rId4" action="ppaction://hlinksldjump"/>
          </p:cNvPr>
          <p:cNvSpPr/>
          <p:nvPr/>
        </p:nvSpPr>
        <p:spPr>
          <a:xfrm>
            <a:off x="8686800" y="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1600560" y="-360"/>
            <a:ext cx="1074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下面的年份是</a:t>
            </a:r>
            <a:r>
              <a:rPr b="0" i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平年</a:t>
            </a:r>
            <a:r>
              <a:rPr b="0" i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还是</a:t>
            </a:r>
            <a:r>
              <a:rPr b="0" i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闰年</a:t>
            </a:r>
            <a:r>
              <a:rPr b="0" i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？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">
            <a:hlinkClick r:id="rId2" action="ppaction://hlinksldjump"/>
          </p:cNvPr>
          <p:cNvSpPr/>
          <p:nvPr/>
        </p:nvSpPr>
        <p:spPr>
          <a:xfrm>
            <a:off x="393120" y="1835280"/>
            <a:ext cx="1540800" cy="667800"/>
          </a:xfrm>
          <a:custGeom>
            <a:avLst/>
            <a:gdLst>
              <a:gd name="textAreaLeft" fmla="*/ 43200 w 1540800"/>
              <a:gd name="textAreaRight" fmla="*/ 1497600 w 154080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49822" h="21600">
                <a:moveTo>
                  <a:pt x="0" y="0"/>
                </a:moveTo>
                <a:lnTo>
                  <a:pt x="49822" y="0"/>
                </a:lnTo>
                <a:lnTo>
                  <a:pt x="49822" y="21600"/>
                </a:lnTo>
                <a:lnTo>
                  <a:pt x="0" y="21600"/>
                </a:lnTo>
                <a:close/>
              </a:path>
              <a:path fill="lightenLess" w="49822" h="21600">
                <a:moveTo>
                  <a:pt x="0" y="0"/>
                </a:moveTo>
                <a:lnTo>
                  <a:pt x="49822" y="0"/>
                </a:lnTo>
                <a:lnTo>
                  <a:pt x="48422" y="1400"/>
                </a:lnTo>
                <a:lnTo>
                  <a:pt x="1400" y="1400"/>
                </a:lnTo>
                <a:close/>
              </a:path>
              <a:path fill="darken" w="49822" h="21600">
                <a:moveTo>
                  <a:pt x="49822" y="0"/>
                </a:moveTo>
                <a:lnTo>
                  <a:pt x="49822" y="21600"/>
                </a:lnTo>
                <a:lnTo>
                  <a:pt x="48422" y="20200"/>
                </a:lnTo>
                <a:lnTo>
                  <a:pt x="48422" y="1400"/>
                </a:lnTo>
                <a:close/>
              </a:path>
              <a:path fill="darkenLess" w="49822" h="21600">
                <a:moveTo>
                  <a:pt x="498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22" y="20200"/>
                </a:lnTo>
                <a:close/>
              </a:path>
              <a:path fill="lighten" w="498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4140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Bookman Old Style"/>
              </a:rPr>
              <a:t>1993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Bookman Old Style"/>
              </a:rPr>
              <a:t>年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">
            <a:hlinkClick r:id="rId3" action="ppaction://hlinksldjump"/>
          </p:cNvPr>
          <p:cNvSpPr/>
          <p:nvPr/>
        </p:nvSpPr>
        <p:spPr>
          <a:xfrm>
            <a:off x="2712600" y="1833840"/>
            <a:ext cx="1540800" cy="667800"/>
          </a:xfrm>
          <a:custGeom>
            <a:avLst/>
            <a:gdLst>
              <a:gd name="textAreaLeft" fmla="*/ 43200 w 1540800"/>
              <a:gd name="textAreaRight" fmla="*/ 1497600 w 154080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49822" h="21600">
                <a:moveTo>
                  <a:pt x="0" y="0"/>
                </a:moveTo>
                <a:lnTo>
                  <a:pt x="49822" y="0"/>
                </a:lnTo>
                <a:lnTo>
                  <a:pt x="49822" y="21600"/>
                </a:lnTo>
                <a:lnTo>
                  <a:pt x="0" y="21600"/>
                </a:lnTo>
                <a:close/>
              </a:path>
              <a:path fill="lightenLess" w="49822" h="21600">
                <a:moveTo>
                  <a:pt x="0" y="0"/>
                </a:moveTo>
                <a:lnTo>
                  <a:pt x="49822" y="0"/>
                </a:lnTo>
                <a:lnTo>
                  <a:pt x="48422" y="1400"/>
                </a:lnTo>
                <a:lnTo>
                  <a:pt x="1400" y="1400"/>
                </a:lnTo>
                <a:close/>
              </a:path>
              <a:path fill="darken" w="49822" h="21600">
                <a:moveTo>
                  <a:pt x="49822" y="0"/>
                </a:moveTo>
                <a:lnTo>
                  <a:pt x="49822" y="21600"/>
                </a:lnTo>
                <a:lnTo>
                  <a:pt x="48422" y="20200"/>
                </a:lnTo>
                <a:lnTo>
                  <a:pt x="48422" y="1400"/>
                </a:lnTo>
                <a:close/>
              </a:path>
              <a:path fill="darkenLess" w="49822" h="21600">
                <a:moveTo>
                  <a:pt x="498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22" y="20200"/>
                </a:lnTo>
                <a:close/>
              </a:path>
              <a:path fill="lighten" w="498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442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Bookman Old Style"/>
              </a:rPr>
              <a:t>1994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Bookman Old Style"/>
              </a:rPr>
              <a:t>年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">
            <a:hlinkClick r:id="rId4" action="ppaction://hlinksldjump"/>
          </p:cNvPr>
          <p:cNvSpPr/>
          <p:nvPr/>
        </p:nvSpPr>
        <p:spPr>
          <a:xfrm>
            <a:off x="4966920" y="1833840"/>
            <a:ext cx="1540800" cy="667800"/>
          </a:xfrm>
          <a:custGeom>
            <a:avLst/>
            <a:gdLst>
              <a:gd name="textAreaLeft" fmla="*/ 43200 w 1540800"/>
              <a:gd name="textAreaRight" fmla="*/ 1497600 w 154080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49822" h="21600">
                <a:moveTo>
                  <a:pt x="0" y="0"/>
                </a:moveTo>
                <a:lnTo>
                  <a:pt x="49822" y="0"/>
                </a:lnTo>
                <a:lnTo>
                  <a:pt x="49822" y="21600"/>
                </a:lnTo>
                <a:lnTo>
                  <a:pt x="0" y="21600"/>
                </a:lnTo>
                <a:close/>
              </a:path>
              <a:path fill="lightenLess" w="49822" h="21600">
                <a:moveTo>
                  <a:pt x="0" y="0"/>
                </a:moveTo>
                <a:lnTo>
                  <a:pt x="49822" y="0"/>
                </a:lnTo>
                <a:lnTo>
                  <a:pt x="48422" y="1400"/>
                </a:lnTo>
                <a:lnTo>
                  <a:pt x="1400" y="1400"/>
                </a:lnTo>
                <a:close/>
              </a:path>
              <a:path fill="darken" w="49822" h="21600">
                <a:moveTo>
                  <a:pt x="49822" y="0"/>
                </a:moveTo>
                <a:lnTo>
                  <a:pt x="49822" y="21600"/>
                </a:lnTo>
                <a:lnTo>
                  <a:pt x="48422" y="20200"/>
                </a:lnTo>
                <a:lnTo>
                  <a:pt x="48422" y="1400"/>
                </a:lnTo>
                <a:close/>
              </a:path>
              <a:path fill="darkenLess" w="49822" h="21600">
                <a:moveTo>
                  <a:pt x="498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22" y="20200"/>
                </a:lnTo>
                <a:close/>
              </a:path>
              <a:path fill="lighten" w="498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442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Bookman Old Style"/>
              </a:rPr>
              <a:t>1995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Bookman Old Style"/>
              </a:rPr>
              <a:t>年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">
            <a:hlinkClick r:id="rId5" action="ppaction://hlinksldjump"/>
          </p:cNvPr>
          <p:cNvSpPr/>
          <p:nvPr/>
        </p:nvSpPr>
        <p:spPr>
          <a:xfrm>
            <a:off x="7176600" y="1833840"/>
            <a:ext cx="1540800" cy="667800"/>
          </a:xfrm>
          <a:custGeom>
            <a:avLst/>
            <a:gdLst>
              <a:gd name="textAreaLeft" fmla="*/ 43200 w 1540800"/>
              <a:gd name="textAreaRight" fmla="*/ 1497600 w 154080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49822" h="21600">
                <a:moveTo>
                  <a:pt x="0" y="0"/>
                </a:moveTo>
                <a:lnTo>
                  <a:pt x="49822" y="0"/>
                </a:lnTo>
                <a:lnTo>
                  <a:pt x="49822" y="21600"/>
                </a:lnTo>
                <a:lnTo>
                  <a:pt x="0" y="21600"/>
                </a:lnTo>
                <a:close/>
              </a:path>
              <a:path fill="lightenLess" w="49822" h="21600">
                <a:moveTo>
                  <a:pt x="0" y="0"/>
                </a:moveTo>
                <a:lnTo>
                  <a:pt x="49822" y="0"/>
                </a:lnTo>
                <a:lnTo>
                  <a:pt x="48422" y="1400"/>
                </a:lnTo>
                <a:lnTo>
                  <a:pt x="1400" y="1400"/>
                </a:lnTo>
                <a:close/>
              </a:path>
              <a:path fill="darken" w="49822" h="21600">
                <a:moveTo>
                  <a:pt x="49822" y="0"/>
                </a:moveTo>
                <a:lnTo>
                  <a:pt x="49822" y="21600"/>
                </a:lnTo>
                <a:lnTo>
                  <a:pt x="48422" y="20200"/>
                </a:lnTo>
                <a:lnTo>
                  <a:pt x="48422" y="1400"/>
                </a:lnTo>
                <a:close/>
              </a:path>
              <a:path fill="darkenLess" w="49822" h="21600">
                <a:moveTo>
                  <a:pt x="498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22" y="20200"/>
                </a:lnTo>
                <a:close/>
              </a:path>
              <a:path fill="lighten" w="498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442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Bookman Old Style"/>
              </a:rPr>
              <a:t>1996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Bookman Old Style"/>
              </a:rPr>
              <a:t>年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">
            <a:hlinkClick r:id="rId6" action="ppaction://hlinksldjump"/>
          </p:cNvPr>
          <p:cNvSpPr/>
          <p:nvPr/>
        </p:nvSpPr>
        <p:spPr>
          <a:xfrm>
            <a:off x="458280" y="4272120"/>
            <a:ext cx="1540800" cy="667800"/>
          </a:xfrm>
          <a:custGeom>
            <a:avLst/>
            <a:gdLst>
              <a:gd name="textAreaLeft" fmla="*/ 43200 w 1540800"/>
              <a:gd name="textAreaRight" fmla="*/ 1497600 w 154080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49822" h="21600">
                <a:moveTo>
                  <a:pt x="0" y="0"/>
                </a:moveTo>
                <a:lnTo>
                  <a:pt x="49822" y="0"/>
                </a:lnTo>
                <a:lnTo>
                  <a:pt x="49822" y="21600"/>
                </a:lnTo>
                <a:lnTo>
                  <a:pt x="0" y="21600"/>
                </a:lnTo>
                <a:close/>
              </a:path>
              <a:path fill="lightenLess" w="49822" h="21600">
                <a:moveTo>
                  <a:pt x="0" y="0"/>
                </a:moveTo>
                <a:lnTo>
                  <a:pt x="49822" y="0"/>
                </a:lnTo>
                <a:lnTo>
                  <a:pt x="48422" y="1400"/>
                </a:lnTo>
                <a:lnTo>
                  <a:pt x="1400" y="1400"/>
                </a:lnTo>
                <a:close/>
              </a:path>
              <a:path fill="darken" w="49822" h="21600">
                <a:moveTo>
                  <a:pt x="49822" y="0"/>
                </a:moveTo>
                <a:lnTo>
                  <a:pt x="49822" y="21600"/>
                </a:lnTo>
                <a:lnTo>
                  <a:pt x="48422" y="20200"/>
                </a:lnTo>
                <a:lnTo>
                  <a:pt x="48422" y="1400"/>
                </a:lnTo>
                <a:close/>
              </a:path>
              <a:path fill="darkenLess" w="49822" h="21600">
                <a:moveTo>
                  <a:pt x="498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22" y="20200"/>
                </a:lnTo>
                <a:close/>
              </a:path>
              <a:path fill="lighten" w="498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442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Bookman Old Style"/>
              </a:rPr>
              <a:t>1997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Bookman Old Style"/>
              </a:rPr>
              <a:t>年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">
            <a:hlinkClick r:id="rId7" action="ppaction://hlinksldjump"/>
          </p:cNvPr>
          <p:cNvSpPr/>
          <p:nvPr/>
        </p:nvSpPr>
        <p:spPr>
          <a:xfrm>
            <a:off x="2744280" y="4272120"/>
            <a:ext cx="1540800" cy="667800"/>
          </a:xfrm>
          <a:custGeom>
            <a:avLst/>
            <a:gdLst>
              <a:gd name="textAreaLeft" fmla="*/ 43200 w 1540800"/>
              <a:gd name="textAreaRight" fmla="*/ 1497600 w 154080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49822" h="21600">
                <a:moveTo>
                  <a:pt x="0" y="0"/>
                </a:moveTo>
                <a:lnTo>
                  <a:pt x="49822" y="0"/>
                </a:lnTo>
                <a:lnTo>
                  <a:pt x="49822" y="21600"/>
                </a:lnTo>
                <a:lnTo>
                  <a:pt x="0" y="21600"/>
                </a:lnTo>
                <a:close/>
              </a:path>
              <a:path fill="lightenLess" w="49822" h="21600">
                <a:moveTo>
                  <a:pt x="0" y="0"/>
                </a:moveTo>
                <a:lnTo>
                  <a:pt x="49822" y="0"/>
                </a:lnTo>
                <a:lnTo>
                  <a:pt x="48422" y="1400"/>
                </a:lnTo>
                <a:lnTo>
                  <a:pt x="1400" y="1400"/>
                </a:lnTo>
                <a:close/>
              </a:path>
              <a:path fill="darken" w="49822" h="21600">
                <a:moveTo>
                  <a:pt x="49822" y="0"/>
                </a:moveTo>
                <a:lnTo>
                  <a:pt x="49822" y="21600"/>
                </a:lnTo>
                <a:lnTo>
                  <a:pt x="48422" y="20200"/>
                </a:lnTo>
                <a:lnTo>
                  <a:pt x="48422" y="1400"/>
                </a:lnTo>
                <a:close/>
              </a:path>
              <a:path fill="darkenLess" w="49822" h="21600">
                <a:moveTo>
                  <a:pt x="498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22" y="20200"/>
                </a:lnTo>
                <a:close/>
              </a:path>
              <a:path fill="lighten" w="498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442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Bookman Old Style"/>
              </a:rPr>
              <a:t>1998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Bookman Old Style"/>
              </a:rPr>
              <a:t>年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">
            <a:hlinkClick r:id="rId8" action="ppaction://hlinksldjump"/>
          </p:cNvPr>
          <p:cNvSpPr/>
          <p:nvPr/>
        </p:nvSpPr>
        <p:spPr>
          <a:xfrm>
            <a:off x="5074920" y="4272120"/>
            <a:ext cx="1540800" cy="667800"/>
          </a:xfrm>
          <a:custGeom>
            <a:avLst/>
            <a:gdLst>
              <a:gd name="textAreaLeft" fmla="*/ 43200 w 1540800"/>
              <a:gd name="textAreaRight" fmla="*/ 1497600 w 154080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49822" h="21600">
                <a:moveTo>
                  <a:pt x="0" y="0"/>
                </a:moveTo>
                <a:lnTo>
                  <a:pt x="49822" y="0"/>
                </a:lnTo>
                <a:lnTo>
                  <a:pt x="49822" y="21600"/>
                </a:lnTo>
                <a:lnTo>
                  <a:pt x="0" y="21600"/>
                </a:lnTo>
                <a:close/>
              </a:path>
              <a:path fill="lightenLess" w="49822" h="21600">
                <a:moveTo>
                  <a:pt x="0" y="0"/>
                </a:moveTo>
                <a:lnTo>
                  <a:pt x="49822" y="0"/>
                </a:lnTo>
                <a:lnTo>
                  <a:pt x="48422" y="1400"/>
                </a:lnTo>
                <a:lnTo>
                  <a:pt x="1400" y="1400"/>
                </a:lnTo>
                <a:close/>
              </a:path>
              <a:path fill="darken" w="49822" h="21600">
                <a:moveTo>
                  <a:pt x="49822" y="0"/>
                </a:moveTo>
                <a:lnTo>
                  <a:pt x="49822" y="21600"/>
                </a:lnTo>
                <a:lnTo>
                  <a:pt x="48422" y="20200"/>
                </a:lnTo>
                <a:lnTo>
                  <a:pt x="48422" y="1400"/>
                </a:lnTo>
                <a:close/>
              </a:path>
              <a:path fill="darkenLess" w="49822" h="21600">
                <a:moveTo>
                  <a:pt x="498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22" y="20200"/>
                </a:lnTo>
                <a:close/>
              </a:path>
              <a:path fill="lighten" w="498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442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Bookman Old Style"/>
              </a:rPr>
              <a:t>1999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Bookman Old Style"/>
              </a:rPr>
              <a:t>年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">
            <a:hlinkClick r:id="rId9" action="ppaction://hlinksldjump"/>
          </p:cNvPr>
          <p:cNvSpPr/>
          <p:nvPr/>
        </p:nvSpPr>
        <p:spPr>
          <a:xfrm>
            <a:off x="7208280" y="4272120"/>
            <a:ext cx="1540800" cy="667800"/>
          </a:xfrm>
          <a:custGeom>
            <a:avLst/>
            <a:gdLst>
              <a:gd name="textAreaLeft" fmla="*/ 43200 w 1540800"/>
              <a:gd name="textAreaRight" fmla="*/ 1497600 w 154080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49822" h="21600">
                <a:moveTo>
                  <a:pt x="0" y="0"/>
                </a:moveTo>
                <a:lnTo>
                  <a:pt x="49822" y="0"/>
                </a:lnTo>
                <a:lnTo>
                  <a:pt x="49822" y="21600"/>
                </a:lnTo>
                <a:lnTo>
                  <a:pt x="0" y="21600"/>
                </a:lnTo>
                <a:close/>
              </a:path>
              <a:path fill="lightenLess" w="49822" h="21600">
                <a:moveTo>
                  <a:pt x="0" y="0"/>
                </a:moveTo>
                <a:lnTo>
                  <a:pt x="49822" y="0"/>
                </a:lnTo>
                <a:lnTo>
                  <a:pt x="48422" y="1400"/>
                </a:lnTo>
                <a:lnTo>
                  <a:pt x="1400" y="1400"/>
                </a:lnTo>
                <a:close/>
              </a:path>
              <a:path fill="darken" w="49822" h="21600">
                <a:moveTo>
                  <a:pt x="49822" y="0"/>
                </a:moveTo>
                <a:lnTo>
                  <a:pt x="49822" y="21600"/>
                </a:lnTo>
                <a:lnTo>
                  <a:pt x="48422" y="20200"/>
                </a:lnTo>
                <a:lnTo>
                  <a:pt x="48422" y="1400"/>
                </a:lnTo>
                <a:close/>
              </a:path>
              <a:path fill="darkenLess" w="49822" h="21600">
                <a:moveTo>
                  <a:pt x="498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22" y="20200"/>
                </a:lnTo>
                <a:close/>
              </a:path>
              <a:path fill="lighten" w="498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442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Bookman Old Style"/>
              </a:rPr>
              <a:t>2000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Bookman Old Style"/>
              </a:rPr>
              <a:t>年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400" y="27432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Bookman Old Style"/>
              </a:rPr>
              <a:t>平年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93720" y="54100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Bookman Old Style"/>
              </a:rPr>
              <a:t>平年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27080" y="54100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Bookman Old Style"/>
              </a:rPr>
              <a:t>平年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03400" y="27432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Bookman Old Style"/>
              </a:rPr>
              <a:t>平年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00640" y="27432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Bookman Old Style"/>
              </a:rPr>
              <a:t>平年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8000" y="54100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Bookman Old Style"/>
              </a:rPr>
              <a:t>平年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91320" y="54100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Bookman Old Style"/>
              </a:rPr>
              <a:t>闰年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483320" y="27432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Bookman Old Style"/>
              </a:rPr>
              <a:t>闰年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">
            <a:hlinkClick r:id="rId10" action="ppaction://hlinksldjump"/>
          </p:cNvPr>
          <p:cNvSpPr/>
          <p:nvPr/>
        </p:nvSpPr>
        <p:spPr>
          <a:xfrm>
            <a:off x="8763120" y="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">
            <a:hlinkClick r:id="rId12" action="ppaction://hlinksldjump"/>
          </p:cNvPr>
          <p:cNvSpPr/>
          <p:nvPr/>
        </p:nvSpPr>
        <p:spPr>
          <a:xfrm>
            <a:off x="547200" y="14040"/>
            <a:ext cx="610560" cy="282960"/>
          </a:xfrm>
          <a:custGeom>
            <a:avLst/>
            <a:gdLst>
              <a:gd name="textAreaLeft" fmla="*/ 18360 w 610560"/>
              <a:gd name="textAreaRight" fmla="*/ 592200 w 610560"/>
              <a:gd name="textAreaTop" fmla="*/ 18360 h 282960"/>
              <a:gd name="textAreaBottom" fmla="*/ 264600 h 282960"/>
            </a:gdLst>
            <a:ahLst/>
            <a:rect l="textAreaLeft" t="textAreaTop" r="textAreaRight" b="textAreaBottom"/>
            <a:pathLst>
              <a:path w="46576" h="21600">
                <a:moveTo>
                  <a:pt x="0" y="0"/>
                </a:moveTo>
                <a:lnTo>
                  <a:pt x="46576" y="0"/>
                </a:lnTo>
                <a:lnTo>
                  <a:pt x="46576" y="21600"/>
                </a:lnTo>
                <a:lnTo>
                  <a:pt x="0" y="21600"/>
                </a:lnTo>
                <a:close/>
              </a:path>
              <a:path fill="lightenLess" w="46576" h="21600">
                <a:moveTo>
                  <a:pt x="0" y="0"/>
                </a:moveTo>
                <a:lnTo>
                  <a:pt x="46576" y="0"/>
                </a:lnTo>
                <a:lnTo>
                  <a:pt x="45176" y="1400"/>
                </a:lnTo>
                <a:lnTo>
                  <a:pt x="1400" y="1400"/>
                </a:lnTo>
                <a:close/>
              </a:path>
              <a:path fill="darken" w="46576" h="21600">
                <a:moveTo>
                  <a:pt x="46576" y="0"/>
                </a:moveTo>
                <a:lnTo>
                  <a:pt x="46576" y="21600"/>
                </a:lnTo>
                <a:lnTo>
                  <a:pt x="45176" y="20200"/>
                </a:lnTo>
                <a:lnTo>
                  <a:pt x="45176" y="1400"/>
                </a:lnTo>
                <a:close/>
              </a:path>
              <a:path fill="darkenLess" w="46576" h="21600">
                <a:moveTo>
                  <a:pt x="46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76" y="20200"/>
                </a:lnTo>
                <a:close/>
              </a:path>
              <a:path fill="lighten" w="46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33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黑体"/>
                <a:ea typeface="Bookman Old Style"/>
              </a:rPr>
              <a:t>2000</a:t>
            </a:r>
            <a:r>
              <a:rPr b="0" lang="zh-CN" sz="1000" spc="-1" strike="noStrike">
                <a:solidFill>
                  <a:srgbClr val="0000ff"/>
                </a:solidFill>
                <a:latin typeface="黑体"/>
                <a:ea typeface="Bookman Old Style"/>
              </a:rPr>
              <a:t>年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39040" y="14040"/>
            <a:ext cx="370440" cy="282960"/>
          </a:xfrm>
          <a:custGeom>
            <a:avLst/>
            <a:gdLst>
              <a:gd name="textAreaLeft" fmla="*/ 18360 w 370440"/>
              <a:gd name="textAreaRight" fmla="*/ 352080 w 370440"/>
              <a:gd name="textAreaTop" fmla="*/ 18360 h 282960"/>
              <a:gd name="textAreaBottom" fmla="*/ 264600 h 282960"/>
            </a:gdLst>
            <a:ahLst/>
            <a:rect l="textAreaLeft" t="textAreaTop" r="textAreaRight" b="textAreaBottom"/>
            <a:pathLst>
              <a:path w="28269" h="21600">
                <a:moveTo>
                  <a:pt x="0" y="0"/>
                </a:moveTo>
                <a:lnTo>
                  <a:pt x="28269" y="0"/>
                </a:lnTo>
                <a:lnTo>
                  <a:pt x="28269" y="21600"/>
                </a:lnTo>
                <a:lnTo>
                  <a:pt x="0" y="21600"/>
                </a:lnTo>
                <a:close/>
              </a:path>
              <a:path fill="lightenLess" w="28269" h="21600">
                <a:moveTo>
                  <a:pt x="0" y="0"/>
                </a:moveTo>
                <a:lnTo>
                  <a:pt x="28269" y="0"/>
                </a:lnTo>
                <a:lnTo>
                  <a:pt x="26869" y="1400"/>
                </a:lnTo>
                <a:lnTo>
                  <a:pt x="1400" y="1400"/>
                </a:lnTo>
                <a:close/>
              </a:path>
              <a:path fill="darken" w="28269" h="21600">
                <a:moveTo>
                  <a:pt x="28269" y="0"/>
                </a:moveTo>
                <a:lnTo>
                  <a:pt x="28269" y="21600"/>
                </a:lnTo>
                <a:lnTo>
                  <a:pt x="26869" y="20200"/>
                </a:lnTo>
                <a:lnTo>
                  <a:pt x="26869" y="1400"/>
                </a:lnTo>
                <a:close/>
              </a:path>
              <a:path fill="darkenLess" w="28269" h="21600">
                <a:moveTo>
                  <a:pt x="282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69" y="20200"/>
                </a:lnTo>
                <a:close/>
              </a:path>
              <a:path fill="lighten" w="282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33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黑体"/>
                <a:ea typeface="Bookman Old Style"/>
              </a:rPr>
              <a:t>地球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82040" y="14040"/>
            <a:ext cx="370440" cy="282960"/>
          </a:xfrm>
          <a:custGeom>
            <a:avLst/>
            <a:gdLst>
              <a:gd name="textAreaLeft" fmla="*/ 18360 w 370440"/>
              <a:gd name="textAreaRight" fmla="*/ 352080 w 370440"/>
              <a:gd name="textAreaTop" fmla="*/ 18360 h 282960"/>
              <a:gd name="textAreaBottom" fmla="*/ 264600 h 282960"/>
            </a:gdLst>
            <a:ahLst/>
            <a:rect l="textAreaLeft" t="textAreaTop" r="textAreaRight" b="textAreaBottom"/>
            <a:pathLst>
              <a:path w="28269" h="21600">
                <a:moveTo>
                  <a:pt x="0" y="0"/>
                </a:moveTo>
                <a:lnTo>
                  <a:pt x="28269" y="0"/>
                </a:lnTo>
                <a:lnTo>
                  <a:pt x="28269" y="21600"/>
                </a:lnTo>
                <a:lnTo>
                  <a:pt x="0" y="21600"/>
                </a:lnTo>
                <a:close/>
              </a:path>
              <a:path fill="lightenLess" w="28269" h="21600">
                <a:moveTo>
                  <a:pt x="0" y="0"/>
                </a:moveTo>
                <a:lnTo>
                  <a:pt x="28269" y="0"/>
                </a:lnTo>
                <a:lnTo>
                  <a:pt x="26869" y="1400"/>
                </a:lnTo>
                <a:lnTo>
                  <a:pt x="1400" y="1400"/>
                </a:lnTo>
                <a:close/>
              </a:path>
              <a:path fill="darken" w="28269" h="21600">
                <a:moveTo>
                  <a:pt x="28269" y="0"/>
                </a:moveTo>
                <a:lnTo>
                  <a:pt x="28269" y="21600"/>
                </a:lnTo>
                <a:lnTo>
                  <a:pt x="26869" y="20200"/>
                </a:lnTo>
                <a:lnTo>
                  <a:pt x="26869" y="1400"/>
                </a:lnTo>
                <a:close/>
              </a:path>
              <a:path fill="darkenLess" w="28269" h="21600">
                <a:moveTo>
                  <a:pt x="282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69" y="20200"/>
                </a:lnTo>
                <a:close/>
              </a:path>
              <a:path fill="lighten" w="282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33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黑体"/>
                <a:ea typeface="Bookman Old Style"/>
              </a:rPr>
              <a:t>节日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48720" y="14040"/>
            <a:ext cx="370440" cy="282960"/>
          </a:xfrm>
          <a:custGeom>
            <a:avLst/>
            <a:gdLst>
              <a:gd name="textAreaLeft" fmla="*/ 18360 w 370440"/>
              <a:gd name="textAreaRight" fmla="*/ 352080 w 370440"/>
              <a:gd name="textAreaTop" fmla="*/ 18360 h 282960"/>
              <a:gd name="textAreaBottom" fmla="*/ 264600 h 282960"/>
            </a:gdLst>
            <a:ahLst/>
            <a:rect l="textAreaLeft" t="textAreaTop" r="textAreaRight" b="textAreaBottom"/>
            <a:pathLst>
              <a:path w="28269" h="21600">
                <a:moveTo>
                  <a:pt x="0" y="0"/>
                </a:moveTo>
                <a:lnTo>
                  <a:pt x="28269" y="0"/>
                </a:lnTo>
                <a:lnTo>
                  <a:pt x="28269" y="21600"/>
                </a:lnTo>
                <a:lnTo>
                  <a:pt x="0" y="21600"/>
                </a:lnTo>
                <a:close/>
              </a:path>
              <a:path fill="lightenLess" w="28269" h="21600">
                <a:moveTo>
                  <a:pt x="0" y="0"/>
                </a:moveTo>
                <a:lnTo>
                  <a:pt x="28269" y="0"/>
                </a:lnTo>
                <a:lnTo>
                  <a:pt x="26869" y="1400"/>
                </a:lnTo>
                <a:lnTo>
                  <a:pt x="1400" y="1400"/>
                </a:lnTo>
                <a:close/>
              </a:path>
              <a:path fill="darken" w="28269" h="21600">
                <a:moveTo>
                  <a:pt x="28269" y="0"/>
                </a:moveTo>
                <a:lnTo>
                  <a:pt x="28269" y="21600"/>
                </a:lnTo>
                <a:lnTo>
                  <a:pt x="26869" y="20200"/>
                </a:lnTo>
                <a:lnTo>
                  <a:pt x="26869" y="1400"/>
                </a:lnTo>
                <a:close/>
              </a:path>
              <a:path fill="darkenLess" w="28269" h="21600">
                <a:moveTo>
                  <a:pt x="282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69" y="20200"/>
                </a:lnTo>
                <a:close/>
              </a:path>
              <a:path fill="lighten" w="282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33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黑体"/>
                <a:ea typeface="Bookman Old Style"/>
              </a:rPr>
              <a:t>平闰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44000" y="14040"/>
            <a:ext cx="370440" cy="282960"/>
          </a:xfrm>
          <a:custGeom>
            <a:avLst/>
            <a:gdLst>
              <a:gd name="textAreaLeft" fmla="*/ 18360 w 370440"/>
              <a:gd name="textAreaRight" fmla="*/ 352080 w 370440"/>
              <a:gd name="textAreaTop" fmla="*/ 18360 h 282960"/>
              <a:gd name="textAreaBottom" fmla="*/ 264600 h 282960"/>
            </a:gdLst>
            <a:ahLst/>
            <a:rect l="textAreaLeft" t="textAreaTop" r="textAreaRight" b="textAreaBottom"/>
            <a:pathLst>
              <a:path w="28269" h="21600">
                <a:moveTo>
                  <a:pt x="0" y="0"/>
                </a:moveTo>
                <a:lnTo>
                  <a:pt x="28269" y="0"/>
                </a:lnTo>
                <a:lnTo>
                  <a:pt x="28269" y="21600"/>
                </a:lnTo>
                <a:lnTo>
                  <a:pt x="0" y="21600"/>
                </a:lnTo>
                <a:close/>
              </a:path>
              <a:path fill="lightenLess" w="28269" h="21600">
                <a:moveTo>
                  <a:pt x="0" y="0"/>
                </a:moveTo>
                <a:lnTo>
                  <a:pt x="28269" y="0"/>
                </a:lnTo>
                <a:lnTo>
                  <a:pt x="26869" y="1400"/>
                </a:lnTo>
                <a:lnTo>
                  <a:pt x="1400" y="1400"/>
                </a:lnTo>
                <a:close/>
              </a:path>
              <a:path fill="darken" w="28269" h="21600">
                <a:moveTo>
                  <a:pt x="28269" y="0"/>
                </a:moveTo>
                <a:lnTo>
                  <a:pt x="28269" y="21600"/>
                </a:lnTo>
                <a:lnTo>
                  <a:pt x="26869" y="20200"/>
                </a:lnTo>
                <a:lnTo>
                  <a:pt x="26869" y="1400"/>
                </a:lnTo>
                <a:close/>
              </a:path>
              <a:path fill="darkenLess" w="28269" h="21600">
                <a:moveTo>
                  <a:pt x="282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69" y="20200"/>
                </a:lnTo>
                <a:close/>
              </a:path>
              <a:path fill="lighten" w="282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33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黑体"/>
                <a:ea typeface="Bookman Old Style"/>
              </a:rPr>
              <a:t>拳头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611040" y="14040"/>
            <a:ext cx="370440" cy="282960"/>
          </a:xfrm>
          <a:custGeom>
            <a:avLst/>
            <a:gdLst>
              <a:gd name="textAreaLeft" fmla="*/ 18360 w 370440"/>
              <a:gd name="textAreaRight" fmla="*/ 352080 w 370440"/>
              <a:gd name="textAreaTop" fmla="*/ 18360 h 282960"/>
              <a:gd name="textAreaBottom" fmla="*/ 264600 h 282960"/>
            </a:gdLst>
            <a:ahLst/>
            <a:rect l="textAreaLeft" t="textAreaTop" r="textAreaRight" b="textAreaBottom"/>
            <a:pathLst>
              <a:path w="28269" h="21600">
                <a:moveTo>
                  <a:pt x="0" y="0"/>
                </a:moveTo>
                <a:lnTo>
                  <a:pt x="28269" y="0"/>
                </a:lnTo>
                <a:lnTo>
                  <a:pt x="28269" y="21600"/>
                </a:lnTo>
                <a:lnTo>
                  <a:pt x="0" y="21600"/>
                </a:lnTo>
                <a:close/>
              </a:path>
              <a:path fill="lightenLess" w="28269" h="21600">
                <a:moveTo>
                  <a:pt x="0" y="0"/>
                </a:moveTo>
                <a:lnTo>
                  <a:pt x="28269" y="0"/>
                </a:lnTo>
                <a:lnTo>
                  <a:pt x="26869" y="1400"/>
                </a:lnTo>
                <a:lnTo>
                  <a:pt x="1400" y="1400"/>
                </a:lnTo>
                <a:close/>
              </a:path>
              <a:path fill="darken" w="28269" h="21600">
                <a:moveTo>
                  <a:pt x="28269" y="0"/>
                </a:moveTo>
                <a:lnTo>
                  <a:pt x="28269" y="21600"/>
                </a:lnTo>
                <a:lnTo>
                  <a:pt x="26869" y="20200"/>
                </a:lnTo>
                <a:lnTo>
                  <a:pt x="26869" y="1400"/>
                </a:lnTo>
                <a:close/>
              </a:path>
              <a:path fill="darkenLess" w="28269" h="21600">
                <a:moveTo>
                  <a:pt x="282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69" y="20200"/>
                </a:lnTo>
                <a:close/>
              </a:path>
              <a:path fill="lighten" w="282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33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黑体"/>
                <a:ea typeface="Bookman Old Style"/>
              </a:rPr>
              <a:t>歌决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54040" y="14040"/>
            <a:ext cx="370440" cy="282960"/>
          </a:xfrm>
          <a:custGeom>
            <a:avLst/>
            <a:gdLst>
              <a:gd name="textAreaLeft" fmla="*/ 18360 w 370440"/>
              <a:gd name="textAreaRight" fmla="*/ 352080 w 370440"/>
              <a:gd name="textAreaTop" fmla="*/ 18360 h 282960"/>
              <a:gd name="textAreaBottom" fmla="*/ 264600 h 282960"/>
            </a:gdLst>
            <a:ahLst/>
            <a:rect l="textAreaLeft" t="textAreaTop" r="textAreaRight" b="textAreaBottom"/>
            <a:pathLst>
              <a:path w="28269" h="21600">
                <a:moveTo>
                  <a:pt x="0" y="0"/>
                </a:moveTo>
                <a:lnTo>
                  <a:pt x="28269" y="0"/>
                </a:lnTo>
                <a:lnTo>
                  <a:pt x="28269" y="21600"/>
                </a:lnTo>
                <a:lnTo>
                  <a:pt x="0" y="21600"/>
                </a:lnTo>
                <a:close/>
              </a:path>
              <a:path fill="lightenLess" w="28269" h="21600">
                <a:moveTo>
                  <a:pt x="0" y="0"/>
                </a:moveTo>
                <a:lnTo>
                  <a:pt x="28269" y="0"/>
                </a:lnTo>
                <a:lnTo>
                  <a:pt x="26869" y="1400"/>
                </a:lnTo>
                <a:lnTo>
                  <a:pt x="1400" y="1400"/>
                </a:lnTo>
                <a:close/>
              </a:path>
              <a:path fill="darken" w="28269" h="21600">
                <a:moveTo>
                  <a:pt x="28269" y="0"/>
                </a:moveTo>
                <a:lnTo>
                  <a:pt x="28269" y="21600"/>
                </a:lnTo>
                <a:lnTo>
                  <a:pt x="26869" y="20200"/>
                </a:lnTo>
                <a:lnTo>
                  <a:pt x="26869" y="1400"/>
                </a:lnTo>
                <a:close/>
              </a:path>
              <a:path fill="darkenLess" w="28269" h="21600">
                <a:moveTo>
                  <a:pt x="282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69" y="20200"/>
                </a:lnTo>
                <a:close/>
              </a:path>
              <a:path fill="lighten" w="282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33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黑体"/>
                <a:ea typeface="Bookman Old Style"/>
              </a:rPr>
              <a:t>练习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0560" y="6594480"/>
            <a:ext cx="536760" cy="528120"/>
          </a:xfrm>
          <a:custGeom>
            <a:avLst/>
            <a:gdLst>
              <a:gd name="textAreaLeft" fmla="*/ 34200 w 536760"/>
              <a:gd name="textAreaRight" fmla="*/ 502560 w 53676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21953" h="21600">
                <a:moveTo>
                  <a:pt x="0" y="0"/>
                </a:moveTo>
                <a:lnTo>
                  <a:pt x="21953" y="0"/>
                </a:lnTo>
                <a:lnTo>
                  <a:pt x="21953" y="21600"/>
                </a:lnTo>
                <a:lnTo>
                  <a:pt x="0" y="21600"/>
                </a:lnTo>
                <a:close/>
              </a:path>
              <a:path fill="lightenLess" w="21953" h="21600">
                <a:moveTo>
                  <a:pt x="0" y="0"/>
                </a:moveTo>
                <a:lnTo>
                  <a:pt x="21953" y="0"/>
                </a:lnTo>
                <a:lnTo>
                  <a:pt x="20553" y="1400"/>
                </a:lnTo>
                <a:lnTo>
                  <a:pt x="1400" y="1400"/>
                </a:lnTo>
                <a:close/>
              </a:path>
              <a:path fill="darken" w="21953" h="21600">
                <a:moveTo>
                  <a:pt x="21953" y="0"/>
                </a:moveTo>
                <a:lnTo>
                  <a:pt x="21953" y="21600"/>
                </a:lnTo>
                <a:lnTo>
                  <a:pt x="20553" y="20200"/>
                </a:lnTo>
                <a:lnTo>
                  <a:pt x="20553" y="1400"/>
                </a:lnTo>
                <a:close/>
              </a:path>
              <a:path fill="darkenLess" w="21953" h="21600">
                <a:moveTo>
                  <a:pt x="21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53" y="20200"/>
                </a:lnTo>
                <a:close/>
              </a:path>
              <a:path fill="lighten" w="21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幼圆"/>
                <a:ea typeface="隶书"/>
              </a:rPr>
              <a:t>１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133840" y="6600960"/>
            <a:ext cx="416880" cy="511560"/>
          </a:xfrm>
          <a:custGeom>
            <a:avLst/>
            <a:gdLst>
              <a:gd name="textAreaLeft" fmla="*/ 27000 w 416880"/>
              <a:gd name="textAreaRight" fmla="*/ 389880 w 416880"/>
              <a:gd name="textAreaTop" fmla="*/ 27000 h 511560"/>
              <a:gd name="textAreaBottom" fmla="*/ 484560 h 511560"/>
            </a:gdLst>
            <a:ahLst/>
            <a:rect l="textAreaLeft" t="textAreaTop" r="textAreaRight" b="textAreaBottom"/>
            <a:pathLst>
              <a:path w="21600" h="26501">
                <a:moveTo>
                  <a:pt x="0" y="0"/>
                </a:moveTo>
                <a:lnTo>
                  <a:pt x="21600" y="0"/>
                </a:lnTo>
                <a:lnTo>
                  <a:pt x="21600" y="26501"/>
                </a:lnTo>
                <a:lnTo>
                  <a:pt x="0" y="26501"/>
                </a:lnTo>
                <a:close/>
              </a:path>
              <a:path fill="lightenLess" w="21600" h="265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01">
                <a:moveTo>
                  <a:pt x="21600" y="0"/>
                </a:moveTo>
                <a:lnTo>
                  <a:pt x="21600" y="26501"/>
                </a:lnTo>
                <a:lnTo>
                  <a:pt x="20200" y="25102"/>
                </a:lnTo>
                <a:lnTo>
                  <a:pt x="20200" y="1400"/>
                </a:lnTo>
                <a:close/>
              </a:path>
              <a:path fill="darkenLess" w="21600" h="26501">
                <a:moveTo>
                  <a:pt x="21600" y="26501"/>
                </a:moveTo>
                <a:lnTo>
                  <a:pt x="0" y="26501"/>
                </a:lnTo>
                <a:lnTo>
                  <a:pt x="1400" y="25102"/>
                </a:lnTo>
                <a:lnTo>
                  <a:pt x="20200" y="25102"/>
                </a:lnTo>
                <a:close/>
              </a:path>
              <a:path fill="lighten" w="21600" h="26501">
                <a:moveTo>
                  <a:pt x="0" y="26501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02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幼圆"/>
                <a:ea typeface="隶书"/>
              </a:rPr>
              <a:t>２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667360" y="6600960"/>
            <a:ext cx="416880" cy="511560"/>
          </a:xfrm>
          <a:custGeom>
            <a:avLst/>
            <a:gdLst>
              <a:gd name="textAreaLeft" fmla="*/ 27000 w 416880"/>
              <a:gd name="textAreaRight" fmla="*/ 389880 w 416880"/>
              <a:gd name="textAreaTop" fmla="*/ 27000 h 511560"/>
              <a:gd name="textAreaBottom" fmla="*/ 484560 h 511560"/>
            </a:gdLst>
            <a:ahLst/>
            <a:rect l="textAreaLeft" t="textAreaTop" r="textAreaRight" b="textAreaBottom"/>
            <a:pathLst>
              <a:path w="21600" h="26501">
                <a:moveTo>
                  <a:pt x="0" y="0"/>
                </a:moveTo>
                <a:lnTo>
                  <a:pt x="21600" y="0"/>
                </a:lnTo>
                <a:lnTo>
                  <a:pt x="21600" y="26501"/>
                </a:lnTo>
                <a:lnTo>
                  <a:pt x="0" y="26501"/>
                </a:lnTo>
                <a:close/>
              </a:path>
              <a:path fill="lightenLess" w="21600" h="265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01">
                <a:moveTo>
                  <a:pt x="21600" y="0"/>
                </a:moveTo>
                <a:lnTo>
                  <a:pt x="21600" y="26501"/>
                </a:lnTo>
                <a:lnTo>
                  <a:pt x="20200" y="25102"/>
                </a:lnTo>
                <a:lnTo>
                  <a:pt x="20200" y="1400"/>
                </a:lnTo>
                <a:close/>
              </a:path>
              <a:path fill="darkenLess" w="21600" h="26501">
                <a:moveTo>
                  <a:pt x="21600" y="26501"/>
                </a:moveTo>
                <a:lnTo>
                  <a:pt x="0" y="26501"/>
                </a:lnTo>
                <a:lnTo>
                  <a:pt x="1400" y="25102"/>
                </a:lnTo>
                <a:lnTo>
                  <a:pt x="20200" y="25102"/>
                </a:lnTo>
                <a:close/>
              </a:path>
              <a:path fill="lighten" w="21600" h="26501">
                <a:moveTo>
                  <a:pt x="0" y="26501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02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幼圆"/>
                <a:ea typeface="隶书"/>
              </a:rPr>
              <a:t>３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2T02:40:07Z</dcterms:created>
  <dc:creator/>
  <dc:description/>
  <dc:language>en-US</dc:language>
  <cp:lastModifiedBy>zhangzhiyong</cp:lastModifiedBy>
  <dcterms:modified xsi:type="dcterms:W3CDTF">2003-05-21T06:39:03Z</dcterms:modified>
  <cp:revision>82</cp:revision>
  <dc:subject/>
  <dc:title>PowerPoint 演示文稿</dc:title>
</cp:coreProperties>
</file>