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323-3705-4109-A599-546938BE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6DB-2ACA-4CA9-8A29-A78715A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653-84BE-47F1-8141-3A71508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775-C70D-46AC-B903-CAD13C8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952-B268-4EAA-9625-B81ECE6D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1B1-4791-4034-8D1E-08B87991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1CB-68AD-40BE-86F6-50E6017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B1B-4212-40F5-A2BC-3CC48C1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17A-908A-472C-9A13-02037D4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600-3B8D-4426-85D1-09F31BE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CA3-C17D-481A-B19A-E1A97C8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042-5B80-4235-A360-26F243A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1FA-B586-440D-973B-42B555CF6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024000" cy="180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907920"/>
            <a:ext cx="143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填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1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我们学过的时间单位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3280" y="1989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年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33840" y="1989000"/>
            <a:ext cx="6242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月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54560" y="1989000"/>
            <a:ext cx="6242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日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75640" y="1989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时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18320" y="1989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分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17080" y="1989000"/>
            <a:ext cx="4316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秒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2421000"/>
            <a:ext cx="914400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一年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的月份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                         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的月份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             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平年二月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，闰年二月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平年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，闰年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2492280"/>
            <a:ext cx="6242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49236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一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1164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三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3236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五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2436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七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1672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八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600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十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028000" y="3139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十二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92360" y="386064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四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720" y="386064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六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48360" y="386064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九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56360" y="386064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十一月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71640" y="458136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8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16720" y="4508640"/>
            <a:ext cx="6238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9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11280" y="515628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365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12000" y="5229360"/>
            <a:ext cx="93636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366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36360" y="6021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=(   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40000" y="61657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6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300720" y="6093000"/>
            <a:ext cx="6238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6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024000" cy="180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71640" y="907920"/>
            <a:ext cx="143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填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916280"/>
            <a:ext cx="79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中华人民共和国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成立的，到今年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周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3166920"/>
            <a:ext cx="874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到今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小王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他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出生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149720"/>
            <a:ext cx="87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小丁今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只过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生日，他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出生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379760" y="1989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949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03760" y="1989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093080" y="1989000"/>
            <a:ext cx="4316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24360" y="249228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6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0" y="3284640"/>
            <a:ext cx="6238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995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96360" y="4221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4653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9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5160"/>
            <a:ext cx="87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学校从今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开始放暑假，到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开学，暑假一共放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5640" y="587700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3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024000" cy="180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971640" y="907920"/>
            <a:ext cx="143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判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916280"/>
            <a:ext cx="79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6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天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3166920"/>
            <a:ext cx="874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小刚出生于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。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149720"/>
            <a:ext cx="87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九月份和五月份的天数一样多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375160"/>
            <a:ext cx="87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月就是一年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月。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87640" y="1916280"/>
            <a:ext cx="1007640" cy="718200"/>
            <a:chOff x="6587640" y="1916280"/>
            <a:chExt cx="1007640" cy="718200"/>
          </a:xfrm>
        </p:grpSpPr>
        <p:sp>
          <p:nvSpPr>
            <p:cNvPr id="91" name=""/>
            <p:cNvSpPr/>
            <p:nvPr/>
          </p:nvSpPr>
          <p:spPr>
            <a:xfrm>
              <a:off x="6588000" y="1916280"/>
              <a:ext cx="1007280" cy="718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587640" y="1916280"/>
              <a:ext cx="752760" cy="718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32720" y="3068640"/>
            <a:ext cx="1006920" cy="718560"/>
            <a:chOff x="6732720" y="3068640"/>
            <a:chExt cx="1006920" cy="718560"/>
          </a:xfrm>
        </p:grpSpPr>
        <p:sp>
          <p:nvSpPr>
            <p:cNvPr id="94" name=""/>
            <p:cNvSpPr/>
            <p:nvPr/>
          </p:nvSpPr>
          <p:spPr>
            <a:xfrm>
              <a:off x="6732720" y="3068640"/>
              <a:ext cx="100692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32720" y="3068640"/>
              <a:ext cx="75240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04000" y="4076640"/>
            <a:ext cx="1006920" cy="718560"/>
            <a:chOff x="6804000" y="4076640"/>
            <a:chExt cx="1006920" cy="718560"/>
          </a:xfrm>
        </p:grpSpPr>
        <p:sp>
          <p:nvSpPr>
            <p:cNvPr id="97" name=""/>
            <p:cNvSpPr/>
            <p:nvPr/>
          </p:nvSpPr>
          <p:spPr>
            <a:xfrm>
              <a:off x="6804000" y="4076640"/>
              <a:ext cx="100692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804000" y="4076640"/>
              <a:ext cx="75240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77080" y="5373720"/>
            <a:ext cx="1006920" cy="718560"/>
            <a:chOff x="6877080" y="5373720"/>
            <a:chExt cx="1006920" cy="718560"/>
          </a:xfrm>
        </p:grpSpPr>
        <p:sp>
          <p:nvSpPr>
            <p:cNvPr id="100" name=""/>
            <p:cNvSpPr/>
            <p:nvPr/>
          </p:nvSpPr>
          <p:spPr>
            <a:xfrm>
              <a:off x="6877080" y="5373720"/>
              <a:ext cx="100692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877080" y="5373720"/>
              <a:ext cx="752400" cy="71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40464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一个工厂七月份生产玩具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4030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件，平均每天生产多少件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109960"/>
            <a:ext cx="849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一个工厂每天生产玩具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件，十一月份一共生产多少件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933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一个工厂从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月到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月共生产玩具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9100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件，平均每天生产多少件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5:13:17Z</dcterms:created>
  <dc:creator>user</dc:creator>
  <dc:description/>
  <dc:language>en-US</dc:language>
  <cp:lastModifiedBy>yaj</cp:lastModifiedBy>
  <dcterms:modified xsi:type="dcterms:W3CDTF">2005-05-20T06:54:01Z</dcterms:modified>
  <cp:revision>3</cp:revision>
  <dc:subject/>
  <dc:title>幻灯片 1</dc:title>
</cp:coreProperties>
</file>