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E5A-D2C8-4E7B-AC1D-826976E7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98C-1FC4-47FA-A28F-5DE99CF5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AAF-87D3-498C-AB1C-B84521A9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FF6-8D97-4685-96B4-EC542AA7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A394-9ABC-4047-A3AF-FA4A4FD8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E43-F187-4BE7-8ED0-82084FA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AC8-716A-4F8F-807F-46C266C4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F6F-4FB3-4663-8C0F-57D50E16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20D-88C4-4A70-AEF1-1BC61B66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406A-DCFA-48DF-8CAA-902D451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3FCE-7092-4E52-BA9D-81F5610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668-9E75-49AB-8815-461C2A60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9A6-10C2-430F-BDB5-DCAADA2E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0316-7170-4C2E-8829-4436EC5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91C-1A2C-4B93-905D-48063406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B58-34DE-493A-97B9-155B5664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FC74-5A69-4FDB-97AB-E9336DFB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29-5800-4D75-966D-FD3712C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19E-5869-4849-9646-FF514C98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480-42BD-4C7B-B4D0-9E561C5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672-6E7D-40AB-A656-7701121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AAE-FE38-43EC-BEB7-9F7B861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632-BB18-4390-90CC-8B00197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AED-3B01-4C89-9C4F-4A0117D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EED-ABB4-4410-BF8D-10AF0AC282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8F48-8C82-43AD-A99F-5FBCD7ABF46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57800" y="685800"/>
            <a:ext cx="1219320" cy="114300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685800"/>
            <a:ext cx="1143000" cy="114300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1295280" cy="106668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762120"/>
            <a:ext cx="6496200" cy="5232240"/>
            <a:chOff x="1828800" y="762120"/>
            <a:chExt cx="6496200" cy="5232240"/>
          </a:xfrm>
        </p:grpSpPr>
        <p:sp>
          <p:nvSpPr>
            <p:cNvPr id="102" name=""/>
            <p:cNvSpPr/>
            <p:nvPr/>
          </p:nvSpPr>
          <p:spPr>
            <a:xfrm>
              <a:off x="3581280" y="762120"/>
              <a:ext cx="1295640" cy="1066680"/>
            </a:xfrm>
            <a:custGeom>
              <a:avLst/>
              <a:gdLst>
                <a:gd name="textAreaLeft" fmla="*/ 295560 w 1295640"/>
                <a:gd name="textAreaRight" fmla="*/ 1000080 w 1295640"/>
                <a:gd name="textAreaTop" fmla="*/ 243360 h 1066680"/>
                <a:gd name="textAreaBottom" fmla="*/ 8233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ahoma"/>
                </a:rPr>
                <a:t>诀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2286000"/>
              <a:ext cx="5638680" cy="35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一、三、五、七、八、十、腊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三十一天永不差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四、六、九、冬三十整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平年二月二十八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闰年再把一天加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981080" y="914400"/>
              <a:ext cx="6343920" cy="5079960"/>
              <a:chOff x="1981080" y="914400"/>
              <a:chExt cx="6343920" cy="5079960"/>
            </a:xfrm>
          </p:grpSpPr>
          <p:sp>
            <p:nvSpPr>
              <p:cNvPr id="105" name=""/>
              <p:cNvSpPr/>
              <p:nvPr/>
            </p:nvSpPr>
            <p:spPr>
              <a:xfrm>
                <a:off x="1981080" y="914400"/>
                <a:ext cx="6248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ahoma"/>
                  </a:rPr>
                  <a:t>歌                    记        忆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" name="SO01380_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4191120"/>
                <a:ext cx="1619280" cy="1803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7:42:52Z</dcterms:created>
  <dc:creator>zhenhaiying</dc:creator>
  <dc:description/>
  <dc:language>en-US</dc:language>
  <cp:lastModifiedBy>zhenhaiying</cp:lastModifiedBy>
  <dcterms:modified xsi:type="dcterms:W3CDTF">2003-03-26T08:01:57Z</dcterms:modified>
  <cp:revision>1</cp:revision>
  <dc:subject/>
  <dc:title>PowerPoint 演示文稿</dc:title>
</cp:coreProperties>
</file>