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83B-98E8-4B5E-8495-2A5A4361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38D-008D-48C7-952D-5E43204C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E7A-1DC2-499C-AEEE-EFEB8C1D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4EE-C99B-4EAA-B7C5-9BDAB2FE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95D-4F8A-4AA9-8F7A-DAA01C47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7E7-D1E6-42C2-A789-3E20508D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F2A-C8B3-4FAC-A3B6-F1108683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B48-FBAC-460C-93E1-9186F722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30D-ECB0-4800-A257-2744E74D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98E-084B-4523-8E97-615DB68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0B2-31C6-4B38-A2F7-7F4378FC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D4A-219F-4A31-86CF-7EA60D06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5B48-5EBF-4247-9081-C1F2EE2CB8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219320"/>
          <a:ext cx="876312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76312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533520"/>
          <a:ext cx="52578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52578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" y="3429000"/>
          <a:ext cx="396252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429000"/>
                    <a:ext cx="3962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419720" y="3429000"/>
          <a:ext cx="4419360" cy="20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429000"/>
                    <a:ext cx="441936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666880" y="4343400"/>
            <a:ext cx="38124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267080"/>
            <a:ext cx="380880" cy="990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419720"/>
            <a:ext cx="380880" cy="8380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495680"/>
            <a:ext cx="381240" cy="7621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38124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4572000"/>
            <a:ext cx="38088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4648320"/>
            <a:ext cx="380880" cy="533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4648320"/>
            <a:ext cx="381240" cy="533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0"/>
          <a:ext cx="59878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5987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209680" y="2743200"/>
            <a:ext cx="304920" cy="7621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2819520"/>
            <a:ext cx="30492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666880"/>
            <a:ext cx="304920" cy="838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2895480"/>
            <a:ext cx="304920" cy="609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2590920"/>
            <a:ext cx="30492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2971800"/>
            <a:ext cx="30492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2514600"/>
            <a:ext cx="304920" cy="990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2971800"/>
            <a:ext cx="30492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1523880"/>
            <a:ext cx="304560" cy="152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1752480"/>
            <a:ext cx="304560" cy="1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19320" y="2209680"/>
            <a:ext cx="4235400" cy="825480"/>
            <a:chOff x="2119320" y="2209680"/>
            <a:chExt cx="4235400" cy="825480"/>
          </a:xfrm>
        </p:grpSpPr>
        <p:grpSp>
          <p:nvGrpSpPr>
            <p:cNvPr id="70" name=""/>
            <p:cNvGrpSpPr/>
            <p:nvPr/>
          </p:nvGrpSpPr>
          <p:grpSpPr>
            <a:xfrm>
              <a:off x="2119320" y="2400480"/>
              <a:ext cx="806400" cy="482400"/>
              <a:chOff x="2119320" y="2400480"/>
              <a:chExt cx="806400" cy="482400"/>
            </a:xfrm>
          </p:grpSpPr>
          <p:sp>
            <p:nvSpPr>
              <p:cNvPr id="71" name=""/>
              <p:cNvSpPr/>
              <p:nvPr/>
            </p:nvSpPr>
            <p:spPr>
              <a:xfrm>
                <a:off x="2119320" y="24004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16400" y="25146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278160" y="2286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9400" y="2590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21160" y="2286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2400" y="2666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64160" y="2209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45400" y="2666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066680" y="0"/>
          <a:ext cx="581184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0"/>
                    <a:ext cx="581184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133720" y="2362320"/>
            <a:ext cx="228600" cy="609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2286000"/>
            <a:ext cx="22860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209680"/>
            <a:ext cx="228600" cy="7621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286000"/>
            <a:ext cx="22860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2590920"/>
            <a:ext cx="2286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2438280"/>
            <a:ext cx="22860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22860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514600"/>
            <a:ext cx="2286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981080"/>
            <a:ext cx="304920" cy="152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209680"/>
            <a:ext cx="304920" cy="1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9200" y="1905120"/>
            <a:ext cx="3533400" cy="825480"/>
            <a:chOff x="2059200" y="1905120"/>
            <a:chExt cx="3533400" cy="825480"/>
          </a:xfrm>
        </p:grpSpPr>
        <p:sp>
          <p:nvSpPr>
            <p:cNvPr id="92" name=""/>
            <p:cNvSpPr/>
            <p:nvPr/>
          </p:nvSpPr>
          <p:spPr>
            <a:xfrm>
              <a:off x="2973600" y="1905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059200" y="1981080"/>
              <a:ext cx="3533400" cy="749520"/>
              <a:chOff x="2059200" y="1981080"/>
              <a:chExt cx="3533400" cy="749520"/>
            </a:xfrm>
          </p:grpSpPr>
          <p:sp>
            <p:nvSpPr>
              <p:cNvPr id="94" name=""/>
              <p:cNvSpPr/>
              <p:nvPr/>
            </p:nvSpPr>
            <p:spPr>
              <a:xfrm>
                <a:off x="2059200" y="20574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87800" y="19810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02200" y="19810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48120" y="224784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92560" y="213372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952880" y="2362320"/>
                <a:ext cx="29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83280" y="22096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62120" y="0"/>
          <a:ext cx="61657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61657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752480" y="3124080"/>
            <a:ext cx="304920" cy="1447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3429000"/>
            <a:ext cx="30492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3048120"/>
            <a:ext cx="304920" cy="1523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191120"/>
            <a:ext cx="3049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886200"/>
            <a:ext cx="304920" cy="685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30492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352680"/>
            <a:ext cx="304920" cy="12193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429000"/>
            <a:ext cx="30456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962520"/>
            <a:ext cx="304920" cy="609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3200400"/>
            <a:ext cx="30456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77960" y="2743200"/>
            <a:ext cx="4449960" cy="1473120"/>
            <a:chOff x="1677960" y="2743200"/>
            <a:chExt cx="4449960" cy="1473120"/>
          </a:xfrm>
        </p:grpSpPr>
        <p:sp>
          <p:nvSpPr>
            <p:cNvPr id="114" name=""/>
            <p:cNvSpPr/>
            <p:nvPr/>
          </p:nvSpPr>
          <p:spPr>
            <a:xfrm>
              <a:off x="2957400" y="3848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677960" y="2743200"/>
              <a:ext cx="4449960" cy="1320840"/>
              <a:chOff x="1677960" y="2743200"/>
              <a:chExt cx="4449960" cy="132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1677960" y="281952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43000" y="308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92360" y="27432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66880" y="3467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71800" y="3695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81640" y="30099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62520" y="308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72000" y="3619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15000" y="2895480"/>
                <a:ext cx="41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838080" y="0"/>
          <a:ext cx="5591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5591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286000" y="2743200"/>
            <a:ext cx="304920" cy="990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200400"/>
            <a:ext cx="30456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3048120"/>
            <a:ext cx="304920" cy="685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2743200"/>
            <a:ext cx="30492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429000"/>
            <a:ext cx="30456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2209680"/>
            <a:ext cx="304920" cy="1524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195280" y="1828800"/>
            <a:ext cx="3343320" cy="1587600"/>
            <a:chOff x="2195280" y="1828800"/>
            <a:chExt cx="3343320" cy="1587600"/>
          </a:xfrm>
        </p:grpSpPr>
        <p:sp>
          <p:nvSpPr>
            <p:cNvPr id="134" name=""/>
            <p:cNvSpPr/>
            <p:nvPr/>
          </p:nvSpPr>
          <p:spPr>
            <a:xfrm>
              <a:off x="2195280" y="24004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6520" y="2857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440" y="26668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71800" y="24004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24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5520" y="18288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4800" y="18669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06-11-21T07:56:02Z</dcterms:modified>
  <cp:revision>8</cp:revision>
  <dc:subject/>
  <dc:title>PowerPoint Presentation</dc:title>
</cp:coreProperties>
</file>